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A4F-BC08-496B-AF59-0B4215F5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6BF-0633-4D7B-877F-68553B20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70B-D389-4312-A819-A6DF95D9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352-BF8D-4772-82E4-20C9D7F7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240-D5D0-4EDD-9DC0-328DD89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EE4-FA40-442B-AA8C-675CE568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FB9-8CE9-4FFA-B7A8-868A0DE7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74D-D706-4C8D-B609-F41C38C2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20D-AEA0-4B40-82B6-06F5B32E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96A-D957-401C-AFDA-B22310D2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194-DB49-445F-9760-FFC1F7FE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A6E-2472-4886-AA86-F887D658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B1AE-5598-4863-8FF8-7485E6BB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Государственная символика 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Российской Федер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учителя истории школы № 4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Осадчей Наталии Никола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Государственный флаг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96908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Это официальный символ государственной власти, который олицетворяет суверенитет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писание флага содержится в Конституции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Флаг вывешивается на зданиях верховных органов власти, посольств, на судах, плавающих в открытом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6308640"/>
            <a:ext cx="8783280" cy="381240"/>
            <a:chOff x="228600" y="6308640"/>
            <a:chExt cx="8783280" cy="381240"/>
          </a:xfrm>
        </p:grpSpPr>
        <p:sp>
          <p:nvSpPr>
            <p:cNvPr id="104" name=""/>
            <p:cNvSpPr/>
            <p:nvPr/>
          </p:nvSpPr>
          <p:spPr>
            <a:xfrm>
              <a:off x="3708360" y="630864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>
              <a:hlinkClick r:id="" action="ppaction://hlinkshowjump?jump=previousslide"/>
            </p:cNvPr>
            <p:cNvSpPr/>
            <p:nvPr/>
          </p:nvSpPr>
          <p:spPr>
            <a:xfrm>
              <a:off x="228600" y="6308640"/>
              <a:ext cx="814320" cy="320760"/>
            </a:xfrm>
            <a:custGeom>
              <a:avLst/>
              <a:gdLst>
                <a:gd name="textAreaLeft" fmla="*/ 20520 w 814320"/>
                <a:gd name="textAreaRight" fmla="*/ 793800 w 81432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54799" h="21600">
                  <a:moveTo>
                    <a:pt x="0" y="0"/>
                  </a:moveTo>
                  <a:lnTo>
                    <a:pt x="54799" y="0"/>
                  </a:lnTo>
                  <a:lnTo>
                    <a:pt x="54799" y="21600"/>
                  </a:lnTo>
                  <a:lnTo>
                    <a:pt x="0" y="21600"/>
                  </a:lnTo>
                  <a:close/>
                </a:path>
                <a:path fill="lightenLess" w="54799" h="21600">
                  <a:moveTo>
                    <a:pt x="0" y="0"/>
                  </a:moveTo>
                  <a:lnTo>
                    <a:pt x="54799" y="0"/>
                  </a:lnTo>
                  <a:lnTo>
                    <a:pt x="53399" y="1400"/>
                  </a:lnTo>
                  <a:lnTo>
                    <a:pt x="1400" y="1400"/>
                  </a:lnTo>
                  <a:close/>
                </a:path>
                <a:path fill="darken" w="54799" h="21600">
                  <a:moveTo>
                    <a:pt x="54799" y="0"/>
                  </a:moveTo>
                  <a:lnTo>
                    <a:pt x="54799" y="21600"/>
                  </a:lnTo>
                  <a:lnTo>
                    <a:pt x="53399" y="20200"/>
                  </a:lnTo>
                  <a:lnTo>
                    <a:pt x="53399" y="1400"/>
                  </a:lnTo>
                  <a:close/>
                </a:path>
                <a:path fill="darkenLess" w="54799" h="21600">
                  <a:moveTo>
                    <a:pt x="5479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399" y="20200"/>
                  </a:lnTo>
                  <a:close/>
                </a:path>
                <a:path fill="lighten" w="5479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4799" h="21600">
                  <a:moveTo>
                    <a:pt x="20393" y="10800"/>
                  </a:moveTo>
                  <a:lnTo>
                    <a:pt x="34406" y="3794"/>
                  </a:lnTo>
                  <a:lnTo>
                    <a:pt x="34406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>
              <a:hlinkClick r:id="" action="ppaction://hlinkshowjump?jump=nextslide"/>
            </p:cNvPr>
            <p:cNvSpPr/>
            <p:nvPr/>
          </p:nvSpPr>
          <p:spPr>
            <a:xfrm flipH="1">
              <a:off x="8316360" y="6381720"/>
              <a:ext cx="695160" cy="308160"/>
            </a:xfrm>
            <a:custGeom>
              <a:avLst/>
              <a:gdLst>
                <a:gd name="textAreaLeft" fmla="*/ 19800 w 695160"/>
                <a:gd name="textAreaRight" fmla="*/ 675360 w 695160"/>
                <a:gd name="textAreaTop" fmla="*/ 19800 h 308160"/>
                <a:gd name="textAreaBottom" fmla="*/ 288360 h 308160"/>
              </a:gdLst>
              <a:ahLst/>
              <a:rect l="textAreaLeft" t="textAreaTop" r="textAreaRight" b="textAreaBottom"/>
              <a:pathLst>
                <a:path w="48695" h="21600">
                  <a:moveTo>
                    <a:pt x="0" y="0"/>
                  </a:moveTo>
                  <a:lnTo>
                    <a:pt x="48695" y="0"/>
                  </a:lnTo>
                  <a:lnTo>
                    <a:pt x="48695" y="21600"/>
                  </a:lnTo>
                  <a:lnTo>
                    <a:pt x="0" y="21600"/>
                  </a:lnTo>
                  <a:close/>
                </a:path>
                <a:path fill="lightenLess" w="48695" h="21600">
                  <a:moveTo>
                    <a:pt x="0" y="0"/>
                  </a:moveTo>
                  <a:lnTo>
                    <a:pt x="48695" y="0"/>
                  </a:lnTo>
                  <a:lnTo>
                    <a:pt x="47295" y="1400"/>
                  </a:lnTo>
                  <a:lnTo>
                    <a:pt x="1400" y="1400"/>
                  </a:lnTo>
                  <a:close/>
                </a:path>
                <a:path fill="darken" w="48695" h="21600">
                  <a:moveTo>
                    <a:pt x="48695" y="0"/>
                  </a:moveTo>
                  <a:lnTo>
                    <a:pt x="48695" y="21600"/>
                  </a:lnTo>
                  <a:lnTo>
                    <a:pt x="47295" y="20200"/>
                  </a:lnTo>
                  <a:lnTo>
                    <a:pt x="47295" y="1400"/>
                  </a:lnTo>
                  <a:close/>
                </a:path>
                <a:path fill="darkenLess" w="48695" h="21600">
                  <a:moveTo>
                    <a:pt x="4869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295" y="20200"/>
                  </a:lnTo>
                  <a:close/>
                </a:path>
                <a:path fill="lighten" w="4869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695" h="21600">
                  <a:moveTo>
                    <a:pt x="17341" y="10800"/>
                  </a:moveTo>
                  <a:lnTo>
                    <a:pt x="31354" y="3794"/>
                  </a:lnTo>
                  <a:lnTo>
                    <a:pt x="31354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Государственный Флаг Российской Федерации"/>
          <p:cNvPicPr/>
          <p:nvPr/>
        </p:nvPicPr>
        <p:blipFill>
          <a:blip r:embed="rId2"/>
          <a:stretch/>
        </p:blipFill>
        <p:spPr>
          <a:xfrm>
            <a:off x="684360" y="1700280"/>
            <a:ext cx="3089160" cy="3456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8" name="" descr="Государственный Флаг Российской Федерации"/>
          <p:cNvPicPr/>
          <p:nvPr/>
        </p:nvPicPr>
        <p:blipFill>
          <a:blip r:embed="rId3"/>
          <a:stretch/>
        </p:blipFill>
        <p:spPr>
          <a:xfrm>
            <a:off x="7236000" y="26028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26160" y="547560"/>
            <a:ext cx="3993840" cy="5761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753080" y="11592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ервый русский военны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абль «Ор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2400" y="5097600"/>
            <a:ext cx="34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9800" y="11592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Император Петр Пер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6381720"/>
            <a:ext cx="8783280" cy="441360"/>
            <a:chOff x="228600" y="6381720"/>
            <a:chExt cx="8783280" cy="441360"/>
          </a:xfrm>
        </p:grpSpPr>
        <p:sp>
          <p:nvSpPr>
            <p:cNvPr id="114" name=""/>
            <p:cNvSpPr/>
            <p:nvPr/>
          </p:nvSpPr>
          <p:spPr>
            <a:xfrm>
              <a:off x="4140360" y="645480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>
              <a:hlinkClick r:id="" action="ppaction://hlinkshowjump?jump=previousslide"/>
            </p:cNvPr>
            <p:cNvSpPr/>
            <p:nvPr/>
          </p:nvSpPr>
          <p:spPr>
            <a:xfrm>
              <a:off x="228600" y="6381720"/>
              <a:ext cx="671400" cy="320760"/>
            </a:xfrm>
            <a:custGeom>
              <a:avLst/>
              <a:gdLst>
                <a:gd name="textAreaLeft" fmla="*/ 20520 w 671400"/>
                <a:gd name="textAreaRight" fmla="*/ 650880 w 67140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45186" h="21600">
                  <a:moveTo>
                    <a:pt x="0" y="0"/>
                  </a:moveTo>
                  <a:lnTo>
                    <a:pt x="45186" y="0"/>
                  </a:lnTo>
                  <a:lnTo>
                    <a:pt x="45186" y="21600"/>
                  </a:lnTo>
                  <a:lnTo>
                    <a:pt x="0" y="21600"/>
                  </a:lnTo>
                  <a:close/>
                </a:path>
                <a:path fill="lightenLess" w="45186" h="21600">
                  <a:moveTo>
                    <a:pt x="0" y="0"/>
                  </a:moveTo>
                  <a:lnTo>
                    <a:pt x="45186" y="0"/>
                  </a:lnTo>
                  <a:lnTo>
                    <a:pt x="43786" y="1400"/>
                  </a:lnTo>
                  <a:lnTo>
                    <a:pt x="1400" y="1400"/>
                  </a:lnTo>
                  <a:close/>
                </a:path>
                <a:path fill="darken" w="45186" h="21600">
                  <a:moveTo>
                    <a:pt x="45186" y="0"/>
                  </a:moveTo>
                  <a:lnTo>
                    <a:pt x="45186" y="21600"/>
                  </a:lnTo>
                  <a:lnTo>
                    <a:pt x="43786" y="20200"/>
                  </a:lnTo>
                  <a:lnTo>
                    <a:pt x="43786" y="1400"/>
                  </a:lnTo>
                  <a:close/>
                </a:path>
                <a:path fill="darkenLess" w="45186" h="21600">
                  <a:moveTo>
                    <a:pt x="4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786" y="20200"/>
                  </a:lnTo>
                  <a:close/>
                </a:path>
                <a:path fill="lighten" w="4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5186" h="21600">
                  <a:moveTo>
                    <a:pt x="15586" y="10800"/>
                  </a:moveTo>
                  <a:lnTo>
                    <a:pt x="29599" y="3794"/>
                  </a:lnTo>
                  <a:lnTo>
                    <a:pt x="29599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>
              <a:hlinkClick r:id="" action="ppaction://hlinkshowjump?jump=nextslide"/>
            </p:cNvPr>
            <p:cNvSpPr/>
            <p:nvPr/>
          </p:nvSpPr>
          <p:spPr>
            <a:xfrm flipH="1">
              <a:off x="8316360" y="6454800"/>
              <a:ext cx="695160" cy="308160"/>
            </a:xfrm>
            <a:custGeom>
              <a:avLst/>
              <a:gdLst>
                <a:gd name="textAreaLeft" fmla="*/ 19800 w 695160"/>
                <a:gd name="textAreaRight" fmla="*/ 675360 w 695160"/>
                <a:gd name="textAreaTop" fmla="*/ 19800 h 308160"/>
                <a:gd name="textAreaBottom" fmla="*/ 288360 h 308160"/>
              </a:gdLst>
              <a:ahLst/>
              <a:rect l="textAreaLeft" t="textAreaTop" r="textAreaRight" b="textAreaBottom"/>
              <a:pathLst>
                <a:path w="48695" h="21600">
                  <a:moveTo>
                    <a:pt x="0" y="0"/>
                  </a:moveTo>
                  <a:lnTo>
                    <a:pt x="48695" y="0"/>
                  </a:lnTo>
                  <a:lnTo>
                    <a:pt x="48695" y="21600"/>
                  </a:lnTo>
                  <a:lnTo>
                    <a:pt x="0" y="21600"/>
                  </a:lnTo>
                  <a:close/>
                </a:path>
                <a:path fill="lightenLess" w="48695" h="21600">
                  <a:moveTo>
                    <a:pt x="0" y="0"/>
                  </a:moveTo>
                  <a:lnTo>
                    <a:pt x="48695" y="0"/>
                  </a:lnTo>
                  <a:lnTo>
                    <a:pt x="47295" y="1400"/>
                  </a:lnTo>
                  <a:lnTo>
                    <a:pt x="1400" y="1400"/>
                  </a:lnTo>
                  <a:close/>
                </a:path>
                <a:path fill="darken" w="48695" h="21600">
                  <a:moveTo>
                    <a:pt x="48695" y="0"/>
                  </a:moveTo>
                  <a:lnTo>
                    <a:pt x="48695" y="21600"/>
                  </a:lnTo>
                  <a:lnTo>
                    <a:pt x="47295" y="20200"/>
                  </a:lnTo>
                  <a:lnTo>
                    <a:pt x="47295" y="1400"/>
                  </a:lnTo>
                  <a:close/>
                </a:path>
                <a:path fill="darkenLess" w="48695" h="21600">
                  <a:moveTo>
                    <a:pt x="4869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295" y="20200"/>
                  </a:lnTo>
                  <a:close/>
                </a:path>
                <a:path fill="lighten" w="4869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695" h="21600">
                  <a:moveTo>
                    <a:pt x="17341" y="10800"/>
                  </a:moveTo>
                  <a:lnTo>
                    <a:pt x="31354" y="3794"/>
                  </a:lnTo>
                  <a:lnTo>
                    <a:pt x="31354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петр первый великий"/>
          <p:cNvPicPr/>
          <p:nvPr/>
        </p:nvPicPr>
        <p:blipFill>
          <a:blip r:embed="rId3"/>
          <a:stretch/>
        </p:blipFill>
        <p:spPr>
          <a:xfrm>
            <a:off x="250920" y="547560"/>
            <a:ext cx="4405320" cy="5761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Государственный гимн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956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446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Гимн - это торжественная песня, которая прославляет стр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Мелодия гимна была написана композитором А.В. Александр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лова гимна написал поэт С.В.Михал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8600" y="6308640"/>
            <a:ext cx="8712000" cy="381240"/>
            <a:chOff x="228600" y="6308640"/>
            <a:chExt cx="8712000" cy="381240"/>
          </a:xfrm>
        </p:grpSpPr>
        <p:sp>
          <p:nvSpPr>
            <p:cNvPr id="121" name=""/>
            <p:cNvSpPr/>
            <p:nvPr/>
          </p:nvSpPr>
          <p:spPr>
            <a:xfrm>
              <a:off x="3851280" y="630864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228600" y="6308640"/>
              <a:ext cx="838080" cy="320760"/>
            </a:xfrm>
            <a:custGeom>
              <a:avLst/>
              <a:gdLst>
                <a:gd name="textAreaLeft" fmla="*/ 20520 w 838080"/>
                <a:gd name="textAreaRight" fmla="*/ 817560 w 83808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56397" h="21600">
                  <a:moveTo>
                    <a:pt x="0" y="0"/>
                  </a:moveTo>
                  <a:lnTo>
                    <a:pt x="56397" y="0"/>
                  </a:lnTo>
                  <a:lnTo>
                    <a:pt x="56397" y="21600"/>
                  </a:lnTo>
                  <a:lnTo>
                    <a:pt x="0" y="21600"/>
                  </a:lnTo>
                  <a:close/>
                </a:path>
                <a:path fill="lightenLess" w="56397" h="21600">
                  <a:moveTo>
                    <a:pt x="0" y="0"/>
                  </a:moveTo>
                  <a:lnTo>
                    <a:pt x="56397" y="0"/>
                  </a:lnTo>
                  <a:lnTo>
                    <a:pt x="54997" y="1400"/>
                  </a:lnTo>
                  <a:lnTo>
                    <a:pt x="1400" y="1400"/>
                  </a:lnTo>
                  <a:close/>
                </a:path>
                <a:path fill="darken" w="56397" h="21600">
                  <a:moveTo>
                    <a:pt x="56397" y="0"/>
                  </a:moveTo>
                  <a:lnTo>
                    <a:pt x="56397" y="21600"/>
                  </a:lnTo>
                  <a:lnTo>
                    <a:pt x="54997" y="20200"/>
                  </a:lnTo>
                  <a:lnTo>
                    <a:pt x="54997" y="1400"/>
                  </a:lnTo>
                  <a:close/>
                </a:path>
                <a:path fill="darkenLess" w="56397" h="21600">
                  <a:moveTo>
                    <a:pt x="563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4997" y="20200"/>
                  </a:lnTo>
                  <a:close/>
                </a:path>
                <a:path fill="lighten" w="563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6397" h="21600">
                  <a:moveTo>
                    <a:pt x="21192" y="10800"/>
                  </a:moveTo>
                  <a:lnTo>
                    <a:pt x="35205" y="3794"/>
                  </a:lnTo>
                  <a:lnTo>
                    <a:pt x="35205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>
              <a:hlinkClick r:id="" action="ppaction://hlinkshowjump?jump=nextslide"/>
            </p:cNvPr>
            <p:cNvSpPr/>
            <p:nvPr/>
          </p:nvSpPr>
          <p:spPr>
            <a:xfrm flipH="1">
              <a:off x="8171640" y="6381720"/>
              <a:ext cx="768600" cy="308160"/>
            </a:xfrm>
            <a:custGeom>
              <a:avLst/>
              <a:gdLst>
                <a:gd name="textAreaLeft" fmla="*/ 19800 w 768600"/>
                <a:gd name="textAreaRight" fmla="*/ 748800 w 768600"/>
                <a:gd name="textAreaTop" fmla="*/ 19800 h 308160"/>
                <a:gd name="textAreaBottom" fmla="*/ 288360 h 308160"/>
              </a:gdLst>
              <a:ahLst/>
              <a:rect l="textAreaLeft" t="textAreaTop" r="textAreaRight" b="textAreaBottom"/>
              <a:pathLst>
                <a:path w="53836" h="21600">
                  <a:moveTo>
                    <a:pt x="0" y="0"/>
                  </a:moveTo>
                  <a:lnTo>
                    <a:pt x="53836" y="0"/>
                  </a:lnTo>
                  <a:lnTo>
                    <a:pt x="53836" y="21600"/>
                  </a:lnTo>
                  <a:lnTo>
                    <a:pt x="0" y="21600"/>
                  </a:lnTo>
                  <a:close/>
                </a:path>
                <a:path fill="lightenLess" w="53836" h="21600">
                  <a:moveTo>
                    <a:pt x="0" y="0"/>
                  </a:moveTo>
                  <a:lnTo>
                    <a:pt x="53836" y="0"/>
                  </a:lnTo>
                  <a:lnTo>
                    <a:pt x="52436" y="1400"/>
                  </a:lnTo>
                  <a:lnTo>
                    <a:pt x="1400" y="1400"/>
                  </a:lnTo>
                  <a:close/>
                </a:path>
                <a:path fill="darken" w="53836" h="21600">
                  <a:moveTo>
                    <a:pt x="53836" y="0"/>
                  </a:moveTo>
                  <a:lnTo>
                    <a:pt x="53836" y="21600"/>
                  </a:lnTo>
                  <a:lnTo>
                    <a:pt x="52436" y="20200"/>
                  </a:lnTo>
                  <a:lnTo>
                    <a:pt x="52436" y="1400"/>
                  </a:lnTo>
                  <a:close/>
                </a:path>
                <a:path fill="darkenLess" w="53836" h="21600">
                  <a:moveTo>
                    <a:pt x="5383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6" y="20200"/>
                  </a:lnTo>
                  <a:close/>
                </a:path>
                <a:path fill="lighten" w="5383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6" h="21600">
                  <a:moveTo>
                    <a:pt x="19912" y="10800"/>
                  </a:moveTo>
                  <a:lnTo>
                    <a:pt x="33925" y="3794"/>
                  </a:lnTo>
                  <a:lnTo>
                    <a:pt x="33925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63640" y="476280"/>
            <a:ext cx="6575400" cy="62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Россия — священная наша держава, </a:t>
            </a: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Россия — любимая наша страна. </a:t>
            </a: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Могучая воля, великая слава — </a:t>
            </a: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Твоё достоянье на все времен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Припе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Славься, Отечество наше свободное, </a:t>
            </a: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Братских народов союз вековой, </a:t>
            </a: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Предками данная мудрость народная! </a:t>
            </a: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От южных морей до полярн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Раскинулись наши леса и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Одна ты на свете! Одна ты такая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Хранимая Богом родна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Припе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Широкий простор для мечты и для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Грядущие нам открывают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Нам силу даёт наша верность Отчиз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Так было, так есть и так будет всег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Прип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0920" y="6308640"/>
            <a:ext cx="8761320" cy="381240"/>
            <a:chOff x="250920" y="6308640"/>
            <a:chExt cx="8761320" cy="381240"/>
          </a:xfrm>
        </p:grpSpPr>
        <p:sp>
          <p:nvSpPr>
            <p:cNvPr id="126" name=""/>
            <p:cNvSpPr/>
            <p:nvPr/>
          </p:nvSpPr>
          <p:spPr>
            <a:xfrm>
              <a:off x="3924360" y="630864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250920" y="6308640"/>
              <a:ext cx="815760" cy="320760"/>
            </a:xfrm>
            <a:custGeom>
              <a:avLst/>
              <a:gdLst>
                <a:gd name="textAreaLeft" fmla="*/ 20520 w 815760"/>
                <a:gd name="textAreaRight" fmla="*/ 795240 w 81576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54896" h="21600">
                  <a:moveTo>
                    <a:pt x="0" y="0"/>
                  </a:moveTo>
                  <a:lnTo>
                    <a:pt x="54896" y="0"/>
                  </a:lnTo>
                  <a:lnTo>
                    <a:pt x="54896" y="21600"/>
                  </a:lnTo>
                  <a:lnTo>
                    <a:pt x="0" y="21600"/>
                  </a:lnTo>
                  <a:close/>
                </a:path>
                <a:path fill="lightenLess" w="54896" h="21600">
                  <a:moveTo>
                    <a:pt x="0" y="0"/>
                  </a:moveTo>
                  <a:lnTo>
                    <a:pt x="54896" y="0"/>
                  </a:lnTo>
                  <a:lnTo>
                    <a:pt x="53496" y="1400"/>
                  </a:lnTo>
                  <a:lnTo>
                    <a:pt x="1400" y="1400"/>
                  </a:lnTo>
                  <a:close/>
                </a:path>
                <a:path fill="darken" w="54896" h="21600">
                  <a:moveTo>
                    <a:pt x="54896" y="0"/>
                  </a:moveTo>
                  <a:lnTo>
                    <a:pt x="54896" y="21600"/>
                  </a:lnTo>
                  <a:lnTo>
                    <a:pt x="53496" y="20200"/>
                  </a:lnTo>
                  <a:lnTo>
                    <a:pt x="53496" y="1400"/>
                  </a:lnTo>
                  <a:close/>
                </a:path>
                <a:path fill="darkenLess" w="54896" h="21600">
                  <a:moveTo>
                    <a:pt x="548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496" y="20200"/>
                  </a:lnTo>
                  <a:close/>
                </a:path>
                <a:path fill="lighten" w="548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4896" h="21600">
                  <a:moveTo>
                    <a:pt x="20442" y="10800"/>
                  </a:moveTo>
                  <a:lnTo>
                    <a:pt x="34454" y="3794"/>
                  </a:lnTo>
                  <a:lnTo>
                    <a:pt x="34454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>
              <a:hlinkClick r:id="" action="ppaction://hlinkshowjump?jump=nextslide"/>
            </p:cNvPr>
            <p:cNvSpPr/>
            <p:nvPr/>
          </p:nvSpPr>
          <p:spPr>
            <a:xfrm flipH="1">
              <a:off x="8244000" y="6381720"/>
              <a:ext cx="768240" cy="308160"/>
            </a:xfrm>
            <a:custGeom>
              <a:avLst/>
              <a:gdLst>
                <a:gd name="textAreaLeft" fmla="*/ 19800 w 768240"/>
                <a:gd name="textAreaRight" fmla="*/ 748440 w 768240"/>
                <a:gd name="textAreaTop" fmla="*/ 19800 h 308160"/>
                <a:gd name="textAreaBottom" fmla="*/ 288360 h 308160"/>
              </a:gdLst>
              <a:ahLst/>
              <a:rect l="textAreaLeft" t="textAreaTop" r="textAreaRight" b="textAreaBottom"/>
              <a:pathLst>
                <a:path w="53811" h="21600">
                  <a:moveTo>
                    <a:pt x="0" y="0"/>
                  </a:moveTo>
                  <a:lnTo>
                    <a:pt x="53811" y="0"/>
                  </a:lnTo>
                  <a:lnTo>
                    <a:pt x="53811" y="21600"/>
                  </a:lnTo>
                  <a:lnTo>
                    <a:pt x="0" y="21600"/>
                  </a:lnTo>
                  <a:close/>
                </a:path>
                <a:path fill="lightenLess" w="53811" h="21600">
                  <a:moveTo>
                    <a:pt x="0" y="0"/>
                  </a:moveTo>
                  <a:lnTo>
                    <a:pt x="53811" y="0"/>
                  </a:lnTo>
                  <a:lnTo>
                    <a:pt x="52411" y="1400"/>
                  </a:lnTo>
                  <a:lnTo>
                    <a:pt x="1400" y="1400"/>
                  </a:lnTo>
                  <a:close/>
                </a:path>
                <a:path fill="darken" w="53811" h="21600">
                  <a:moveTo>
                    <a:pt x="53811" y="0"/>
                  </a:moveTo>
                  <a:lnTo>
                    <a:pt x="53811" y="21600"/>
                  </a:lnTo>
                  <a:lnTo>
                    <a:pt x="52411" y="20200"/>
                  </a:lnTo>
                  <a:lnTo>
                    <a:pt x="52411" y="1400"/>
                  </a:lnTo>
                  <a:close/>
                </a:path>
                <a:path fill="darkenLess" w="53811" h="21600">
                  <a:moveTo>
                    <a:pt x="5381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11" y="20200"/>
                  </a:lnTo>
                  <a:close/>
                </a:path>
                <a:path fill="lighten" w="5381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11" h="21600">
                  <a:moveTo>
                    <a:pt x="19899" y="10800"/>
                  </a:moveTo>
                  <a:lnTo>
                    <a:pt x="33912" y="3794"/>
                  </a:lnTo>
                  <a:lnTo>
                    <a:pt x="33912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 2000 году были законодательно закреплены флаг и герб Российской Федерации, тем самым восстановлены некоторые традиции Российского государства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XIV-XIX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ве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Гимн (муз. Александрова А.В., слова Михалкова С.В.) объединяет всех людей нашей страны, всех, кто любит свою Родину и гордится 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6237360"/>
            <a:ext cx="5238720" cy="392040"/>
            <a:chOff x="228600" y="6237360"/>
            <a:chExt cx="5238720" cy="392040"/>
          </a:xfrm>
        </p:grpSpPr>
        <p:sp>
          <p:nvSpPr>
            <p:cNvPr id="132" name=""/>
            <p:cNvSpPr/>
            <p:nvPr/>
          </p:nvSpPr>
          <p:spPr>
            <a:xfrm>
              <a:off x="3851280" y="623736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>
              <a:hlinkClick r:id="" action="ppaction://hlinkshowjump?jump=previousslide"/>
            </p:cNvPr>
            <p:cNvSpPr/>
            <p:nvPr/>
          </p:nvSpPr>
          <p:spPr>
            <a:xfrm>
              <a:off x="228600" y="6308640"/>
              <a:ext cx="743040" cy="320760"/>
            </a:xfrm>
            <a:custGeom>
              <a:avLst/>
              <a:gdLst>
                <a:gd name="textAreaLeft" fmla="*/ 20520 w 743040"/>
                <a:gd name="textAreaRight" fmla="*/ 722520 w 74304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50004" h="21600">
                  <a:moveTo>
                    <a:pt x="0" y="0"/>
                  </a:moveTo>
                  <a:lnTo>
                    <a:pt x="50004" y="0"/>
                  </a:lnTo>
                  <a:lnTo>
                    <a:pt x="50004" y="21600"/>
                  </a:lnTo>
                  <a:lnTo>
                    <a:pt x="0" y="21600"/>
                  </a:lnTo>
                  <a:close/>
                </a:path>
                <a:path fill="lightenLess" w="50004" h="21600">
                  <a:moveTo>
                    <a:pt x="0" y="0"/>
                  </a:moveTo>
                  <a:lnTo>
                    <a:pt x="50004" y="0"/>
                  </a:lnTo>
                  <a:lnTo>
                    <a:pt x="48604" y="1400"/>
                  </a:lnTo>
                  <a:lnTo>
                    <a:pt x="1400" y="1400"/>
                  </a:lnTo>
                  <a:close/>
                </a:path>
                <a:path fill="darken" w="50004" h="21600">
                  <a:moveTo>
                    <a:pt x="50004" y="0"/>
                  </a:moveTo>
                  <a:lnTo>
                    <a:pt x="50004" y="21600"/>
                  </a:lnTo>
                  <a:lnTo>
                    <a:pt x="48604" y="20200"/>
                  </a:lnTo>
                  <a:lnTo>
                    <a:pt x="48604" y="1400"/>
                  </a:lnTo>
                  <a:close/>
                </a:path>
                <a:path fill="darkenLess" w="50004" h="21600">
                  <a:moveTo>
                    <a:pt x="500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604" y="20200"/>
                  </a:lnTo>
                  <a:close/>
                </a:path>
                <a:path fill="lighten" w="500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004" h="21600">
                  <a:moveTo>
                    <a:pt x="17996" y="10800"/>
                  </a:moveTo>
                  <a:lnTo>
                    <a:pt x="32009" y="3794"/>
                  </a:lnTo>
                  <a:lnTo>
                    <a:pt x="32009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640" y="2060640"/>
            <a:ext cx="51940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Государственный гер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осударственный ф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Государственный ги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6381720"/>
            <a:ext cx="8713440" cy="309600"/>
            <a:chOff x="250920" y="6381720"/>
            <a:chExt cx="8713440" cy="3096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>
              <a:off x="250920" y="6381720"/>
              <a:ext cx="720720" cy="308160"/>
            </a:xfrm>
            <a:custGeom>
              <a:avLst/>
              <a:gdLst>
                <a:gd name="textAreaLeft" fmla="*/ 19800 w 720720"/>
                <a:gd name="textAreaRight" fmla="*/ 700920 w 720720"/>
                <a:gd name="textAreaTop" fmla="*/ 19800 h 308160"/>
                <a:gd name="textAreaBottom" fmla="*/ 288360 h 308160"/>
              </a:gdLst>
              <a:ahLst/>
              <a:rect l="textAreaLeft" t="textAreaTop" r="textAreaRight" b="textAreaBottom"/>
              <a:pathLst>
                <a:path w="50484" h="21600">
                  <a:moveTo>
                    <a:pt x="0" y="0"/>
                  </a:moveTo>
                  <a:lnTo>
                    <a:pt x="50484" y="0"/>
                  </a:lnTo>
                  <a:lnTo>
                    <a:pt x="50484" y="21600"/>
                  </a:lnTo>
                  <a:lnTo>
                    <a:pt x="0" y="21600"/>
                  </a:lnTo>
                  <a:close/>
                </a:path>
                <a:path fill="lightenLess" w="50484" h="21600">
                  <a:moveTo>
                    <a:pt x="0" y="0"/>
                  </a:moveTo>
                  <a:lnTo>
                    <a:pt x="50484" y="0"/>
                  </a:lnTo>
                  <a:lnTo>
                    <a:pt x="49084" y="1400"/>
                  </a:lnTo>
                  <a:lnTo>
                    <a:pt x="1400" y="1400"/>
                  </a:lnTo>
                  <a:close/>
                </a:path>
                <a:path fill="darken" w="50484" h="21600">
                  <a:moveTo>
                    <a:pt x="50484" y="0"/>
                  </a:moveTo>
                  <a:lnTo>
                    <a:pt x="50484" y="21600"/>
                  </a:lnTo>
                  <a:lnTo>
                    <a:pt x="49084" y="20200"/>
                  </a:lnTo>
                  <a:lnTo>
                    <a:pt x="49084" y="1400"/>
                  </a:lnTo>
                  <a:close/>
                </a:path>
                <a:path fill="darkenLess" w="50484" h="21600">
                  <a:moveTo>
                    <a:pt x="5048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9084" y="20200"/>
                  </a:lnTo>
                  <a:close/>
                </a:path>
                <a:path fill="lighten" w="5048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484" h="21600">
                  <a:moveTo>
                    <a:pt x="18236" y="10800"/>
                  </a:moveTo>
                  <a:lnTo>
                    <a:pt x="32248" y="3794"/>
                  </a:lnTo>
                  <a:lnTo>
                    <a:pt x="32248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flipH="1">
              <a:off x="8316360" y="6381720"/>
              <a:ext cx="647640" cy="309600"/>
            </a:xfrm>
            <a:custGeom>
              <a:avLst/>
              <a:gdLst>
                <a:gd name="textAreaLeft" fmla="*/ 19800 w 647640"/>
                <a:gd name="textAreaRight" fmla="*/ 627840 w 647640"/>
                <a:gd name="textAreaTop" fmla="*/ 19800 h 309600"/>
                <a:gd name="textAreaBottom" fmla="*/ 289800 h 309600"/>
              </a:gdLst>
              <a:ahLst/>
              <a:rect l="textAreaLeft" t="textAreaTop" r="textAreaRight" b="textAreaBottom"/>
              <a:pathLst>
                <a:path w="45157" h="21600">
                  <a:moveTo>
                    <a:pt x="0" y="0"/>
                  </a:moveTo>
                  <a:lnTo>
                    <a:pt x="45157" y="0"/>
                  </a:lnTo>
                  <a:lnTo>
                    <a:pt x="45157" y="21600"/>
                  </a:lnTo>
                  <a:lnTo>
                    <a:pt x="0" y="21600"/>
                  </a:lnTo>
                  <a:close/>
                </a:path>
                <a:path fill="lightenLess" w="45157" h="21600">
                  <a:moveTo>
                    <a:pt x="0" y="0"/>
                  </a:moveTo>
                  <a:lnTo>
                    <a:pt x="45157" y="0"/>
                  </a:lnTo>
                  <a:lnTo>
                    <a:pt x="43757" y="1400"/>
                  </a:lnTo>
                  <a:lnTo>
                    <a:pt x="1400" y="1400"/>
                  </a:lnTo>
                  <a:close/>
                </a:path>
                <a:path fill="darken" w="45157" h="21600">
                  <a:moveTo>
                    <a:pt x="45157" y="0"/>
                  </a:moveTo>
                  <a:lnTo>
                    <a:pt x="45157" y="21600"/>
                  </a:lnTo>
                  <a:lnTo>
                    <a:pt x="43757" y="20200"/>
                  </a:lnTo>
                  <a:lnTo>
                    <a:pt x="43757" y="1400"/>
                  </a:lnTo>
                  <a:close/>
                </a:path>
                <a:path fill="darkenLess" w="45157" h="21600">
                  <a:moveTo>
                    <a:pt x="451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757" y="20200"/>
                  </a:lnTo>
                  <a:close/>
                </a:path>
                <a:path fill="lighten" w="451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5157" h="21600">
                  <a:moveTo>
                    <a:pt x="15572" y="10800"/>
                  </a:moveTo>
                  <a:lnTo>
                    <a:pt x="29585" y="3794"/>
                  </a:lnTo>
                  <a:lnTo>
                    <a:pt x="29585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57200" y="1600200"/>
            <a:ext cx="4038480" cy="5032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Государственный герб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1722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08440" y="2322360"/>
            <a:ext cx="397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Это официальная отличительная эмблема государства, изображаемая на бланках и печатях государственных органов, денежных зна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8000" y="6453360"/>
            <a:ext cx="8904240" cy="406080"/>
            <a:chOff x="108000" y="6453360"/>
            <a:chExt cx="8904240" cy="406080"/>
          </a:xfrm>
        </p:grpSpPr>
        <p:sp>
          <p:nvSpPr>
            <p:cNvPr id="53" name=""/>
            <p:cNvSpPr/>
            <p:nvPr/>
          </p:nvSpPr>
          <p:spPr>
            <a:xfrm>
              <a:off x="4211640" y="649116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>
              <a:hlinkClick r:id="" action="ppaction://hlinkshowjump?jump=previousslide"/>
            </p:cNvPr>
            <p:cNvSpPr/>
            <p:nvPr/>
          </p:nvSpPr>
          <p:spPr>
            <a:xfrm>
              <a:off x="108000" y="6453360"/>
              <a:ext cx="718920" cy="309240"/>
            </a:xfrm>
            <a:custGeom>
              <a:avLst/>
              <a:gdLst>
                <a:gd name="textAreaLeft" fmla="*/ 19800 w 718920"/>
                <a:gd name="textAreaRight" fmla="*/ 699120 w 718920"/>
                <a:gd name="textAreaTop" fmla="*/ 19800 h 309240"/>
                <a:gd name="textAreaBottom" fmla="*/ 289440 h 309240"/>
              </a:gdLst>
              <a:ahLst/>
              <a:rect l="textAreaLeft" t="textAreaTop" r="textAreaRight" b="textAreaBottom"/>
              <a:pathLst>
                <a:path w="50182" h="21600">
                  <a:moveTo>
                    <a:pt x="0" y="0"/>
                  </a:moveTo>
                  <a:lnTo>
                    <a:pt x="50182" y="0"/>
                  </a:lnTo>
                  <a:lnTo>
                    <a:pt x="50182" y="21600"/>
                  </a:lnTo>
                  <a:lnTo>
                    <a:pt x="0" y="21600"/>
                  </a:lnTo>
                  <a:close/>
                </a:path>
                <a:path fill="lightenLess" w="50182" h="21600">
                  <a:moveTo>
                    <a:pt x="0" y="0"/>
                  </a:moveTo>
                  <a:lnTo>
                    <a:pt x="50182" y="0"/>
                  </a:lnTo>
                  <a:lnTo>
                    <a:pt x="48782" y="1400"/>
                  </a:lnTo>
                  <a:lnTo>
                    <a:pt x="1400" y="1400"/>
                  </a:lnTo>
                  <a:close/>
                </a:path>
                <a:path fill="darken" w="50182" h="21600">
                  <a:moveTo>
                    <a:pt x="50182" y="0"/>
                  </a:moveTo>
                  <a:lnTo>
                    <a:pt x="50182" y="21600"/>
                  </a:lnTo>
                  <a:lnTo>
                    <a:pt x="48782" y="20200"/>
                  </a:lnTo>
                  <a:lnTo>
                    <a:pt x="48782" y="1400"/>
                  </a:lnTo>
                  <a:close/>
                </a:path>
                <a:path fill="darkenLess" w="50182" h="21600">
                  <a:moveTo>
                    <a:pt x="501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782" y="20200"/>
                  </a:lnTo>
                  <a:close/>
                </a:path>
                <a:path fill="lighten" w="501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182" h="21600">
                  <a:moveTo>
                    <a:pt x="18085" y="10800"/>
                  </a:moveTo>
                  <a:lnTo>
                    <a:pt x="32098" y="3794"/>
                  </a:lnTo>
                  <a:lnTo>
                    <a:pt x="32098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>
              <a:hlinkClick r:id="" action="ppaction://hlinkshowjump?jump=nextslide"/>
            </p:cNvPr>
            <p:cNvSpPr/>
            <p:nvPr/>
          </p:nvSpPr>
          <p:spPr>
            <a:xfrm flipH="1">
              <a:off x="8244000" y="6453360"/>
              <a:ext cx="768240" cy="288720"/>
            </a:xfrm>
            <a:custGeom>
              <a:avLst/>
              <a:gdLst>
                <a:gd name="textAreaLeft" fmla="*/ 18720 w 768240"/>
                <a:gd name="textAreaRight" fmla="*/ 749520 w 768240"/>
                <a:gd name="textAreaTop" fmla="*/ 18720 h 288720"/>
                <a:gd name="textAreaBottom" fmla="*/ 270000 h 288720"/>
              </a:gdLst>
              <a:ahLst/>
              <a:rect l="textAreaLeft" t="textAreaTop" r="textAreaRight" b="textAreaBottom"/>
              <a:pathLst>
                <a:path w="57430" h="21600">
                  <a:moveTo>
                    <a:pt x="0" y="0"/>
                  </a:moveTo>
                  <a:lnTo>
                    <a:pt x="57430" y="0"/>
                  </a:lnTo>
                  <a:lnTo>
                    <a:pt x="57430" y="21600"/>
                  </a:lnTo>
                  <a:lnTo>
                    <a:pt x="0" y="21600"/>
                  </a:lnTo>
                  <a:close/>
                </a:path>
                <a:path fill="lightenLess" w="57430" h="21600">
                  <a:moveTo>
                    <a:pt x="0" y="0"/>
                  </a:moveTo>
                  <a:lnTo>
                    <a:pt x="57430" y="0"/>
                  </a:lnTo>
                  <a:lnTo>
                    <a:pt x="56030" y="1400"/>
                  </a:lnTo>
                  <a:lnTo>
                    <a:pt x="1400" y="1400"/>
                  </a:lnTo>
                  <a:close/>
                </a:path>
                <a:path fill="darken" w="57430" h="21600">
                  <a:moveTo>
                    <a:pt x="57430" y="0"/>
                  </a:moveTo>
                  <a:lnTo>
                    <a:pt x="57430" y="21600"/>
                  </a:lnTo>
                  <a:lnTo>
                    <a:pt x="56030" y="20200"/>
                  </a:lnTo>
                  <a:lnTo>
                    <a:pt x="56030" y="1400"/>
                  </a:lnTo>
                  <a:close/>
                </a:path>
                <a:path fill="darkenLess" w="57430" h="21600">
                  <a:moveTo>
                    <a:pt x="574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030" y="20200"/>
                  </a:lnTo>
                  <a:close/>
                </a:path>
                <a:path fill="lighten" w="574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430" h="21600">
                  <a:moveTo>
                    <a:pt x="21708" y="10800"/>
                  </a:moveTo>
                  <a:lnTo>
                    <a:pt x="35721" y="3794"/>
                  </a:lnTo>
                  <a:lnTo>
                    <a:pt x="35721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Геральдический смысл гер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вуглавый орел - символ вечност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ве головы орла символизируют единство страны, территория которой простирается с запада на во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садник на щите является символом столицы Москвы и олицетворяет победу добра над з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садник на коне - это защитник России, символ ее героического воинского прош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6308640"/>
            <a:ext cx="8783640" cy="433440"/>
            <a:chOff x="228600" y="6308640"/>
            <a:chExt cx="8783640" cy="433440"/>
          </a:xfrm>
        </p:grpSpPr>
        <p:sp>
          <p:nvSpPr>
            <p:cNvPr id="59" name=""/>
            <p:cNvSpPr/>
            <p:nvPr/>
          </p:nvSpPr>
          <p:spPr>
            <a:xfrm>
              <a:off x="3564000" y="630864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>
              <a:hlinkClick r:id="" action="ppaction://hlinkshowjump?jump=previousslide"/>
            </p:cNvPr>
            <p:cNvSpPr/>
            <p:nvPr/>
          </p:nvSpPr>
          <p:spPr>
            <a:xfrm>
              <a:off x="228600" y="6308640"/>
              <a:ext cx="743040" cy="320760"/>
            </a:xfrm>
            <a:custGeom>
              <a:avLst/>
              <a:gdLst>
                <a:gd name="textAreaLeft" fmla="*/ 20520 w 743040"/>
                <a:gd name="textAreaRight" fmla="*/ 722520 w 74304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50004" h="21600">
                  <a:moveTo>
                    <a:pt x="0" y="0"/>
                  </a:moveTo>
                  <a:lnTo>
                    <a:pt x="50004" y="0"/>
                  </a:lnTo>
                  <a:lnTo>
                    <a:pt x="50004" y="21600"/>
                  </a:lnTo>
                  <a:lnTo>
                    <a:pt x="0" y="21600"/>
                  </a:lnTo>
                  <a:close/>
                </a:path>
                <a:path fill="lightenLess" w="50004" h="21600">
                  <a:moveTo>
                    <a:pt x="0" y="0"/>
                  </a:moveTo>
                  <a:lnTo>
                    <a:pt x="50004" y="0"/>
                  </a:lnTo>
                  <a:lnTo>
                    <a:pt x="48604" y="1400"/>
                  </a:lnTo>
                  <a:lnTo>
                    <a:pt x="1400" y="1400"/>
                  </a:lnTo>
                  <a:close/>
                </a:path>
                <a:path fill="darken" w="50004" h="21600">
                  <a:moveTo>
                    <a:pt x="50004" y="0"/>
                  </a:moveTo>
                  <a:lnTo>
                    <a:pt x="50004" y="21600"/>
                  </a:lnTo>
                  <a:lnTo>
                    <a:pt x="48604" y="20200"/>
                  </a:lnTo>
                  <a:lnTo>
                    <a:pt x="48604" y="1400"/>
                  </a:lnTo>
                  <a:close/>
                </a:path>
                <a:path fill="darkenLess" w="50004" h="21600">
                  <a:moveTo>
                    <a:pt x="500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604" y="20200"/>
                  </a:lnTo>
                  <a:close/>
                </a:path>
                <a:path fill="lighten" w="500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004" h="21600">
                  <a:moveTo>
                    <a:pt x="17996" y="10800"/>
                  </a:moveTo>
                  <a:lnTo>
                    <a:pt x="32009" y="3794"/>
                  </a:lnTo>
                  <a:lnTo>
                    <a:pt x="32009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>
              <a:hlinkClick r:id="" action="ppaction://hlinkshowjump?jump=nextslide"/>
            </p:cNvPr>
            <p:cNvSpPr/>
            <p:nvPr/>
          </p:nvSpPr>
          <p:spPr>
            <a:xfrm flipH="1">
              <a:off x="8244000" y="6453360"/>
              <a:ext cx="768240" cy="288720"/>
            </a:xfrm>
            <a:custGeom>
              <a:avLst/>
              <a:gdLst>
                <a:gd name="textAreaLeft" fmla="*/ 18720 w 768240"/>
                <a:gd name="textAreaRight" fmla="*/ 749520 w 768240"/>
                <a:gd name="textAreaTop" fmla="*/ 18720 h 288720"/>
                <a:gd name="textAreaBottom" fmla="*/ 270000 h 288720"/>
              </a:gdLst>
              <a:ahLst/>
              <a:rect l="textAreaLeft" t="textAreaTop" r="textAreaRight" b="textAreaBottom"/>
              <a:pathLst>
                <a:path w="57430" h="21600">
                  <a:moveTo>
                    <a:pt x="0" y="0"/>
                  </a:moveTo>
                  <a:lnTo>
                    <a:pt x="57430" y="0"/>
                  </a:lnTo>
                  <a:lnTo>
                    <a:pt x="57430" y="21600"/>
                  </a:lnTo>
                  <a:lnTo>
                    <a:pt x="0" y="21600"/>
                  </a:lnTo>
                  <a:close/>
                </a:path>
                <a:path fill="lightenLess" w="57430" h="21600">
                  <a:moveTo>
                    <a:pt x="0" y="0"/>
                  </a:moveTo>
                  <a:lnTo>
                    <a:pt x="57430" y="0"/>
                  </a:lnTo>
                  <a:lnTo>
                    <a:pt x="56030" y="1400"/>
                  </a:lnTo>
                  <a:lnTo>
                    <a:pt x="1400" y="1400"/>
                  </a:lnTo>
                  <a:close/>
                </a:path>
                <a:path fill="darken" w="57430" h="21600">
                  <a:moveTo>
                    <a:pt x="57430" y="0"/>
                  </a:moveTo>
                  <a:lnTo>
                    <a:pt x="57430" y="21600"/>
                  </a:lnTo>
                  <a:lnTo>
                    <a:pt x="56030" y="20200"/>
                  </a:lnTo>
                  <a:lnTo>
                    <a:pt x="56030" y="1400"/>
                  </a:lnTo>
                  <a:close/>
                </a:path>
                <a:path fill="darkenLess" w="57430" h="21600">
                  <a:moveTo>
                    <a:pt x="574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030" y="20200"/>
                  </a:lnTo>
                  <a:close/>
                </a:path>
                <a:path fill="lighten" w="574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430" h="21600">
                  <a:moveTo>
                    <a:pt x="21708" y="10800"/>
                  </a:moveTo>
                  <a:lnTo>
                    <a:pt x="35721" y="3794"/>
                  </a:lnTo>
                  <a:lnTo>
                    <a:pt x="35721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4010040" cy="5305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36440" y="5526000"/>
            <a:ext cx="900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51664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феврале 1238 года монголо-татары под предводительством хана Батыя разрушили более десяти русских г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79280" y="6308640"/>
            <a:ext cx="8832960" cy="441360"/>
            <a:chOff x="179280" y="6308640"/>
            <a:chExt cx="8832960" cy="441360"/>
          </a:xfrm>
        </p:grpSpPr>
        <p:sp>
          <p:nvSpPr>
            <p:cNvPr id="66" name=""/>
            <p:cNvSpPr/>
            <p:nvPr/>
          </p:nvSpPr>
          <p:spPr>
            <a:xfrm>
              <a:off x="3924360" y="638172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>
              <a:hlinkClick r:id="" action="ppaction://hlinkshowjump?jump=previousslide"/>
            </p:cNvPr>
            <p:cNvSpPr/>
            <p:nvPr/>
          </p:nvSpPr>
          <p:spPr>
            <a:xfrm>
              <a:off x="179280" y="6308640"/>
              <a:ext cx="720720" cy="331920"/>
            </a:xfrm>
            <a:custGeom>
              <a:avLst/>
              <a:gdLst>
                <a:gd name="textAreaLeft" fmla="*/ 21240 w 720720"/>
                <a:gd name="textAreaRight" fmla="*/ 699480 w 720720"/>
                <a:gd name="textAreaTop" fmla="*/ 21240 h 331920"/>
                <a:gd name="textAreaBottom" fmla="*/ 310680 h 331920"/>
              </a:gdLst>
              <a:ahLst/>
              <a:rect l="textAreaLeft" t="textAreaTop" r="textAreaRight" b="textAreaBottom"/>
              <a:pathLst>
                <a:path w="46874" h="21600">
                  <a:moveTo>
                    <a:pt x="0" y="0"/>
                  </a:moveTo>
                  <a:lnTo>
                    <a:pt x="46874" y="0"/>
                  </a:lnTo>
                  <a:lnTo>
                    <a:pt x="46874" y="21600"/>
                  </a:lnTo>
                  <a:lnTo>
                    <a:pt x="0" y="21600"/>
                  </a:lnTo>
                  <a:close/>
                </a:path>
                <a:path fill="lightenLess" w="46874" h="21600">
                  <a:moveTo>
                    <a:pt x="0" y="0"/>
                  </a:moveTo>
                  <a:lnTo>
                    <a:pt x="46874" y="0"/>
                  </a:lnTo>
                  <a:lnTo>
                    <a:pt x="45474" y="1400"/>
                  </a:lnTo>
                  <a:lnTo>
                    <a:pt x="1400" y="1400"/>
                  </a:lnTo>
                  <a:close/>
                </a:path>
                <a:path fill="darken" w="46874" h="21600">
                  <a:moveTo>
                    <a:pt x="46874" y="0"/>
                  </a:moveTo>
                  <a:lnTo>
                    <a:pt x="46874" y="21600"/>
                  </a:lnTo>
                  <a:lnTo>
                    <a:pt x="45474" y="20200"/>
                  </a:lnTo>
                  <a:lnTo>
                    <a:pt x="45474" y="1400"/>
                  </a:lnTo>
                  <a:close/>
                </a:path>
                <a:path fill="darkenLess" w="46874" h="21600">
                  <a:moveTo>
                    <a:pt x="4687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474" y="20200"/>
                  </a:lnTo>
                  <a:close/>
                </a:path>
                <a:path fill="lighten" w="4687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874" h="21600">
                  <a:moveTo>
                    <a:pt x="16431" y="10800"/>
                  </a:moveTo>
                  <a:lnTo>
                    <a:pt x="30444" y="3794"/>
                  </a:lnTo>
                  <a:lnTo>
                    <a:pt x="30444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>
              <a:hlinkClick r:id="" action="ppaction://hlinkshowjump?jump=nextslide"/>
            </p:cNvPr>
            <p:cNvSpPr/>
            <p:nvPr/>
          </p:nvSpPr>
          <p:spPr>
            <a:xfrm flipH="1">
              <a:off x="8244000" y="6381720"/>
              <a:ext cx="768240" cy="360360"/>
            </a:xfrm>
            <a:custGeom>
              <a:avLst/>
              <a:gdLst>
                <a:gd name="textAreaLeft" fmla="*/ 23040 w 768240"/>
                <a:gd name="textAreaRight" fmla="*/ 745200 w 7682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46024" h="21600">
                  <a:moveTo>
                    <a:pt x="0" y="0"/>
                  </a:moveTo>
                  <a:lnTo>
                    <a:pt x="46024" y="0"/>
                  </a:lnTo>
                  <a:lnTo>
                    <a:pt x="46024" y="21600"/>
                  </a:lnTo>
                  <a:lnTo>
                    <a:pt x="0" y="21600"/>
                  </a:lnTo>
                  <a:close/>
                </a:path>
                <a:path fill="lightenLess" w="46024" h="21600">
                  <a:moveTo>
                    <a:pt x="0" y="0"/>
                  </a:moveTo>
                  <a:lnTo>
                    <a:pt x="46024" y="0"/>
                  </a:lnTo>
                  <a:lnTo>
                    <a:pt x="44624" y="1400"/>
                  </a:lnTo>
                  <a:lnTo>
                    <a:pt x="1400" y="1400"/>
                  </a:lnTo>
                  <a:close/>
                </a:path>
                <a:path fill="darken" w="46024" h="21600">
                  <a:moveTo>
                    <a:pt x="46024" y="0"/>
                  </a:moveTo>
                  <a:lnTo>
                    <a:pt x="46024" y="21600"/>
                  </a:lnTo>
                  <a:lnTo>
                    <a:pt x="44624" y="20200"/>
                  </a:lnTo>
                  <a:lnTo>
                    <a:pt x="44624" y="1400"/>
                  </a:lnTo>
                  <a:close/>
                </a:path>
                <a:path fill="darkenLess" w="46024" h="21600">
                  <a:moveTo>
                    <a:pt x="460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24" y="20200"/>
                  </a:lnTo>
                  <a:close/>
                </a:path>
                <a:path fill="lighten" w="460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024" h="21600">
                  <a:moveTo>
                    <a:pt x="16005" y="10800"/>
                  </a:moveTo>
                  <a:lnTo>
                    <a:pt x="30018" y="3794"/>
                  </a:lnTo>
                  <a:lnTo>
                    <a:pt x="30018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788000" y="189000"/>
            <a:ext cx="3957480" cy="5256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638680" cy="3505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3343320" cy="5193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4600" y="4259160"/>
            <a:ext cx="523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437000"/>
            <a:ext cx="470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Каждый город брали враги приступом, преодолевая яростное сопротивление защи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8600" y="6237360"/>
            <a:ext cx="8733960" cy="431640"/>
            <a:chOff x="228600" y="6237360"/>
            <a:chExt cx="8733960" cy="431640"/>
          </a:xfrm>
        </p:grpSpPr>
        <p:sp>
          <p:nvSpPr>
            <p:cNvPr id="75" name=""/>
            <p:cNvSpPr/>
            <p:nvPr/>
          </p:nvSpPr>
          <p:spPr>
            <a:xfrm>
              <a:off x="3708360" y="623736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>
              <a:hlinkClick r:id="" action="ppaction://hlinkshowjump?jump=previousslide"/>
            </p:cNvPr>
            <p:cNvSpPr/>
            <p:nvPr/>
          </p:nvSpPr>
          <p:spPr>
            <a:xfrm>
              <a:off x="228600" y="6348240"/>
              <a:ext cx="814320" cy="320760"/>
            </a:xfrm>
            <a:custGeom>
              <a:avLst/>
              <a:gdLst>
                <a:gd name="textAreaLeft" fmla="*/ 20520 w 814320"/>
                <a:gd name="textAreaRight" fmla="*/ 793800 w 81432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54799" h="21600">
                  <a:moveTo>
                    <a:pt x="0" y="0"/>
                  </a:moveTo>
                  <a:lnTo>
                    <a:pt x="54799" y="0"/>
                  </a:lnTo>
                  <a:lnTo>
                    <a:pt x="54799" y="21600"/>
                  </a:lnTo>
                  <a:lnTo>
                    <a:pt x="0" y="21600"/>
                  </a:lnTo>
                  <a:close/>
                </a:path>
                <a:path fill="lightenLess" w="54799" h="21600">
                  <a:moveTo>
                    <a:pt x="0" y="0"/>
                  </a:moveTo>
                  <a:lnTo>
                    <a:pt x="54799" y="0"/>
                  </a:lnTo>
                  <a:lnTo>
                    <a:pt x="53399" y="1400"/>
                  </a:lnTo>
                  <a:lnTo>
                    <a:pt x="1400" y="1400"/>
                  </a:lnTo>
                  <a:close/>
                </a:path>
                <a:path fill="darken" w="54799" h="21600">
                  <a:moveTo>
                    <a:pt x="54799" y="0"/>
                  </a:moveTo>
                  <a:lnTo>
                    <a:pt x="54799" y="21600"/>
                  </a:lnTo>
                  <a:lnTo>
                    <a:pt x="53399" y="20200"/>
                  </a:lnTo>
                  <a:lnTo>
                    <a:pt x="53399" y="1400"/>
                  </a:lnTo>
                  <a:close/>
                </a:path>
                <a:path fill="darkenLess" w="54799" h="21600">
                  <a:moveTo>
                    <a:pt x="5479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399" y="20200"/>
                  </a:lnTo>
                  <a:close/>
                </a:path>
                <a:path fill="lighten" w="5479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4799" h="21600">
                  <a:moveTo>
                    <a:pt x="20393" y="10800"/>
                  </a:moveTo>
                  <a:lnTo>
                    <a:pt x="34406" y="3794"/>
                  </a:lnTo>
                  <a:lnTo>
                    <a:pt x="34406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>
              <a:hlinkClick r:id="" action="ppaction://hlinkshowjump?jump=nextslide"/>
            </p:cNvPr>
            <p:cNvSpPr/>
            <p:nvPr/>
          </p:nvSpPr>
          <p:spPr>
            <a:xfrm flipH="1">
              <a:off x="8243280" y="6348240"/>
              <a:ext cx="718920" cy="309600"/>
            </a:xfrm>
            <a:custGeom>
              <a:avLst/>
              <a:gdLst>
                <a:gd name="textAreaLeft" fmla="*/ 19800 w 718920"/>
                <a:gd name="textAreaRight" fmla="*/ 699120 w 718920"/>
                <a:gd name="textAreaTop" fmla="*/ 19800 h 309600"/>
                <a:gd name="textAreaBottom" fmla="*/ 289800 h 309600"/>
              </a:gdLst>
              <a:ahLst/>
              <a:rect l="textAreaLeft" t="textAreaTop" r="textAreaRight" b="textAreaBottom"/>
              <a:pathLst>
                <a:path w="50124" h="21600">
                  <a:moveTo>
                    <a:pt x="0" y="0"/>
                  </a:moveTo>
                  <a:lnTo>
                    <a:pt x="50124" y="0"/>
                  </a:lnTo>
                  <a:lnTo>
                    <a:pt x="50124" y="21600"/>
                  </a:lnTo>
                  <a:lnTo>
                    <a:pt x="0" y="21600"/>
                  </a:lnTo>
                  <a:close/>
                </a:path>
                <a:path fill="lightenLess" w="50124" h="21600">
                  <a:moveTo>
                    <a:pt x="0" y="0"/>
                  </a:moveTo>
                  <a:lnTo>
                    <a:pt x="50124" y="0"/>
                  </a:lnTo>
                  <a:lnTo>
                    <a:pt x="48724" y="1400"/>
                  </a:lnTo>
                  <a:lnTo>
                    <a:pt x="1400" y="1400"/>
                  </a:lnTo>
                  <a:close/>
                </a:path>
                <a:path fill="darken" w="50124" h="21600">
                  <a:moveTo>
                    <a:pt x="50124" y="0"/>
                  </a:moveTo>
                  <a:lnTo>
                    <a:pt x="50124" y="21600"/>
                  </a:lnTo>
                  <a:lnTo>
                    <a:pt x="48724" y="20200"/>
                  </a:lnTo>
                  <a:lnTo>
                    <a:pt x="48724" y="1400"/>
                  </a:lnTo>
                  <a:close/>
                </a:path>
                <a:path fill="darkenLess" w="50124" h="21600">
                  <a:moveTo>
                    <a:pt x="501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724" y="20200"/>
                  </a:lnTo>
                  <a:close/>
                </a:path>
                <a:path fill="lighten" w="501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124" h="21600">
                  <a:moveTo>
                    <a:pt x="18056" y="10800"/>
                  </a:moveTo>
                  <a:lnTo>
                    <a:pt x="32069" y="3794"/>
                  </a:lnTo>
                  <a:lnTo>
                    <a:pt x="32069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24000" y="3789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Взятие Владимира монголо-татарами. Штурм Золотых 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6920" y="260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Доспехи русских воинов</a:t>
            </a:r>
            <a:br>
              <a:rPr sz="1800"/>
            </a:b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XIII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533520"/>
            <a:ext cx="4543200" cy="5067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4975200" y="11350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7040" y="1052640"/>
            <a:ext cx="420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о призыву московского князя Дмитрия Ивановича каждый русский город прислал своих воинов для битвы с вра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На Куликовом поле князь Дмитрий Донской решил сражаться рядовым во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28600" y="6308640"/>
            <a:ext cx="8712360" cy="381240"/>
            <a:chOff x="228600" y="6308640"/>
            <a:chExt cx="8712360" cy="381240"/>
          </a:xfrm>
        </p:grpSpPr>
        <p:sp>
          <p:nvSpPr>
            <p:cNvPr id="84" name=""/>
            <p:cNvSpPr/>
            <p:nvPr/>
          </p:nvSpPr>
          <p:spPr>
            <a:xfrm>
              <a:off x="3995640" y="630864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>
              <a:hlinkClick r:id="" action="ppaction://hlinkshowjump?jump=previousslide"/>
            </p:cNvPr>
            <p:cNvSpPr/>
            <p:nvPr/>
          </p:nvSpPr>
          <p:spPr>
            <a:xfrm>
              <a:off x="228600" y="6308640"/>
              <a:ext cx="743040" cy="320760"/>
            </a:xfrm>
            <a:custGeom>
              <a:avLst/>
              <a:gdLst>
                <a:gd name="textAreaLeft" fmla="*/ 20520 w 743040"/>
                <a:gd name="textAreaRight" fmla="*/ 722520 w 74304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50004" h="21600">
                  <a:moveTo>
                    <a:pt x="0" y="0"/>
                  </a:moveTo>
                  <a:lnTo>
                    <a:pt x="50004" y="0"/>
                  </a:lnTo>
                  <a:lnTo>
                    <a:pt x="50004" y="21600"/>
                  </a:lnTo>
                  <a:lnTo>
                    <a:pt x="0" y="21600"/>
                  </a:lnTo>
                  <a:close/>
                </a:path>
                <a:path fill="lightenLess" w="50004" h="21600">
                  <a:moveTo>
                    <a:pt x="0" y="0"/>
                  </a:moveTo>
                  <a:lnTo>
                    <a:pt x="50004" y="0"/>
                  </a:lnTo>
                  <a:lnTo>
                    <a:pt x="48604" y="1400"/>
                  </a:lnTo>
                  <a:lnTo>
                    <a:pt x="1400" y="1400"/>
                  </a:lnTo>
                  <a:close/>
                </a:path>
                <a:path fill="darken" w="50004" h="21600">
                  <a:moveTo>
                    <a:pt x="50004" y="0"/>
                  </a:moveTo>
                  <a:lnTo>
                    <a:pt x="50004" y="21600"/>
                  </a:lnTo>
                  <a:lnTo>
                    <a:pt x="48604" y="20200"/>
                  </a:lnTo>
                  <a:lnTo>
                    <a:pt x="48604" y="1400"/>
                  </a:lnTo>
                  <a:close/>
                </a:path>
                <a:path fill="darkenLess" w="50004" h="21600">
                  <a:moveTo>
                    <a:pt x="500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604" y="20200"/>
                  </a:lnTo>
                  <a:close/>
                </a:path>
                <a:path fill="lighten" w="500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004" h="21600">
                  <a:moveTo>
                    <a:pt x="17996" y="10800"/>
                  </a:moveTo>
                  <a:lnTo>
                    <a:pt x="32009" y="3794"/>
                  </a:lnTo>
                  <a:lnTo>
                    <a:pt x="32009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>
              <a:hlinkClick r:id="" action="ppaction://hlinkshowjump?jump=nextslide"/>
            </p:cNvPr>
            <p:cNvSpPr/>
            <p:nvPr/>
          </p:nvSpPr>
          <p:spPr>
            <a:xfrm flipH="1">
              <a:off x="8244000" y="6381720"/>
              <a:ext cx="696960" cy="308160"/>
            </a:xfrm>
            <a:custGeom>
              <a:avLst/>
              <a:gdLst>
                <a:gd name="textAreaLeft" fmla="*/ 19800 w 696960"/>
                <a:gd name="textAreaRight" fmla="*/ 677160 w 696960"/>
                <a:gd name="textAreaTop" fmla="*/ 19800 h 308160"/>
                <a:gd name="textAreaBottom" fmla="*/ 288360 h 308160"/>
              </a:gdLst>
              <a:ahLst/>
              <a:rect l="textAreaLeft" t="textAreaTop" r="textAreaRight" b="textAreaBottom"/>
              <a:pathLst>
                <a:path w="48821" h="21600">
                  <a:moveTo>
                    <a:pt x="0" y="0"/>
                  </a:moveTo>
                  <a:lnTo>
                    <a:pt x="48821" y="0"/>
                  </a:lnTo>
                  <a:lnTo>
                    <a:pt x="48821" y="21600"/>
                  </a:lnTo>
                  <a:lnTo>
                    <a:pt x="0" y="21600"/>
                  </a:lnTo>
                  <a:close/>
                </a:path>
                <a:path fill="lightenLess" w="48821" h="21600">
                  <a:moveTo>
                    <a:pt x="0" y="0"/>
                  </a:moveTo>
                  <a:lnTo>
                    <a:pt x="48821" y="0"/>
                  </a:lnTo>
                  <a:lnTo>
                    <a:pt x="47421" y="1400"/>
                  </a:lnTo>
                  <a:lnTo>
                    <a:pt x="1400" y="1400"/>
                  </a:lnTo>
                  <a:close/>
                </a:path>
                <a:path fill="darken" w="48821" h="21600">
                  <a:moveTo>
                    <a:pt x="48821" y="0"/>
                  </a:moveTo>
                  <a:lnTo>
                    <a:pt x="48821" y="21600"/>
                  </a:lnTo>
                  <a:lnTo>
                    <a:pt x="47421" y="20200"/>
                  </a:lnTo>
                  <a:lnTo>
                    <a:pt x="47421" y="1400"/>
                  </a:lnTo>
                  <a:close/>
                </a:path>
                <a:path fill="darkenLess" w="48821" h="21600">
                  <a:moveTo>
                    <a:pt x="4882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421" y="20200"/>
                  </a:lnTo>
                  <a:close/>
                </a:path>
                <a:path fill="lighten" w="4882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821" h="21600">
                  <a:moveTo>
                    <a:pt x="17404" y="10800"/>
                  </a:moveTo>
                  <a:lnTo>
                    <a:pt x="31417" y="3794"/>
                  </a:lnTo>
                  <a:lnTo>
                    <a:pt x="31417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24000" y="55897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Московский князь </a:t>
            </a:r>
            <a:br>
              <a:rPr sz="1800"/>
            </a:b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Дмитрий Иванович До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69080" cy="4516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324000" y="18900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«И была сеча зла и велика и брань крепка», - записал летопис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5805360"/>
            <a:ext cx="49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8 сентября 1380 года на Куликовом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8600" y="6308640"/>
            <a:ext cx="8783280" cy="381240"/>
            <a:chOff x="228600" y="6308640"/>
            <a:chExt cx="8783280" cy="381240"/>
          </a:xfrm>
        </p:grpSpPr>
        <p:sp>
          <p:nvSpPr>
            <p:cNvPr id="92" name=""/>
            <p:cNvSpPr/>
            <p:nvPr/>
          </p:nvSpPr>
          <p:spPr>
            <a:xfrm>
              <a:off x="3924360" y="630864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>
              <a:hlinkClick r:id="" action="ppaction://hlinkshowjump?jump=previousslide"/>
            </p:cNvPr>
            <p:cNvSpPr/>
            <p:nvPr/>
          </p:nvSpPr>
          <p:spPr>
            <a:xfrm>
              <a:off x="228600" y="6308640"/>
              <a:ext cx="743040" cy="320760"/>
            </a:xfrm>
            <a:custGeom>
              <a:avLst/>
              <a:gdLst>
                <a:gd name="textAreaLeft" fmla="*/ 20520 w 743040"/>
                <a:gd name="textAreaRight" fmla="*/ 722520 w 743040"/>
                <a:gd name="textAreaTop" fmla="*/ 20520 h 320760"/>
                <a:gd name="textAreaBottom" fmla="*/ 300240 h 320760"/>
              </a:gdLst>
              <a:ahLst/>
              <a:rect l="textAreaLeft" t="textAreaTop" r="textAreaRight" b="textAreaBottom"/>
              <a:pathLst>
                <a:path w="50004" h="21600">
                  <a:moveTo>
                    <a:pt x="0" y="0"/>
                  </a:moveTo>
                  <a:lnTo>
                    <a:pt x="50004" y="0"/>
                  </a:lnTo>
                  <a:lnTo>
                    <a:pt x="50004" y="21600"/>
                  </a:lnTo>
                  <a:lnTo>
                    <a:pt x="0" y="21600"/>
                  </a:lnTo>
                  <a:close/>
                </a:path>
                <a:path fill="lightenLess" w="50004" h="21600">
                  <a:moveTo>
                    <a:pt x="0" y="0"/>
                  </a:moveTo>
                  <a:lnTo>
                    <a:pt x="50004" y="0"/>
                  </a:lnTo>
                  <a:lnTo>
                    <a:pt x="48604" y="1400"/>
                  </a:lnTo>
                  <a:lnTo>
                    <a:pt x="1400" y="1400"/>
                  </a:lnTo>
                  <a:close/>
                </a:path>
                <a:path fill="darken" w="50004" h="21600">
                  <a:moveTo>
                    <a:pt x="50004" y="0"/>
                  </a:moveTo>
                  <a:lnTo>
                    <a:pt x="50004" y="21600"/>
                  </a:lnTo>
                  <a:lnTo>
                    <a:pt x="48604" y="20200"/>
                  </a:lnTo>
                  <a:lnTo>
                    <a:pt x="48604" y="1400"/>
                  </a:lnTo>
                  <a:close/>
                </a:path>
                <a:path fill="darkenLess" w="50004" h="21600">
                  <a:moveTo>
                    <a:pt x="500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604" y="20200"/>
                  </a:lnTo>
                  <a:close/>
                </a:path>
                <a:path fill="lighten" w="500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004" h="21600">
                  <a:moveTo>
                    <a:pt x="17996" y="10800"/>
                  </a:moveTo>
                  <a:lnTo>
                    <a:pt x="32009" y="3794"/>
                  </a:lnTo>
                  <a:lnTo>
                    <a:pt x="32009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>
              <a:hlinkClick r:id="" action="ppaction://hlinkshowjump?jump=nextslide"/>
            </p:cNvPr>
            <p:cNvSpPr/>
            <p:nvPr/>
          </p:nvSpPr>
          <p:spPr>
            <a:xfrm flipH="1">
              <a:off x="8316360" y="6381720"/>
              <a:ext cx="695160" cy="308160"/>
            </a:xfrm>
            <a:custGeom>
              <a:avLst/>
              <a:gdLst>
                <a:gd name="textAreaLeft" fmla="*/ 19800 w 695160"/>
                <a:gd name="textAreaRight" fmla="*/ 675360 w 695160"/>
                <a:gd name="textAreaTop" fmla="*/ 19800 h 308160"/>
                <a:gd name="textAreaBottom" fmla="*/ 288360 h 308160"/>
              </a:gdLst>
              <a:ahLst/>
              <a:rect l="textAreaLeft" t="textAreaTop" r="textAreaRight" b="textAreaBottom"/>
              <a:pathLst>
                <a:path w="48695" h="21600">
                  <a:moveTo>
                    <a:pt x="0" y="0"/>
                  </a:moveTo>
                  <a:lnTo>
                    <a:pt x="48695" y="0"/>
                  </a:lnTo>
                  <a:lnTo>
                    <a:pt x="48695" y="21600"/>
                  </a:lnTo>
                  <a:lnTo>
                    <a:pt x="0" y="21600"/>
                  </a:lnTo>
                  <a:close/>
                </a:path>
                <a:path fill="lightenLess" w="48695" h="21600">
                  <a:moveTo>
                    <a:pt x="0" y="0"/>
                  </a:moveTo>
                  <a:lnTo>
                    <a:pt x="48695" y="0"/>
                  </a:lnTo>
                  <a:lnTo>
                    <a:pt x="47295" y="1400"/>
                  </a:lnTo>
                  <a:lnTo>
                    <a:pt x="1400" y="1400"/>
                  </a:lnTo>
                  <a:close/>
                </a:path>
                <a:path fill="darken" w="48695" h="21600">
                  <a:moveTo>
                    <a:pt x="48695" y="0"/>
                  </a:moveTo>
                  <a:lnTo>
                    <a:pt x="48695" y="21600"/>
                  </a:lnTo>
                  <a:lnTo>
                    <a:pt x="47295" y="20200"/>
                  </a:lnTo>
                  <a:lnTo>
                    <a:pt x="47295" y="1400"/>
                  </a:lnTo>
                  <a:close/>
                </a:path>
                <a:path fill="darkenLess" w="48695" h="21600">
                  <a:moveTo>
                    <a:pt x="4869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295" y="20200"/>
                  </a:lnTo>
                  <a:close/>
                </a:path>
                <a:path fill="lighten" w="4869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695" h="21600">
                  <a:moveTo>
                    <a:pt x="17341" y="10800"/>
                  </a:moveTo>
                  <a:lnTo>
                    <a:pt x="31354" y="3794"/>
                  </a:lnTo>
                  <a:lnTo>
                    <a:pt x="31354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331920"/>
            <a:ext cx="4365720" cy="5976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5580000" y="1052640"/>
            <a:ext cx="3254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Иностранцы считали всадника святым Георгием Победонос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Этот святой считался покровителем многих русских кн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08000" y="6381720"/>
            <a:ext cx="8856720" cy="380880"/>
            <a:chOff x="108000" y="6381720"/>
            <a:chExt cx="8856720" cy="380880"/>
          </a:xfrm>
        </p:grpSpPr>
        <p:sp>
          <p:nvSpPr>
            <p:cNvPr id="98" name=""/>
            <p:cNvSpPr/>
            <p:nvPr/>
          </p:nvSpPr>
          <p:spPr>
            <a:xfrm>
              <a:off x="3924360" y="638172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содерж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>
              <a:hlinkClick r:id="" action="ppaction://hlinkshowjump?jump=previousslide"/>
            </p:cNvPr>
            <p:cNvSpPr/>
            <p:nvPr/>
          </p:nvSpPr>
          <p:spPr>
            <a:xfrm>
              <a:off x="108000" y="6453360"/>
              <a:ext cx="792000" cy="309240"/>
            </a:xfrm>
            <a:custGeom>
              <a:avLst/>
              <a:gdLst>
                <a:gd name="textAreaLeft" fmla="*/ 19800 w 792000"/>
                <a:gd name="textAreaRight" fmla="*/ 772200 w 792000"/>
                <a:gd name="textAreaTop" fmla="*/ 19800 h 309240"/>
                <a:gd name="textAreaBottom" fmla="*/ 289440 h 309240"/>
              </a:gdLst>
              <a:ahLst/>
              <a:rect l="textAreaLeft" t="textAreaTop" r="textAreaRight" b="textAreaBottom"/>
              <a:pathLst>
                <a:path w="55281" h="21600">
                  <a:moveTo>
                    <a:pt x="0" y="0"/>
                  </a:moveTo>
                  <a:lnTo>
                    <a:pt x="55281" y="0"/>
                  </a:lnTo>
                  <a:lnTo>
                    <a:pt x="55281" y="21600"/>
                  </a:lnTo>
                  <a:lnTo>
                    <a:pt x="0" y="21600"/>
                  </a:lnTo>
                  <a:close/>
                </a:path>
                <a:path fill="lightenLess" w="55281" h="21600">
                  <a:moveTo>
                    <a:pt x="0" y="0"/>
                  </a:moveTo>
                  <a:lnTo>
                    <a:pt x="55281" y="0"/>
                  </a:lnTo>
                  <a:lnTo>
                    <a:pt x="53881" y="1400"/>
                  </a:lnTo>
                  <a:lnTo>
                    <a:pt x="1400" y="1400"/>
                  </a:lnTo>
                  <a:close/>
                </a:path>
                <a:path fill="darken" w="55281" h="21600">
                  <a:moveTo>
                    <a:pt x="55281" y="0"/>
                  </a:moveTo>
                  <a:lnTo>
                    <a:pt x="55281" y="21600"/>
                  </a:lnTo>
                  <a:lnTo>
                    <a:pt x="53881" y="20200"/>
                  </a:lnTo>
                  <a:lnTo>
                    <a:pt x="53881" y="1400"/>
                  </a:lnTo>
                  <a:close/>
                </a:path>
                <a:path fill="darkenLess" w="55281" h="21600">
                  <a:moveTo>
                    <a:pt x="552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881" y="20200"/>
                  </a:lnTo>
                  <a:close/>
                </a:path>
                <a:path fill="lighten" w="552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5281" h="21600">
                  <a:moveTo>
                    <a:pt x="20634" y="10800"/>
                  </a:moveTo>
                  <a:lnTo>
                    <a:pt x="34647" y="3794"/>
                  </a:lnTo>
                  <a:lnTo>
                    <a:pt x="34647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>
              <a:hlinkClick r:id="" action="ppaction://hlinkshowjump?jump=nextslide"/>
            </p:cNvPr>
            <p:cNvSpPr/>
            <p:nvPr/>
          </p:nvSpPr>
          <p:spPr>
            <a:xfrm flipH="1">
              <a:off x="8244000" y="6453360"/>
              <a:ext cx="720720" cy="309240"/>
            </a:xfrm>
            <a:custGeom>
              <a:avLst/>
              <a:gdLst>
                <a:gd name="textAreaLeft" fmla="*/ 19800 w 720720"/>
                <a:gd name="textAreaRight" fmla="*/ 700920 w 720720"/>
                <a:gd name="textAreaTop" fmla="*/ 19800 h 309240"/>
                <a:gd name="textAreaBottom" fmla="*/ 289440 h 309240"/>
              </a:gdLst>
              <a:ahLst/>
              <a:rect l="textAreaLeft" t="textAreaTop" r="textAreaRight" b="textAreaBottom"/>
              <a:pathLst>
                <a:path w="50308" h="21600">
                  <a:moveTo>
                    <a:pt x="0" y="0"/>
                  </a:moveTo>
                  <a:lnTo>
                    <a:pt x="50308" y="0"/>
                  </a:lnTo>
                  <a:lnTo>
                    <a:pt x="50308" y="21600"/>
                  </a:lnTo>
                  <a:lnTo>
                    <a:pt x="0" y="21600"/>
                  </a:lnTo>
                  <a:close/>
                </a:path>
                <a:path fill="lightenLess" w="50308" h="21600">
                  <a:moveTo>
                    <a:pt x="0" y="0"/>
                  </a:moveTo>
                  <a:lnTo>
                    <a:pt x="50308" y="0"/>
                  </a:lnTo>
                  <a:lnTo>
                    <a:pt x="48908" y="1400"/>
                  </a:lnTo>
                  <a:lnTo>
                    <a:pt x="1400" y="1400"/>
                  </a:lnTo>
                  <a:close/>
                </a:path>
                <a:path fill="darken" w="50308" h="21600">
                  <a:moveTo>
                    <a:pt x="50308" y="0"/>
                  </a:moveTo>
                  <a:lnTo>
                    <a:pt x="50308" y="21600"/>
                  </a:lnTo>
                  <a:lnTo>
                    <a:pt x="48908" y="20200"/>
                  </a:lnTo>
                  <a:lnTo>
                    <a:pt x="48908" y="1400"/>
                  </a:lnTo>
                  <a:close/>
                </a:path>
                <a:path fill="darkenLess" w="50308" h="21600">
                  <a:moveTo>
                    <a:pt x="503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908" y="20200"/>
                  </a:lnTo>
                  <a:close/>
                </a:path>
                <a:path fill="lighten" w="503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308" h="21600">
                  <a:moveTo>
                    <a:pt x="18147" y="10800"/>
                  </a:moveTo>
                  <a:lnTo>
                    <a:pt x="32160" y="3794"/>
                  </a:lnTo>
                  <a:lnTo>
                    <a:pt x="32160" y="178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1:51:02Z</dcterms:created>
  <dc:creator>комп10</dc:creator>
  <dc:description/>
  <dc:language>en-US</dc:language>
  <cp:lastModifiedBy>Sergey</cp:lastModifiedBy>
  <dcterms:modified xsi:type="dcterms:W3CDTF">2008-09-28T07:09:21Z</dcterms:modified>
  <cp:revision>27</cp:revision>
  <dc:subject/>
  <dc:title>Слайд 1</dc:title>
</cp:coreProperties>
</file>