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7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2DDC-6A52-4FDA-8D9D-60454D2A44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A6ED-A132-41D8-A03F-07B5C2B346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695-90E2-4E03-B042-14986EF8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8A4-A2AD-4A52-BFD9-9C5A9C9A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9C6-3C8B-404A-AC18-A37BC6B6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C49-90B0-4B9B-BE2C-4DE2464B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CFB3-4A70-4D95-91EB-726B3892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9F63-513F-4727-8977-0ACB030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CD8A-6C2B-4A33-A5A0-7BC51CF6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97A7-F24D-4662-A084-245BC6AA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9E53-A81C-4CD2-9699-789ACD9D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F857-AFF0-4185-B08D-D9BA99D4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EB6D-A710-409C-B862-CF785E9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31C-5DD7-4ED5-90B8-5D2630FC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EE21-F1F7-4876-B28A-1B841926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E24A-7AF2-4C1A-AD68-072BBF2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9A04-87C2-4D83-8F36-7E88B500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424F-82E1-4CF4-A941-BA0128A1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1C47-E9A0-4C96-80C1-2929AF48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A5EA-BE89-422D-AFE8-25B51615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70E1-568B-47BD-B10A-260BB6FE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46CB-B2CE-421F-9127-3E7D57C9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02353-02A8-46BA-A205-B196E925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F5B53-6CBD-47DF-BB8D-4543071C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01C-1CF9-40DE-9412-27CEA57E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355C-EFC7-4F81-B39F-BFF51E4A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BDA0-282F-4B1F-B438-08685310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406E-8080-4454-BCD9-E6AA8D9E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DA9C9-963B-426D-BB0F-C327795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D581-3CBC-49F1-A4FA-34F1A844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7F16-8870-45C9-8105-4D23F2B0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E508-897C-4275-AB46-5B7FEBD9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EBC-8057-44CE-93B2-972219CD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D22-04D3-4C92-A030-D685BE3B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8DC-49B0-41DA-9228-0BC66018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005-7FD5-465C-9978-052B5FFF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EA0-6F69-41B6-8F61-A85B6D2B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AE0-1D1E-49BE-9AF2-F651837E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EA02-B6EB-4D06-9021-C784CEC395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C03E-2201-4B56-97E1-A2656740B8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8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55FD-31F9-4186-B5FC-A5581917D2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C:\Documents and Settings\Admin\Мои документы\Мои рисунки\bv-b.gif"/>
          <p:cNvPicPr/>
          <p:nvPr/>
        </p:nvPicPr>
        <p:blipFill>
          <a:blip r:embed="rId3"/>
          <a:stretch/>
        </p:blipFill>
        <p:spPr>
          <a:xfrm>
            <a:off x="7786800" y="6286680"/>
            <a:ext cx="938160" cy="225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3357720" y="5357880"/>
            <a:ext cx="2527200" cy="15001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Admin\Рабочий стол\угадай\д.gif"/>
          <p:cNvPicPr/>
          <p:nvPr/>
        </p:nvPicPr>
        <p:blipFill>
          <a:blip r:embed="rId3"/>
          <a:stretch/>
        </p:blipFill>
        <p:spPr>
          <a:xfrm>
            <a:off x="0" y="5000760"/>
            <a:ext cx="1461960" cy="1857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Admin\Рабочий стол\угадай\ссч.gif"/>
          <p:cNvPicPr/>
          <p:nvPr/>
        </p:nvPicPr>
        <p:blipFill>
          <a:blip r:embed="rId4"/>
          <a:stretch/>
        </p:blipFill>
        <p:spPr>
          <a:xfrm>
            <a:off x="7500960" y="4965840"/>
            <a:ext cx="1643040" cy="18921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5715000" y="4737240"/>
            <a:ext cx="3571920" cy="21207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19280" y="1557000"/>
            <a:ext cx="633744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истемно-деятельностный подход при организации уроков математики в начальной шко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4" descr="C:\Users\user\Pictures\iщщ.jpg"/>
          <p:cNvPicPr/>
          <p:nvPr/>
        </p:nvPicPr>
        <p:blipFill>
          <a:blip r:embed="rId1"/>
          <a:stretch/>
        </p:blipFill>
        <p:spPr>
          <a:xfrm>
            <a:off x="7740720" y="4365720"/>
            <a:ext cx="100800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946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Объект 3"/>
          <p:cNvGraphicFramePr/>
          <p:nvPr/>
        </p:nvGraphicFramePr>
        <p:xfrm>
          <a:off x="611280" y="620640"/>
          <a:ext cx="7921440" cy="547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620640"/>
                    <a:ext cx="792144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Объект 3"/>
          <p:cNvGraphicFramePr/>
          <p:nvPr/>
        </p:nvGraphicFramePr>
        <p:xfrm>
          <a:off x="468360" y="620640"/>
          <a:ext cx="78534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78534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Объект 3"/>
          <p:cNvGraphicFramePr/>
          <p:nvPr/>
        </p:nvGraphicFramePr>
        <p:xfrm>
          <a:off x="684360" y="692280"/>
          <a:ext cx="7767360" cy="54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92280"/>
                    <a:ext cx="776736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Объект 3"/>
          <p:cNvGraphicFramePr/>
          <p:nvPr/>
        </p:nvGraphicFramePr>
        <p:xfrm>
          <a:off x="684360" y="620640"/>
          <a:ext cx="777528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20640"/>
                    <a:ext cx="777528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Объект 3"/>
          <p:cNvGraphicFramePr/>
          <p:nvPr/>
        </p:nvGraphicFramePr>
        <p:xfrm>
          <a:off x="684360" y="620640"/>
          <a:ext cx="777528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20640"/>
                    <a:ext cx="777528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Объект 3"/>
          <p:cNvGraphicFramePr/>
          <p:nvPr/>
        </p:nvGraphicFramePr>
        <p:xfrm>
          <a:off x="684360" y="692280"/>
          <a:ext cx="7775280" cy="53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92280"/>
                    <a:ext cx="777528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5dff"/>
                </a:solidFill>
                <a:latin typeface="Times New Roman"/>
                <a:ea typeface="Times New Roman"/>
              </a:rPr>
              <a:t>Две девочки одновременно побежали навстречу друг другу по спортивной дорожке, длина которой 420 м. Когда они встретились, первая пробежала на 60 м больше, чем вторая. С какой скоростью бежала каждая девочка, если они встретились через 30 с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5dff"/>
                </a:solidFill>
                <a:latin typeface="Arial"/>
                <a:ea typeface="Arial"/>
              </a:rPr>
              <a:t>Условия 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d5dff"/>
                </a:solidFill>
                <a:latin typeface="Arial"/>
                <a:ea typeface="Arial"/>
              </a:rPr>
              <a:t>1. Две девочки бегут навстречу друг друг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d5dff"/>
                </a:solidFill>
                <a:latin typeface="Arial"/>
                <a:ea typeface="Arial"/>
              </a:rPr>
              <a:t>2. Движение они начали одновременн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d5dff"/>
                </a:solidFill>
                <a:latin typeface="Arial"/>
                <a:ea typeface="Arial"/>
              </a:rPr>
              <a:t>3. Расстояние, которое они пробежали, - 420 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d5dff"/>
                </a:solidFill>
                <a:latin typeface="Arial"/>
                <a:ea typeface="Arial"/>
              </a:rPr>
              <a:t>4. Одна девочка пробежала на 60 м больше, чем друга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d5dff"/>
                </a:solidFill>
                <a:latin typeface="Arial"/>
                <a:ea typeface="Arial"/>
              </a:rPr>
              <a:t>5. Девочки встретились через 30 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d5dff"/>
                </a:solidFill>
                <a:latin typeface="Arial"/>
                <a:ea typeface="Arial"/>
              </a:rPr>
              <a:t>6. Скорость движения одной девочки больше скорости движения </a:t>
            </a:r>
            <a:r>
              <a:rPr b="0" lang="ru-RU" sz="2200" spc="-1" strike="noStrike">
                <a:solidFill>
                  <a:srgbClr val="0d5dff"/>
                </a:solidFill>
                <a:latin typeface="Arial Unicode MS"/>
                <a:ea typeface="Arial Unicode MS"/>
              </a:rPr>
              <a:t>друг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5dff"/>
                </a:solidFill>
                <a:latin typeface="Arial"/>
                <a:ea typeface="Arial"/>
              </a:rPr>
              <a:t>Требования 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d5dff"/>
                </a:solidFill>
                <a:latin typeface="Arial"/>
                <a:ea typeface="Arial"/>
              </a:rPr>
              <a:t>1. С какой скоростью бежала 1-я девочк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d5dff"/>
                </a:solidFill>
                <a:latin typeface="Arial"/>
                <a:ea typeface="Arial"/>
              </a:rPr>
              <a:t>2. С какой скоростью бежала 2-я девочк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4873"/>
                </a:solidFill>
                <a:latin typeface="Arial"/>
                <a:ea typeface="Arial"/>
              </a:rPr>
              <a:t>1 способ                               2 спосо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cb3"/>
                </a:solidFill>
                <a:latin typeface="Arial"/>
                <a:ea typeface="Arial"/>
              </a:rPr>
              <a:t>1) 420 - 60 = 360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cb3"/>
                </a:solidFill>
                <a:latin typeface="Arial"/>
                <a:ea typeface="Arial"/>
              </a:rPr>
              <a:t>2) 360 : 2 = 180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cb3"/>
                </a:solidFill>
                <a:latin typeface="Arial"/>
                <a:ea typeface="Arial"/>
              </a:rPr>
              <a:t>3) 180 : 30 = 6 (м/с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cb3"/>
                </a:solidFill>
                <a:latin typeface="Arial"/>
                <a:ea typeface="Arial"/>
              </a:rPr>
              <a:t>4) 180 + 60 = 240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cb3"/>
                </a:solidFill>
                <a:latin typeface="Arial"/>
                <a:ea typeface="Arial"/>
              </a:rPr>
              <a:t>5) 240 : 30 = 8 (м/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3"/>
          <p:cNvSpPr/>
          <p:nvPr/>
        </p:nvSpPr>
        <p:spPr>
          <a:xfrm>
            <a:off x="5148360" y="1892160"/>
            <a:ext cx="39956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cb3"/>
                </a:solidFill>
                <a:latin typeface="Arial"/>
                <a:ea typeface="Arial"/>
              </a:rPr>
              <a:t>1) 420 - 60 = 360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cb3"/>
                </a:solidFill>
                <a:latin typeface="Arial"/>
                <a:ea typeface="Arial"/>
              </a:rPr>
              <a:t>2) 360 : 2 = 180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cb3"/>
                </a:solidFill>
                <a:latin typeface="Arial"/>
                <a:ea typeface="Arial"/>
              </a:rPr>
              <a:t>3) 180 : 30 = 6 (м/с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cb3"/>
                </a:solidFill>
                <a:latin typeface="Arial"/>
                <a:ea typeface="Arial"/>
              </a:rPr>
              <a:t>4) 180 + 60 = 240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Aft>
                <a:spcPts val="248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cb3"/>
                </a:solidFill>
                <a:latin typeface="Arial"/>
                <a:ea typeface="Arial"/>
              </a:rPr>
              <a:t>5) 240 : 30 = 8 (м/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Как организовать современный урок с точки зрения системно-деятельностного подход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Как сформулировать цели урока с позиций планируемых результатов образова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Какой учебный материал отобрать и как его структурироват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Какие методы и средства обучения выбрат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Как обеспечить рациональное сочетание форм и методов обуче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66cc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 урока на основе системно-деятельностного под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6e"/>
                </a:solidFill>
                <a:latin typeface="Times New Roman"/>
              </a:rPr>
              <a:t>1. Время самостоятельной работы учеников. (не менее 50% времени уро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6e"/>
                </a:solidFill>
                <a:latin typeface="Times New Roman"/>
              </a:rPr>
              <a:t>2. Время, в течение которого говорил учитель. (не менее 10 мину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6e"/>
                </a:solidFill>
                <a:latin typeface="Times New Roman"/>
              </a:rPr>
              <a:t>3. Сколько учеников ответили устно на уроке и сколько времени. (должны вс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6e"/>
                </a:solidFill>
                <a:latin typeface="Times New Roman"/>
              </a:rPr>
              <a:t>4. Сколько учеников получили оценки. (должны вс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6e"/>
                </a:solidFill>
                <a:latin typeface="Times New Roman"/>
              </a:rPr>
              <a:t>5. Время, в течение которого ученики двигались. (не менее 5 мину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6e"/>
                </a:solidFill>
                <a:latin typeface="Times New Roman"/>
              </a:rPr>
              <a:t>6. Сколько учеников готовы к восприятию нового материала. (как проверен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6e"/>
                </a:solidFill>
                <a:latin typeface="Times New Roman"/>
              </a:rPr>
              <a:t>7. Сколько учеников ушли с урока с полным пониманием нового учебного материала. (как проверен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6e"/>
                </a:solidFill>
                <a:latin typeface="Times New Roman"/>
              </a:rPr>
              <a:t>8. Соответствует ли объем домашнего задания норме. (да - н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сновная цел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истемно-деятельностного подхода в обучении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научить не знаниям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а работ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ая иде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го состоит в том, что новые знания не даются в готовом виде. Дети «открывают» их сами в процессе самостоятельной исследовательской  деятельности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ча учител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 введении нового материала заключается не в том, чтобы всё наглядно и доступно объяснить, показать и рассказа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-360"/>
            <a:ext cx="9036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апы технологии системно - деятельностного метода при организации учебной деятельности на урок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определение к деятельности (организационный момент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уализация знаний и затруднение в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ление места и причины затруд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роение проекта выхода из затруд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ализация построенного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ичное закрепление во внешней ре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ая работа с самопроверкой в класс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ение в систему знаний и повтор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флексия учебной деятельности (итог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layer.myshared.ru/7/838207/slides/slide_15.j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79280" y="135000"/>
            <a:ext cx="8809200" cy="6607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урока математики с позиции системно-деятельностного подхода состоит в следующ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1c6e"/>
                </a:solidFill>
                <a:latin typeface="Times New Roman"/>
              </a:rPr>
              <a:t>учитель создает проблемную ситуацию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1c6e"/>
                </a:solidFill>
                <a:latin typeface="Times New Roman"/>
              </a:rPr>
              <a:t>ученик принимает проблемную ситуацию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1c6e"/>
                </a:solidFill>
                <a:latin typeface="Times New Roman"/>
              </a:rPr>
              <a:t>вместе выявляют проблем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1c6e"/>
                </a:solidFill>
                <a:latin typeface="Times New Roman"/>
              </a:rPr>
              <a:t>учитель управляет поисковой деятельностью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1c6e"/>
                </a:solidFill>
                <a:latin typeface="Times New Roman"/>
              </a:rPr>
              <a:t>ученик  осуществляет самостоятельный поиск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1c6e"/>
                </a:solidFill>
                <a:latin typeface="Times New Roman"/>
              </a:rPr>
              <a:t>обсуждение результатов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5:39:39Z</dcterms:created>
  <dc:creator>dvk</dc:creator>
  <dc:description/>
  <dc:language>en-US</dc:language>
  <cp:lastModifiedBy>user</cp:lastModifiedBy>
  <dcterms:modified xsi:type="dcterms:W3CDTF">2018-01-07T16:44:40Z</dcterms:modified>
  <cp:revision>45</cp:revision>
  <dc:subject/>
  <dc:title>Развитие орфографической зоркости </dc:title>
</cp:coreProperties>
</file>