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12B-E09F-419F-A601-CD6FB0F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252-02CD-4B16-9675-C7F016B0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EEC-9A8B-4625-93A0-54C112FC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69D-955B-4931-94AB-E797922D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4B31-70EA-4823-8B1E-EFBA24D9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271F-ECD3-47D6-AFD6-3980FFC9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A7B7-46D4-4511-9414-7741A9BD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A180-A800-4EFE-B63C-C0E6C13E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217-EB4C-470A-9FA0-A118AB88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E625-5E36-4386-8572-DF3E8F4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CD4-E2A0-4508-84C3-9702835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0A1-1322-416A-B0F8-3CBE0FC2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AD5C-B4A6-4004-A490-15D8120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A305-3F0E-4BAF-8A03-3858FD3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5F9C-27E0-4803-AB2D-F96C8F2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AC24-D2C4-4C6A-847B-7DDB60A6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8293-EFAE-4AD9-962D-FDB84579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D87-A7C3-469E-BA48-678BCF20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E51-6BEB-427A-A71B-08938A5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F15-25A4-496B-B7E4-4FC5ACB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084-D785-446D-AC23-E4B01EF4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33D-7C6C-4714-B8BC-944D4351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B01-AF18-4C5D-966B-EF116C9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63E-3861-45DD-BADB-1642530A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FC85-AA14-48B6-9F90-B1C3FC9E5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9F2-E0ED-412A-836E-565FF55E4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Территория и население Российской империи. Кризис крепостного права. Внутренняя и внешняя торговля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: Есина Ольга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туализация зна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урса обществознания вспомните, какие 4 сферы общества вам извест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 какой из сфер общественной жизни можно отнести эти вопросы: (ответить на вопрос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помните, что такое сослов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ословия существовали в Российской империи к начал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туализация зна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помните, что такое крепостное право, крепостное хозяй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какому из 4 сфер общественной жизни можно отнести данный вопр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туализация зна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помните правителей, которые проводили реформы закрепощения крестьян, усиления централизованной в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какой из сфер общественной жизни можно отнести данный вопр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овый материал: охарактеризуйте кар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249120" y="1295280"/>
            <a:ext cx="93931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пользуя материал учебника охарактеризуйт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ую сферу Российской империи начал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. Состав населения, процентное соотно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ческую обстановку в стране: сельское хозяйство и промышленность, т.е. сферу производства, потребления и распред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риторию государ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пишите в словар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теля, годы 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ые даты данной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репление: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ставьте синквейн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2T16:33:06Z</dcterms:created>
  <dc:creator>Мама</dc:creator>
  <dc:description/>
  <dc:language>en-US</dc:language>
  <cp:lastModifiedBy>User</cp:lastModifiedBy>
  <dcterms:modified xsi:type="dcterms:W3CDTF">2017-12-12T16:54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