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5C1-DB1B-46AD-AB17-BC2385C8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4D1-A088-41E5-ABFD-EE0D906A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B4F-6A92-4A5A-8F76-01C67072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3ED-BEDA-4B3F-8C1A-8FD6864A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5BE2-8DFB-4859-878A-D996046C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C41D-E6AD-4210-AADF-04FCF71A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8454-BFDE-49C0-BFB3-00C97E3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511C-B636-468E-8C1E-93C68A1A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3741-9A17-4111-A2FB-DCCE192A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F8F7-AAE8-4702-A3F6-A743720C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9A64-1386-4ACC-8304-7764300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DD6-24AB-4544-8161-CA0CA3CF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C03A-573C-4F4B-936B-46277D7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4D97-987C-4A06-AEFA-FF697A1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5CC6-C24C-42A0-8B56-E39609AE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01EB-277D-4AF8-BE96-F35FBC5C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51B3-6717-49DD-8405-10C93965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235-C9FB-4D1F-9043-DE1BECDE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408-3AA5-44AD-872F-7EFBF8B4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4C8-59C8-42FA-8B79-9ECE20AC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2AE-3844-4422-BBED-D50167C4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202-0BE1-478D-964B-5185F68E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10F-9A52-4C06-9A3E-CB572482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3F6-C43D-4E57-A6B4-466A46BC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C84F-8C3A-4A4F-BC2F-5A0FC25E86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A16F-A38A-4669-A1E9-0B2B2D0CC4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Учебная мотивация – фактор развития познавательных способностей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ладченко Елена Анатольев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читель русского языка и литературы МБОУ СОШ № 141 с углубленным изучением математи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помним понят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чебна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мотивац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процесс, который запускает, направляет и поддерживает усилия, направленные на выполнение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чебной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деятель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Мотив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внутреннее побуждение к актив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д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мотивами учебной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понимаются все факторы, обуславливающие проявления учебной активности: потребности, цели, установки, чувство долга, интересы и т.д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Задача – повышать мотивацию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чебные мотивы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ормируются в процессе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самой учебной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зменяя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одержание и формы этой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т.е. обеспечивая определенные условия обучения, можно влиять на мотивацию, перестраивать е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сокая мотивац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способна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омпенсировать недостаток способностей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и привести к успеху в учебной деятельности, в обратном направлении механизм не срабатыва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пражнения и педагогические приёмы для развития мотивации на уроках русского языка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первом уроке по теме определить этапы её изучения, формы контроля на каждом этапе и результат. (Чему должны научиться?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здание благоприятного психологического климата, ситуации успеха для любого ученика (похвала, жесты одобрения и т.д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вобождение от домашнего задания или его ча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пражнения и педагогические приёмы для развития мотивации на уроках русского языка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имся друг у друга (Как тебе удалось запомнить? Как ты учишь стихотворение? Что ты сделал, чтобы справиться на 5?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вязь с жизнью (Где в жизни вам пригодится то, что мы изучаем сегодня?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Новая бусинка» (Тема на доске. Что вы уже знаете по этой теме? А теперь посмотрим, что нового мы узнаем?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пражнения и педагогические приёмы для развития мотивации на уроках русского языка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ятёрка за одно слово (мысль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претное (запрещённая книг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дивляй (Существуют ли слова без корня?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ифровой диктант (да – нет)  (внимание, быстрота реакци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етвёртое «лишнее» (логи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едините две половинки (слова, пословицы, фразеологизмы, герой-произведение и т.д.) (речь, память, логику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1-01T17:19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