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3CC-A7C7-4585-B75C-E9C5E9CF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6E9-D29F-44AC-8AEA-D43C5AAE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9DD-F34B-4A4C-957B-279E9F25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DE7D-8214-4210-834D-6C32706B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3566-BDA9-4900-9FF5-B878F815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B02C-8052-4AB6-A03C-B35896FD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FCD4-0E31-43D4-811D-2C26C977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9F37-3B6F-4DB0-B341-4F1230EC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9C16-AD45-4DD8-96B9-29EC4305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4CC8-E3C9-4500-94FB-56A9E319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C06D-1918-4CCA-B56F-E1FBC978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C6D-01F8-46C4-B065-AE659AB6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4E0F-7BF6-427B-AD5F-0A5075CE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F29A-03D6-4200-976C-608D1A7F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8476-D9F3-4D2F-9FC6-92A4DFAF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7CF5-0D4C-42F3-8284-03207E66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790B-390B-449C-8CB1-409425FE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43D-06CE-456F-92FE-E4D1515E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AAB-C537-4377-9556-5DAEA842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310-77E0-4AA2-978B-C8D9B651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953-31E9-49D1-9BEC-AF8F94D4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0BAF-5360-4A09-8C9E-37706BDE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19C-E466-44DD-A296-08AF6EF2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18B-B45D-46BE-9676-5FB01962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6AC6-82E5-4669-86E5-775560F3E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10E2-8971-42A3-87DC-EEFD47414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евые  ориентиры раннего и дошкольного возра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132000" y="3885840"/>
            <a:ext cx="59040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а: Антропова Е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100720" y="274320"/>
            <a:ext cx="863640" cy="61786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удожественно-эстетическое развитие (Художественное развит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3640" y="260280"/>
            <a:ext cx="30956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нний возра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бенок манипулирует с предметами и выполняет познаватель­но-исследовательские действия с инструментами и материала­ми, способствующими интересу к изобразительной 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уются готовность к экспериментированию с материала­ми и веществами (песок, вода, тесто и пр.), создание продукта изобразительной и конструктивной 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бенок проявляет интерес к рассматриванию картинки, эмо­ционально откликается на различные произведения культуры и искус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140000" y="259920"/>
            <a:ext cx="3384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школьный возра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е благополучие детей во взаимодействии с пред­метно-пространственным и художественным окружени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развитие интереса и способностей к изобразительной деятель­ности (рисование, лепка, аппликация) и конструированию из разного материала, включая конструкторы, модули, бумагу, природный и иной материа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бенок овладевает основными культурными способами худо­жественной деятельности, проявляет инициативу и самосто­ятельность в разных видах деятельности, способен выбирать себе род занятий, участников по совместн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ЦЕЛЕВЫЕ ОРИЕНТИРЫ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ступают основаниями преемственности дошкольного и начально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828c8"/>
                </a:solidFill>
                <a:latin typeface="Times New Roman"/>
                <a:ea typeface="Times New Roman"/>
              </a:rPr>
              <a:t>При соблюдении требований к условиям реализации Программы настоящие целевые ориентиры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полагают формирование у детей дошкольного возраста предпосылок учебной деятельности на этапе завершения ими 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ВЫЕ ОРИЕНТИРЫ ДОШКОЛЬНОГО ОБРАЗО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712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ЦЕЛЕВЫЕ ОРИЕНТИ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школьного образования, представленные в ФГОС дошкольного образования, следует рассматривать как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2929cd"/>
                </a:solidFill>
                <a:latin typeface="Arial"/>
              </a:rPr>
              <a:t>социально-нормативные возрастные характеристики возможных достижений ребенка на этапе завершения уровня дошкольного образования</a:t>
            </a:r>
            <a:r>
              <a:rPr b="0" lang="ru-RU" sz="2400" spc="-1" strike="noStrike">
                <a:solidFill>
                  <a:srgbClr val="2929cd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2929c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ориентир для педагогов и родителей, обозначающий направленность воспитатель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целевым ориентирам дошкольного образования относятся следующие социально- нормативные возрастные характеристики возможных достижений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евые ориентиры образования в младенческом и раннем возрасте (к 3-м года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fc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fc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221fc0"/>
                </a:solidFill>
                <a:latin typeface="Times New Roman"/>
                <a:ea typeface="Times New Roman"/>
              </a:rPr>
              <a:t>Целевые ориентиры на этапе завершения дошкольного  образования (к 7-8ми года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овательные  обла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539640" y="1700280"/>
            <a:ext cx="2303640" cy="1584360"/>
          </a:xfrm>
          <a:prstGeom prst="rect">
            <a:avLst/>
          </a:prstGeom>
          <a:solidFill>
            <a:srgbClr val="ffff00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циально-коммуникативное 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3348000" y="2997360"/>
            <a:ext cx="2376360" cy="1511280"/>
          </a:xfrm>
          <a:prstGeom prst="rect">
            <a:avLst/>
          </a:prstGeom>
          <a:solidFill>
            <a:srgbClr val="00b0f0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Физическ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6084720" y="1773360"/>
            <a:ext cx="2232360" cy="1511280"/>
          </a:xfrm>
          <a:prstGeom prst="rect">
            <a:avLst/>
          </a:prstGeom>
          <a:solidFill>
            <a:srgbClr val="ee94e3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Познавательн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611280" y="4797360"/>
            <a:ext cx="2376360" cy="1584360"/>
          </a:xfrm>
          <a:prstGeom prst="rect">
            <a:avLst/>
          </a:prstGeom>
          <a:solidFill>
            <a:srgbClr val="9492ef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1462"/>
                </a:solidFill>
                <a:latin typeface="Arial"/>
              </a:rPr>
              <a:t>Речев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6012000" y="4797360"/>
            <a:ext cx="2305080" cy="1511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b6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ественно-эстетическ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2303280" cy="28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нний возраст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а крупная моторик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емление осваивать различные виды движения бег, лазанье, перешагивание и пр.)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ес к тактильно-двигательным игр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172360" y="259920"/>
            <a:ext cx="658800" cy="626436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Arial"/>
              </a:rPr>
              <a:t>Физическ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3924360" y="549360"/>
            <a:ext cx="2879640" cy="56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школьный возра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а крупная и мелкая моторик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н подвижен, владеет основными движениями, может контролировать свои движения и управлять и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ен к принятию решений, опираясь на свои знания и умения в различных видах двигательной и физкультурной, спортивной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ладает физическими качествами (выносливость, гибкость и др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8000" y="274680"/>
            <a:ext cx="576360" cy="63230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циально-коммуникативн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8920" y="260280"/>
            <a:ext cx="38163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нний возра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блюдается динамика непосредственного эмоционального общения со взрослым, эмоциональное благополучие де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бенок интересуется окружающими предметами и активно действует с ними; эмоционально вовлечен в действия с игруш­ками и другими предметами, стремится проявлять настойчи­вость в достижении результата своих действий; использует специфические, культурно фиксированные пред­метные действия, знает назначение бытовых предметов (ложки, расчески, карандаша и пр.) и умеет пользоваться ими; владеет простейшими навыками самообслуживания; стремится про­являть самостоятельность в бытовом и игровом поведен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готовности и способности к общению со взрослым 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м играм со сверстниками под руководством взрослог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24360" y="260280"/>
            <a:ext cx="4248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школьный возра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ется игровая деятельность детей и динамика спонтанной игры, ее обога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уются готовность и способность к коммуникативной деятельности (общение и взаимодействие с взрослыми и сверстникам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бенок обладает начальными знаниями о себе и социальном мир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владевает основными культурными способами деятельности; способен выбирать себе род занятий, участников по совместной деятельности; проявляет инициативу и самостоятельность в игре и общении; старается разрешить конфлик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обладает установкой положительного отношения к миру, раз­ным видам труда, другим людям и самому себе, чувством соб­ственного достоин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тивно взаимодействует со сверстниками и взрослыми, участвует в совместных играх; способен договариваться, учиты­вать интересы и чувства других, сопереживать их неудачам и радоваться успехам, адекватно проявляет свои чувства, в т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 веру в себ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ен к волевым усилиям, может следовать социальным нормам поведения и правилам в разных видах деятельности, вен взаимоотношениях со взрослыми и сверстниками, соблюдать правила безопасного поведения и личной гигие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ен к принятию собственных решений, опираясь на свои знания и умения в различных видах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40720" y="274320"/>
            <a:ext cx="1079280" cy="61786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94e3"/>
                </a:solidFill>
                <a:latin typeface="Arial"/>
              </a:rPr>
              <a:t>Познавательн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4920" y="404280"/>
            <a:ext cx="2376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нний возра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 овладения основными культурными способами деятельности, подражания речевым И предметно-практическим действиям взрослого, проявления инициативы и самостоятельности в познавательно-исследовательской 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635280" y="333360"/>
            <a:ext cx="4105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школьный возра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развития любознательности, формирования умения задавать вопросы взрослым и сверстникам, развития интереса к причинно-следственным связям, стремления самостоятельно придумывать объяснения явлениям природы и по­ступкам людей; развития способности наблюдать, экспериментиро­вать, формирования познавательно-исследовательской деятельности и вообра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тоге 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онцу посещения дошкольного образовательного  учрежд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ребенок обладает начальными  знаниями о себе, природном и социальном мире; обладает элементарными представлениями из области живой природы, естествознания, математики, истории; способен к принятию собствен­ных решений, опираясь на свои знания и умения в различных вид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72360" y="404640"/>
            <a:ext cx="720720" cy="57470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41462"/>
                </a:solidFill>
                <a:latin typeface="Times New Roman"/>
                <a:ea typeface="Times New Roman"/>
              </a:rPr>
              <a:t>Речев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000" y="549000"/>
            <a:ext cx="2746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нний возра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 понимания речи взрослых, формирования представлений о названиях окружающих пред­метов и игрушек, умений и навыков владения активной речью, включенной  в общение; формирования готовности обращаться с вопросами и просьбами; проявления интереса к стихам, песням и сказкам, рассматриванию картин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620280"/>
            <a:ext cx="33084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школьный возра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овладения устной речью, благодаря которой ребенок может выражать свои мысли и желания, использовать речь для выражения своих мыслей, чувств и желаний, проявляет любознательность, задает вопросы взрослым и сверстникам, способен к построению речевого высказывания в ситуации общения; знаком с произведениями детской литературы и обнаруживает пред­посылки к грамотности (может выделять звуки в словах и др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884720" y="274320"/>
            <a:ext cx="1079640" cy="624996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удожественно-эстетическое развитие (Музыкальное развит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000" y="404280"/>
            <a:ext cx="28083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нний возра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есуется звучащими предметами и активно действует с ними; эмоционально вовлечен в действия с музыкальными игрушками и в музыкально-дидактические игры, стремится проявлять настойчивость в достижении результата; проявляет интерес к танцевальным движениям и песням, стре­мится двигаться под музык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 откликается на различные произведения музы­кальной культуры и искус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404280"/>
            <a:ext cx="30924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школьный возра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владевает основными культурными способами и видами музы­кальной деятельности, проявляет инициативу и самостоятель­ность в разных видах музыкальной 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ен выбирать себе род занятий, участников по совместной музыкальной деятельности; способен договариваться, учиты­вать интересы и чувства других, сопереживать их неудачам и радоваться успехам, адекватно проявляет свои чувства в про­цессе коллективной музыкальной деятельности и сотворче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ладает развитым воображением, которое реализуется в раз­ных видах музыкально - игровой и творческой музыкальной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28:01Z</dcterms:created>
  <dc:creator>ppsworld.ru</dc:creator>
  <dc:description/>
  <dc:language>en-US</dc:language>
  <cp:lastModifiedBy>Sys</cp:lastModifiedBy>
  <dcterms:modified xsi:type="dcterms:W3CDTF">2017-12-18T10:35:16Z</dcterms:modified>
  <cp:revision>14</cp:revision>
  <dc:subject/>
  <dc:title>Слайд 1</dc:title>
</cp:coreProperties>
</file>