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2CA8-A399-4EC7-9869-0E87D424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27C2-A35E-4345-AAC4-47F46690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18D4-B04B-434C-8710-3D443519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C6C-ABF0-442C-BBDD-5B02A848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ADE6-CA97-4B8A-B8C5-5FBE8EEE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9759-505B-4C6A-A866-CF7072CC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AD3B-2D5E-4045-A5C7-59737E46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4405-84BB-4502-A877-D33D0F73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803-042A-4254-B552-CCF1330B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79C6-FBB8-4F74-A567-CCB0F34F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EAE8-0BB4-4FFD-9D19-549E2F65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636A-27BC-45AC-8E61-E56A42CC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8E0D-0CD8-4ED5-9500-ACA54C19D8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Die_drei_Bogaty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50920" y="443700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ыполнила учитель ИЗО 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.В.Курбакова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МБОУ «Школа № 5»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г. Нижний Нов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MCj04357890000[1]"/>
          <p:cNvPicPr/>
          <p:nvPr/>
        </p:nvPicPr>
        <p:blipFill>
          <a:blip r:embed="rId1"/>
          <a:stretch/>
        </p:blipFill>
        <p:spPr>
          <a:xfrm>
            <a:off x="2700360" y="1557360"/>
            <a:ext cx="6012000" cy="4481640"/>
          </a:xfrm>
          <a:prstGeom prst="rect">
            <a:avLst/>
          </a:prstGeom>
          <a:ln w="0">
            <a:noFill/>
          </a:ln>
        </p:spPr>
      </p:pic>
      <p:sp>
        <p:nvSpPr>
          <p:cNvPr id="44" name="WordArt 14"/>
          <p:cNvSpPr txBox="1"/>
          <p:nvPr/>
        </p:nvSpPr>
        <p:spPr>
          <a:xfrm>
            <a:off x="468360" y="620640"/>
            <a:ext cx="80773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огатырская тема в искусстве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Плачь Ярославны     Князь Игорь</a:t>
            </a:r>
            <a:br>
              <a:rPr sz="4000"/>
            </a:b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Картины Константина Василье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Плач Ярославны"/>
          <p:cNvPicPr/>
          <p:nvPr/>
        </p:nvPicPr>
        <p:blipFill>
          <a:blip r:embed="rId1"/>
          <a:stretch/>
        </p:blipFill>
        <p:spPr>
          <a:xfrm>
            <a:off x="1403280" y="260280"/>
            <a:ext cx="2160720" cy="511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Князь Игорь"/>
          <p:cNvPicPr/>
          <p:nvPr/>
        </p:nvPicPr>
        <p:blipFill>
          <a:blip r:embed="rId2"/>
          <a:stretch/>
        </p:blipFill>
        <p:spPr>
          <a:xfrm>
            <a:off x="5364000" y="260280"/>
            <a:ext cx="24526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4284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Русские витя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859280" y="4797000"/>
            <a:ext cx="3952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Картины Константина Василь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Русский витязь"/>
          <p:cNvPicPr/>
          <p:nvPr/>
        </p:nvPicPr>
        <p:blipFill>
          <a:blip r:embed="rId1"/>
          <a:stretch/>
        </p:blipFill>
        <p:spPr>
          <a:xfrm>
            <a:off x="250920" y="3284640"/>
            <a:ext cx="4752720" cy="2828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Витязь"/>
          <p:cNvPicPr/>
          <p:nvPr/>
        </p:nvPicPr>
        <p:blipFill>
          <a:blip r:embed="rId2"/>
          <a:stretch/>
        </p:blipFill>
        <p:spPr>
          <a:xfrm>
            <a:off x="4211640" y="765000"/>
            <a:ext cx="475308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Бой со змеем"/>
          <p:cNvPicPr/>
          <p:nvPr/>
        </p:nvPicPr>
        <p:blipFill>
          <a:blip r:embed="rId1"/>
          <a:stretch/>
        </p:blipFill>
        <p:spPr>
          <a:xfrm>
            <a:off x="611280" y="189000"/>
            <a:ext cx="3564000" cy="5545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Бой Добрыни со змеем"/>
          <p:cNvPicPr/>
          <p:nvPr/>
        </p:nvPicPr>
        <p:blipFill>
          <a:blip r:embed="rId2"/>
          <a:stretch/>
        </p:blipFill>
        <p:spPr>
          <a:xfrm>
            <a:off x="5270400" y="260280"/>
            <a:ext cx="3367080" cy="54738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Бой Добрыни со змеем</a:t>
            </a:r>
            <a:br>
              <a:rPr sz="4000"/>
            </a:b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Картина Константина Василь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Прощание славянки</a:t>
            </a:r>
            <a:br>
              <a:rPr sz="4000"/>
            </a:b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Картина Константина Василь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Прощание славянки"/>
          <p:cNvPicPr/>
          <p:nvPr/>
        </p:nvPicPr>
        <p:blipFill>
          <a:blip r:embed="rId1"/>
          <a:stretch/>
        </p:blipFill>
        <p:spPr>
          <a:xfrm>
            <a:off x="1042920" y="1628640"/>
            <a:ext cx="7058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выполнена  по        материалам сайта: http://rusizn.ru/givop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Русь изначальная»  - раздел «Живопис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826920" y="4508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school-collection.edu.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3" descr="300px-Die_drei_Bogaty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1628640"/>
            <a:ext cx="6481800" cy="4299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В.М.Васнецов «Богатыри» </a:t>
            </a: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1898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М.Врубель «Богатырь»</a:t>
            </a: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1898-1899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35719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Павел Корин «Александр Невский»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1942 г. Средняя часть триптих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%5bIS6IR_4-15%5d_%5bPD_01-r%5d"/>
          <p:cNvPicPr/>
          <p:nvPr/>
        </p:nvPicPr>
        <p:blipFill>
          <a:blip r:embed="rId1"/>
          <a:stretch/>
        </p:blipFill>
        <p:spPr>
          <a:xfrm>
            <a:off x="3276720" y="1557360"/>
            <a:ext cx="25527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В.Васнецов «Витязь на распутье» 1882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В. Васнецов. Витязь на распутье"/>
          <p:cNvPicPr/>
          <p:nvPr/>
        </p:nvPicPr>
        <p:blipFill>
          <a:blip r:embed="rId1"/>
          <a:stretch/>
        </p:blipFill>
        <p:spPr>
          <a:xfrm>
            <a:off x="1042920" y="1700280"/>
            <a:ext cx="71517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Пересвет на поле Куликовом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картина Бориса Ольшан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Пересвет на поле Куликовом"/>
          <p:cNvPicPr/>
          <p:nvPr/>
        </p:nvPicPr>
        <p:blipFill>
          <a:blip r:embed="rId1"/>
          <a:stretch/>
        </p:blipFill>
        <p:spPr>
          <a:xfrm>
            <a:off x="1116000" y="1773360"/>
            <a:ext cx="6840720" cy="43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931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ван – вдовий сын</a:t>
            </a:r>
            <a:br>
              <a:rPr sz="4000"/>
            </a:b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картина Бориса Ольшан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Иван-вдовий сын"/>
          <p:cNvPicPr/>
          <p:nvPr/>
        </p:nvPicPr>
        <p:blipFill>
          <a:blip r:embed="rId1"/>
          <a:stretch/>
        </p:blipFill>
        <p:spPr>
          <a:xfrm>
            <a:off x="2195640" y="1557360"/>
            <a:ext cx="4968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Алёша Попович и Елена Краса"/>
          <p:cNvPicPr/>
          <p:nvPr/>
        </p:nvPicPr>
        <p:blipFill>
          <a:blip r:embed="rId1"/>
          <a:stretch/>
        </p:blipFill>
        <p:spPr>
          <a:xfrm>
            <a:off x="1979640" y="1413000"/>
            <a:ext cx="5040360" cy="5229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Алёша Попович и Елена Краса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картина Бориса Ольшанского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Дар Святогора"/>
          <p:cNvPicPr/>
          <p:nvPr/>
        </p:nvPicPr>
        <p:blipFill>
          <a:blip r:embed="rId1"/>
          <a:stretch/>
        </p:blipFill>
        <p:spPr>
          <a:xfrm>
            <a:off x="826920" y="404640"/>
            <a:ext cx="3384720" cy="5400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Дар Святогора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 </a:t>
            </a:r>
            <a:br>
              <a:rPr sz="4000"/>
            </a:b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Картины Константина Василь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Дар Святогора"/>
          <p:cNvPicPr/>
          <p:nvPr/>
        </p:nvPicPr>
        <p:blipFill>
          <a:blip r:embed="rId2"/>
          <a:stretch/>
        </p:blipFill>
        <p:spPr>
          <a:xfrm>
            <a:off x="5019840" y="404640"/>
            <a:ext cx="3259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2:42:36Z</dcterms:created>
  <dc:creator>Диман</dc:creator>
  <dc:description/>
  <dc:language>en-US</dc:language>
  <cp:lastModifiedBy>User</cp:lastModifiedBy>
  <dcterms:modified xsi:type="dcterms:W3CDTF">2018-01-08T12:28:35Z</dcterms:modified>
  <cp:revision>3</cp:revision>
  <dc:subject/>
  <dc:title>Богатырская тема в искусстве</dc:title>
</cp:coreProperties>
</file>