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F546-E848-438E-9F06-3FD63721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8CA4-589F-4445-AD2A-E1DBCBF8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FD4D-DA2E-4ED0-8785-97620A3C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553A-42B5-46D6-B7C8-F78256D8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7E9-0993-4A6B-BF3E-F977249C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2436-30A4-484B-85DD-B8E09DD5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D0F-AB92-4D93-B7A9-39525503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CA0-17A0-456C-8F6E-AB8C90C9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DEF5-C612-4290-8D4C-CEBA81F8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4BD-8941-47F7-9222-DD295B21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FD8-AC45-4979-9580-BE5BDF96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A5C1-782C-4FA4-BE93-8BE217B7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E218-E730-4BB1-9A0E-DDF3F9790C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00" y="1915920"/>
            <a:ext cx="5472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99"/>
                </a:solidFill>
                <a:latin typeface="Lucida Calligraphy"/>
              </a:rPr>
              <a:t>Книжкина неде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140000" y="4508640"/>
            <a:ext cx="3384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Monotype Corsiva"/>
              </a:rPr>
              <a:t>Костенко Елена Серг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Monotype Corsiva"/>
              </a:rPr>
              <a:t>Воспитатель </a:t>
            </a:r>
            <a:r>
              <a:rPr b="1" lang="en-US" sz="1600" spc="-1" strike="noStrike">
                <a:solidFill>
                  <a:srgbClr val="ff6600"/>
                </a:solidFill>
                <a:latin typeface="Monotype Corsiva"/>
              </a:rPr>
              <a:t>II </a:t>
            </a:r>
            <a:r>
              <a:rPr b="1" lang="ru-RU" sz="1600" spc="-1" strike="noStrike">
                <a:solidFill>
                  <a:srgbClr val="ff6600"/>
                </a:solidFill>
                <a:latin typeface="Monotype Corsiva"/>
              </a:rPr>
              <a:t>младшая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rot="1432200">
            <a:off x="5148360" y="764640"/>
            <a:ext cx="3287520" cy="388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rcRect l="0" t="0" r="0" b="-420"/>
          <a:stretch/>
        </p:blipFill>
        <p:spPr>
          <a:xfrm rot="15215400">
            <a:off x="861480" y="298080"/>
            <a:ext cx="3173400" cy="42494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Кукольный теа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411280" y="3141720"/>
            <a:ext cx="2916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76000" y="260280"/>
            <a:ext cx="5545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«По страницам любимых книг»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8360" y="3068640"/>
            <a:ext cx="4610160" cy="3438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995640" y="981000"/>
            <a:ext cx="4680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Ты представь себе на миг,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Как бы жили мы без кни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56000" y="2781360"/>
            <a:ext cx="4103640" cy="3692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39640" y="1484280"/>
            <a:ext cx="406260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Подвижная игра «Волк и козлят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050920" y="3168720"/>
            <a:ext cx="4824720" cy="368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4032000" cy="2863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859280" y="1413000"/>
            <a:ext cx="40672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260280"/>
            <a:ext cx="554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«Чудеса в книжном царстве»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2852640"/>
            <a:ext cx="3987720" cy="2990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5292720" cy="338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900000" y="3933720"/>
            <a:ext cx="348768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95640" y="2924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449100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63640" y="1699920"/>
            <a:ext cx="51116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Благодарю за внимание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:  развивать устойчивый интерес к кни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ведение в практику разнообразных форм и методов работы с литературными произведениями, способствующих приобщению детей к книге для развития познавательной, творческой и эмоциональной активности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ыявить знание детских сказок через различные виды иг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ивлечь родителей к совместному творчеству в рамках «Книжкиной недел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оспитывать желание к постоянному общению с книгой и бережному отношению к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Предварительная работа с деть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- тематическое оформление групповой комна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- дополнение  уголков ( книжный, социально-нравственный,  уголок творчества, театральный уголок)  новыми материалами (книги различного содержания, назначения, оформл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- рисование совместно с родителями героев любимых сказ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- чтение детских сказок, рассказов, стих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- выбор стихотворений и подготовка выразительного чтения для заучи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- подбор иллюстративного материала для знакомства детей с художни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- подбор  портретов поэтов и пис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н мероприятий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матической недели «Книжкина недел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940280"/>
        </p:xfrm>
        <a:graphic>
          <a:graphicData uri="http://schemas.openxmlformats.org/drawingml/2006/table">
            <a:tbl>
              <a:tblPr/>
              <a:tblGrid>
                <a:gridCol w="2530440"/>
                <a:gridCol w="569916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едельник «Короле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ижек-малыше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еда «Какие бывают книги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а «Книга мой лучший друг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пка «Погремуш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ник «В гостях у сказ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/и «Сложи картинку и назови сказку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а-драматизация по сказке Колобок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-р игра «Семья» (на основе сказки «Волк и семеро козлят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а «По страницам любимых книг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матривание с детьми иллюстрации к сказка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а книг принесенных из до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ение стихов, загадок про сказочных герое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г «Чудеса в книжном царств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еда о правилах общения с книг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/и «Дорисуй героя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мотр мультфиль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ница Закрытие «Книжкиной недел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еда «Что мы узнали о книгах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а детских работ, выполненных совместно  родителя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«Королева книжек-малышек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80000" y="1125360"/>
            <a:ext cx="356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Праздник книжки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Тает снег, клокочут вод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Звонко птицы гомон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По-весеннему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Расцвели глаза реб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Очень любят праздник кни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И девчонки, и мальчи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(З. Бычк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50194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«В гостях у сказки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95280" y="328464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924360" y="1268280"/>
            <a:ext cx="468144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3384360" cy="2984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04040" y="476280"/>
            <a:ext cx="2938320" cy="345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050920" y="2924280"/>
            <a:ext cx="35290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3280" y="620640"/>
            <a:ext cx="3816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В мире много сказок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Грустных и смешных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11280" y="3860640"/>
            <a:ext cx="37036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 прожить на свете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Нам нельзя без 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59280" y="2889360"/>
            <a:ext cx="4284720" cy="3968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432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Инсценировка сказки «Колоб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4032360" cy="416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95280" y="1628640"/>
            <a:ext cx="42480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5T05:39:29Z</dcterms:created>
  <dc:creator>User</dc:creator>
  <dc:description/>
  <dc:language>en-US</dc:language>
  <cp:lastModifiedBy>User</cp:lastModifiedBy>
  <dcterms:modified xsi:type="dcterms:W3CDTF">2018-01-08T12:27:40Z</dcterms:modified>
  <cp:revision>13</cp:revision>
  <dc:subject/>
  <dc:title>Слайд 1</dc:title>
</cp:coreProperties>
</file>