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6D8-32DF-4420-822B-19E6F945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539-CBAD-4507-83B5-69BED9DA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847-EF41-4598-9ECC-D0F7C1C4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8C1-E5BD-4CFD-8F6A-4422DEDB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60C-E39A-4E81-BD78-FEB341FA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CFA-EC85-4922-8544-3CC03907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E34-B7C1-4F2C-A4EF-89837F4A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E08-1204-4E5C-8A3B-72FDFBDC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90B-8D61-4917-8703-DE9FC60F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35C-3560-4DD3-BF3E-DA43AF70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B32-036C-4DAC-97FB-18C7C07C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29D-812A-4C9B-9D30-DC648F4E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B445-46DC-41F4-9279-38B649DBA3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" Target="slide17.xml"/><Relationship Id="rId5" Type="http://schemas.openxmlformats.org/officeDocument/2006/relationships/slide" Target="slide4.xml"/><Relationship Id="rId6" Type="http://schemas.openxmlformats.org/officeDocument/2006/relationships/slide" Target="slide11.xml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slide" Target="slide12.xml"/><Relationship Id="rId10" Type="http://schemas.openxmlformats.org/officeDocument/2006/relationships/slide" Target="slide19.xml"/><Relationship Id="rId11" Type="http://schemas.openxmlformats.org/officeDocument/2006/relationships/slide" Target="slide6.xml"/><Relationship Id="rId12" Type="http://schemas.openxmlformats.org/officeDocument/2006/relationships/slide" Target="slide13.xml"/><Relationship Id="rId13" Type="http://schemas.openxmlformats.org/officeDocument/2006/relationships/slide" Target="slide20.xml"/><Relationship Id="rId14" Type="http://schemas.openxmlformats.org/officeDocument/2006/relationships/slide" Target="slide7.xml"/><Relationship Id="rId15" Type="http://schemas.openxmlformats.org/officeDocument/2006/relationships/slide" Target="slide14.xml"/><Relationship Id="rId16" Type="http://schemas.openxmlformats.org/officeDocument/2006/relationships/slide" Target="slide21.xml"/><Relationship Id="rId17" Type="http://schemas.openxmlformats.org/officeDocument/2006/relationships/slide" Target="slide8.xml"/><Relationship Id="rId18" Type="http://schemas.openxmlformats.org/officeDocument/2006/relationships/slide" Target="slide15.xml"/><Relationship Id="rId19" Type="http://schemas.openxmlformats.org/officeDocument/2006/relationships/slide" Target="slide22.xml"/><Relationship Id="rId20" Type="http://schemas.openxmlformats.org/officeDocument/2006/relationships/slide" Target="slide9.xml"/><Relationship Id="rId21" Type="http://schemas.openxmlformats.org/officeDocument/2006/relationships/slide" Target="slide16.xml"/><Relationship Id="rId22" Type="http://schemas.openxmlformats.org/officeDocument/2006/relationships/slide" Target="slide23.xml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060640"/>
            <a:ext cx="57960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Математик – бизнесме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4500720" y="364500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аренко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5"/>
          <p:cNvSpPr/>
          <p:nvPr/>
        </p:nvSpPr>
        <p:spPr>
          <a:xfrm>
            <a:off x="5183280" y="0"/>
            <a:ext cx="3960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ематическая игра для 5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0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пользуя все девять цифр и 0 (каждую, из которой можно использовать один раз), запишите, возможно, меньшее число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547640" y="537372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102345678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0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ри курицы за три дня дают три яйца. Сколько яиц дадут 12 кур за 12 дне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547640" y="501336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48 яи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0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 с помощью пяти цифр и знаков действий записать число с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547640" y="51577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Например (5 + 5 + 5 + 5) * 5 = 100 или 5 * 5 * 5 - 5 * 5 =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0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чертите два отрезка так, чтобы один был длиннее на два сантиметра, а вместе они составили бы отрезок длиной четырнадцать сантимет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47640" y="486900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Arial"/>
              </a:rPr>
              <a:t>6 см и 8 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0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шахматном турнире тремя участниками всего было сыграно шесть партий. Каждый с каждым сыграл по одной партии. Сколько партий они сыгр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566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4 парт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0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ти число, одна треть которого равна 1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116000" y="5157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0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ы с боем отбивают один удар за секунду. Сколько времени потребуется часам, чтобы отбить 12 час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476360" y="486900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11 сек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вадрате проведены два отрезка, соединяющих противоположные вершины. Сколько всего получилось треугольни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476360" y="486900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Восемь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чередь за билетами в кино стоят друзья: Юра, Миша, Володя, Саша и Олег. Известно, что Юра купит билет раньше, чем Миша, но позже Олега; Володя и Олег не стоят рядом, а Саша не находится рядом ни с Олегом, ни с Юрой, ни с Володей. Кто за кем сто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76360" y="5229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Олег; Юра; Володя; Миша; Саш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сок проволоки длиной 102 см нужно разрезать на части длиной 15 см и 12 см, но так, чтобы обрезков не было? Как это сделать? Сколько решений имеет задач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619280" y="5732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2 + 15 ∙ 6 = 102; 12 ∙ 6 + 15 ∙ 2 = 1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92360" y="1628640"/>
          <a:ext cx="6161040" cy="4525920"/>
        </p:xfrm>
        <a:graphic>
          <a:graphicData uri="http://schemas.openxmlformats.org/drawingml/2006/table">
            <a:tbl>
              <a:tblPr/>
              <a:tblGrid>
                <a:gridCol w="2046240"/>
                <a:gridCol w="2057400"/>
                <a:gridCol w="20574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10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0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0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AutoShape 105">
            <a:hlinkClick r:id="" action="ppaction://hlinkshowjump?jump=endshow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7" descr="Картинки по запросу бизнесмен рисунок"/>
          <p:cNvPicPr/>
          <p:nvPr/>
        </p:nvPicPr>
        <p:blipFill>
          <a:blip r:embed="rId23"/>
          <a:stretch/>
        </p:blipFill>
        <p:spPr>
          <a:xfrm>
            <a:off x="-1189080" y="1341360"/>
            <a:ext cx="4025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мма трех чисел равна их произведению. Эти числа различные и однозначные. Найти эти чис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476360" y="494172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1, 2,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шифровать анаграмму: Коршу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476360" y="494172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Шну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лдень из Москвы отправляется поезд в Санкт-Петербург со скоростью 80 км/ч. В тоже время из Санкт-Петербурга в Москву выходит поезд со скоростью 40 км/ч. Оба поезда идут без остановок. Какой поезд при встрече находится на большем расстоянии от Моск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476360" y="494172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На равном расстоя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1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ши девять цифр: 1;2;3;4;5;6;7;8;9, не меняя их порядка, расставьте между ними знаки «+» или «-» (всего 3 знака) так, чтобы в результате получилось 1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03280" y="558972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123-45-67+89=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7030a0"/>
                </a:solidFill>
                <a:uFillTx/>
                <a:latin typeface="Arial"/>
              </a:rPr>
              <a:t>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дин сосуд входит пять литров, а в другой три литра. Как с помощью этих сосудов налить в кувшин четыре литра воды из водопроводного кра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47640" y="4653000"/>
            <a:ext cx="61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Наполним пятилитровый сосуд и отливаем в трехлитровый кувшин. Оставшиеся два литра переливаем в кувшин. Повторяем оп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тух, стоя на одной ноге весит 5 кг. Сколько он будет весить, если встанет на обе ног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619280" y="4941720"/>
            <a:ext cx="61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5 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 руках 10 пальцев. Сколько пальцев на 10 рук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547640" y="443700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50 пальц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семье у каждого из шести братьев есть по сестре. Сколько детей в этой семь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47640" y="508464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Семь дет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руша тяжелее яблока, а яблоко тяжелее персика. Что тяжелее – груша или персик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547640" y="522936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Груш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колько всего двузначных чисе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47640" y="443700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Девяно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50 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разных числа сначала сложили, а потом их же перемножили. Сумма и произведение оказались равными. Какие эти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2" action="ppaction://hlinksldjump"/>
          </p:cNvPr>
          <p:cNvSpPr/>
          <p:nvPr/>
        </p:nvSpPr>
        <p:spPr>
          <a:xfrm>
            <a:off x="828036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47640" y="443700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1; 2;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8-01-08T12:50:06Z</dcterms:modified>
  <cp:revision>737</cp:revision>
  <dc:subject/>
  <dc:title>Diapositiva 1</dc:title>
</cp:coreProperties>
</file>