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106-FA98-4FA4-AF36-1D1F56DF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275-3910-4E6C-A23F-AAA6E27E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007-5CF5-4300-B2A7-5C405B62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20A-AFD6-42A1-AF48-EC92A614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CA8-F535-4B79-8663-FB42EB21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03E-24CD-41EB-93C3-AA678F6D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E3F-F15E-4B63-9FD0-C920B98A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360-CA9F-432F-98C8-0E69E40F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769-0A1B-41A5-98E1-AFE997A2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5CD-C797-43BA-8FA0-1CC1BAC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E14-A2AF-4660-B5B3-5CF23D9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CCC-203D-4326-84B6-7A498D40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8A7A-633F-41C5-A0E2-42D7E6957E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5280" cy="36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 Развитие познавательных интересов и творческих способностей учащихся на уроках   географии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356840"/>
            <a:ext cx="777528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«Подбери пар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а по какой-либо теме записываются в два столбика. Необходимо подобрать пару и определить лишнее слов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а:                                         Горные системы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Аконкагуа                                                    Кордиль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Эльбрус                                                        Ан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Мак-Кинли                                                   Кавк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Народная                                                      Аль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Монблан                                                       Ур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мала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«Буквы заблудилис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доске пишу «зашифрованные слова» с перепутанными буквами, чтобы получилось слово, ребята должны расставить правильно буквы. Кроме, этого, после того, как они его составили, нужно объяснить значение данного сло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 можно усложнить: «Кто быстрее?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МКАТ (климат)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ОАЛ (коа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ЕВ (ветер)                                                            КЭСОПТ(экспор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ЕВА (Венера)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ИВАЗЕ(Евраз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Творческие работы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ла влияния творческих работ школьников на познавательный интерес состоит в их ценности для развития личности вообще, поскольку и сам замысел творческой работы, и процессе выполнения, и ее результат – все требует от личности максимального приложения сил. Из творческих заданий возможны такие, как составление загадок, кроссвордов, изготовление макета вулкана из пластилина, сообщения, доклады, презентации и т.д. Учащиеся 6-х классов выполняют творческие работы в графическом и текстовом редакторах, старших классов – с использованием Power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Использование на уроке дополнительной лит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кая работа с книгой, газетой и журнальной статьей способствует развитию творческого воображения, аналитического мышления, эмоционально обогащает урок. При изучении географии невозможно обойтись без географических описаний в литерату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бъяснении темы “Ветер” в 6 классе можно зачитать детям отрывок из “Сказки о мертвой царевне и о семи богатырях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Ветер, ветер! Ты могуч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Ты гоняешь стаи туч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Ты волнуешь сине море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Всюду веешь на простор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затем задать вопросы: “Что называется ветром? Как возникает ветер? Почему поэт называет ветер могучим?”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изучении понятий “циклон”, “антициклон” в теме “Климат” (8-й класс) зачитываю отрывок из стихотворения А.С. Пушкина “Зимний вечер”, учащиеся определяют, о каком атмосферном процессе идет реч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Буря мглою небо кроет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Вихри снежные крутя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То, как зверь, она завоет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То заплачет, как дитя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Работа с карт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Карта – второй язык географии. Нет практически таких вопросов, тем в курсах школьной географии, ответ на которые не нуждался бы в картографическом сопровождении. Карта является необходимым условием при проведении географических диктантов, уроков-путешествий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«Географические диктанты»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   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 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Диктанты с географическими ошибками позволяют внести элементы занимательности в проверку усвоения материала, в то же время дают возможность выявить пробелы у отдельных учеников и помочь им устранить эти пробелы. В небольшой рассказ о морском путешествии (Тема «Береговая линия Евразии») умышленно включаю в содержание ошибки по номенклатуре (по усмотрению учителя учащиеся могут использовать атласы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   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 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Наш корабль снялся с якоря на рейде порта Диксон и отправился в путь по водам 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Баренцева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</a:rPr>
              <a:t> 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моря. В трюмах находится груз для рыбаков Сахалина. Обогнув с севера 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остров Таймыр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, корабль вышел на просторы моря Лаптевых. Ледовая обстановка препятствовала движению. Вскоре на горизонте показались острова 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Северная Земля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</a:rPr>
              <a:t>,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 миновав которые мы продолжили свой путь на восток по водам 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Карского моря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</a:rPr>
              <a:t>. 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Через некоторое время прошли у берегов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полуострова</a:t>
            </a:r>
            <a:r>
              <a:rPr b="0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 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Врангеля и по водам Чукотского моря подошли к 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Татарскому проливу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</a:rPr>
              <a:t>. 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Дальше наш путь шел на юго-восток по водам Берингова моря к берегам острова Камчатка. Попутное холодное течение </a:t>
            </a:r>
            <a:r>
              <a:rPr b="0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Куросио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 помогало нашему кораблю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. 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Обогнув Камчатку и пройдя по водам Японского моря, корабль подошел к 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полуострову Сахалин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</a:rPr>
              <a:t> 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и бросил якорь на рейде</a:t>
            </a:r>
            <a:r>
              <a:rPr b="0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 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Times New Roman"/>
              </a:rPr>
              <a:t>Южно-Сахалинска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Ребу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щиеся 6–7-х классов с удовольствием работают с ребусами. Ребус – головоломка, требующая для разгадки сообразительности, фантазии и работы мысли. Ребусы можно использовать для проверки знаний учащихся, как одну из форм домашнего задания или для работы на уроке в групп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 своих детях я стараюсь воспитывать людей искренно и неподдельно любящих нашу хрупкую планет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http://900igr.net/up/datas/244815/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84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Успех в учении – единственный источник   внутренних     сил      ребенка,    рождающих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нергию   для     преодоления    трудностей,  желания учиться»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В.Сухомлин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222268"/>
                </a:solidFill>
                <a:latin typeface="Times New Roman"/>
              </a:rPr>
              <a:t>Цель педагогической деятель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юбая деятельность человека имеет определенную цель. Основная цель работы учителя по активизации познавательной деятельности учащихся – развитие их творческих способносте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428760" y="785880"/>
            <a:ext cx="770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286000" y="1166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ормировать знания, умения, навыки у учащихся, отвечающие обязательному минимуму содержания географического образования в основной школ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ирование и проведение уроков, занятий во внеурочное время, построенных на применении приемов познавательного интереса, направленных на развитие творческих способностей уча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нравственного, эстетического, патриотического, гуманистического, экологического воспитания на уроках географии и во внеурочное 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2714760" y="571680"/>
            <a:ext cx="42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</a:rPr>
              <a:t>Влияние различных типов заданий</a:t>
            </a:r>
            <a:br>
              <a:rPr sz="2000"/>
            </a:br>
            <a:r>
              <a:rPr b="1" lang="ru-RU" sz="2000" spc="-1" strike="noStrike">
                <a:solidFill>
                  <a:srgbClr val="222268"/>
                </a:solidFill>
                <a:latin typeface="Times New Roman"/>
              </a:rPr>
              <a:t>на развитие познавательных процессов учащихся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71720" y="1500120"/>
          <a:ext cx="7500960" cy="5207040"/>
        </p:xfrm>
        <a:graphic>
          <a:graphicData uri="http://schemas.openxmlformats.org/drawingml/2006/table">
            <a:tbl>
              <a:tblPr/>
              <a:tblGrid>
                <a:gridCol w="2558880"/>
                <a:gridCol w="2470320"/>
                <a:gridCol w="24717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психических проце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родук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б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ная речь, памя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ворды, кроссворды, ребу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шление, память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 «термин - понят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е памя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-поиск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 с ошиб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ь,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логических цепо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ое мыш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й объект (по контуру, фрагменту карты, по описанию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еше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е, память, мыш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графически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бражение, логическое мыш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образа терри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е, логическое мыш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Создание проблемных ситу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десь могут быть любые задания, в которых учащийся осознает цель, но не знает способов ее достижения. Он оказывается в положении исследователя, вырабатывает мышление свободное от шаблона, выдвигает новые объяснения, собственные суждения, догадки, гипотезы, творчески подходит к познанию действитель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 задания: Какие климатообразующие факторы определяют климат Европы? Покажите схематически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Технология опорных конспектов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хемы учат выделять главное и основное, приучают отыскивать и устанавливать логические связи, развивают умения самостоятельной работы, индивидуальные способности, память, логическое мышление. Составление логических схем я практикую на уроках 8–11-х классов, что позволяет избежать многословия, учит делать выводы из полученной информации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Дидактические игры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дидактических иг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 половинку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ь слово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равочное бюро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тий лишний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очное путешествие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графические диктанты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орочки из бочки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уристическое агентство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транам и континентам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гадай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«Кто или что лишнее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 определить, какое слово лишнее и объяснить почему (учащиеся должны сгруппировать слова по определенному признак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ренландия, Сицилия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нляндия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орс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Финляндия,  остро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ималаи, Пиренеи¸ Апеннины, Аппалачи, Анды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об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Гоби, го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ур, Донбасс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вейт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Кузбасс, Силез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увейт, угольные бассей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патиты, бокситы, нефть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ал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природный га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ль, полезные ископаем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Panda-07-05-13</cp:lastModifiedBy>
  <dcterms:modified xsi:type="dcterms:W3CDTF">2018-01-08T12:15:38Z</dcterms:modified>
  <cp:revision>51</cp:revision>
  <dc:subject/>
  <dc:title>Слайд 1</dc:title>
</cp:coreProperties>
</file>