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695A-3C8A-41FE-BFA2-E0E2ECB0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8B47-E4C1-417D-BF26-1FB73DFE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4F35-93AC-42FA-9457-EB102F7D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6487-6B55-408B-879E-47819980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16B4-DA8B-4C44-86D7-0B15BEA3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9D99-EE11-4164-BDAB-EC444B61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9347-4074-48E0-8A5C-CB11A2A3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B2D0-54D7-4BDF-99C7-4AD5AD6F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6676-A33B-4944-AF21-9322E182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62FF-7BE4-42B5-BE8B-0060FA23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2FB8-7C3D-44A0-B803-39B3A15A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C418-4A02-41FA-BCC5-2E0BF260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A815-BB2E-4804-9FB2-37A2426C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B6F0-0C4B-4AB9-94C8-201ADAFF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2706-CDC2-400C-99E2-6141C48A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C157-2408-4D0D-8B06-755E2298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4986-A875-44F5-A6CA-DA5E0FDA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326D1-2F48-48EA-8B04-A64C6C82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7ED7E-4FA3-48F5-B9A9-647027CE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ACA4D-AE65-4042-8BBF-23D67770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C36AE-30BC-49C3-A4CF-DF26D43C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F61D6-1564-449C-9EFC-75175632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7307-865E-43D9-82E7-391B173A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AF369-9C6C-42C2-9B5E-6CC96481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FB615-F2A5-4333-AFC0-1339A514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B9BC7-B029-4E77-9FA5-40C3B3E7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7635B-DF02-480D-8F66-1FA739C0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CA5BF-BA4E-4D50-8D98-68C7F6D8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21A37-6C2D-495C-99BC-7A31F017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7A5D4-E006-4EF0-A12B-3C243A80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61781-D0C6-4C24-9C11-1D785B5A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891D7-6472-4757-82DC-C0181308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D1640-D4C5-4E2B-A396-68428258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55D-4DC7-4FC5-946B-19E92943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370C6-9C14-4A4D-97D5-90A4F989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CD3FF-5527-48B8-89BA-B0B90F5D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247EF-5D75-47CF-8D97-E019EF83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1C014-CC4C-49C0-8D81-D260A7CB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CC32F-B1F7-48F6-B465-5275231E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69FF8-516F-49BF-9A6E-1B744FFE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74516-AD0E-4987-821F-AC06F28E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6F0D6-F4E6-4B10-9B3D-8A2C7F4E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7CEA4-7243-4622-ADA4-93E655FD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3780-F493-4673-AE59-443E61E7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C2C9-47FC-486A-B24D-9649431C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1B82-DAD0-4866-AF7B-C18E436B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EDCA-177D-467F-A221-9EA97EAA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BCA2-8496-4151-A37C-0072B653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A617-08DC-4B16-B02A-359270F2D64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43E0-045C-47F9-A1F5-242F90F5E36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64FC-83DD-47C2-8074-2AF03803BA5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C096-3C3F-4442-AE6D-157036E872F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500040" y="1571760"/>
            <a:ext cx="835812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ногофункциона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дактическое пособ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олшебный цвет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Денисова Диа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                                                                             </a:t>
            </a:r>
            <a:r>
              <a:rPr b="1" lang="ru-RU" sz="18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учитель- 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1" lang="ru-RU" sz="18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Муниципальное автономное дошко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                                                                               </a:t>
            </a:r>
            <a:r>
              <a:rPr b="1" lang="ru-RU" sz="18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«Детский сад комбинированного вида № 3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r>
              <a:rPr b="1" lang="ru-RU" sz="18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г. Балаково 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4" descr="P1120219.JPG"/>
          <p:cNvPicPr/>
          <p:nvPr/>
        </p:nvPicPr>
        <p:blipFill>
          <a:blip r:embed="rId1"/>
          <a:stretch/>
        </p:blipFill>
        <p:spPr>
          <a:xfrm>
            <a:off x="857160" y="1641600"/>
            <a:ext cx="7500960" cy="447516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5"/>
          <p:cNvSpPr/>
          <p:nvPr/>
        </p:nvSpPr>
        <p:spPr>
          <a:xfrm>
            <a:off x="214200" y="285840"/>
            <a:ext cx="842976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Правильное употребление имён существительных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И.п. во множественном числ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Дидактическая игра:</a:t>
            </a:r>
            <a:br>
              <a:rPr sz="1700"/>
            </a:br>
            <a:r>
              <a:rPr b="1" lang="ru-RU" sz="17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 «Один - много»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3"/>
          <p:cNvSpPr/>
          <p:nvPr/>
        </p:nvSpPr>
        <p:spPr>
          <a:xfrm>
            <a:off x="2286000" y="6429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Запоминать и правильно выполнять артикуляционные упражнения. Дидактическая игра:</a:t>
            </a:r>
            <a:br>
              <a:rPr sz="1800"/>
            </a:br>
            <a:r>
              <a:rPr b="1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 «Послушный язычок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2" descr="DSC00914.JPG"/>
          <p:cNvPicPr/>
          <p:nvPr/>
        </p:nvPicPr>
        <p:blipFill>
          <a:blip r:embed="rId2"/>
          <a:srcRect l="25643" t="21874" r="5644" b="2085"/>
          <a:stretch/>
        </p:blipFill>
        <p:spPr>
          <a:xfrm>
            <a:off x="1071720" y="1857240"/>
            <a:ext cx="67183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3"/>
          <p:cNvSpPr/>
          <p:nvPr/>
        </p:nvSpPr>
        <p:spPr>
          <a:xfrm>
            <a:off x="2286000" y="642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Учимся подбирать слова - антон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Дидактическая игра:</a:t>
            </a:r>
            <a:br>
              <a:rPr sz="1800"/>
            </a:br>
            <a:r>
              <a:rPr b="1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 «Наоборот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Рисунок 4" descr="DSC00925.JPG"/>
          <p:cNvPicPr/>
          <p:nvPr/>
        </p:nvPicPr>
        <p:blipFill>
          <a:blip r:embed="rId1"/>
          <a:srcRect l="8110" t="0" r="843" b="11592"/>
          <a:stretch/>
        </p:blipFill>
        <p:spPr>
          <a:xfrm>
            <a:off x="642960" y="1571760"/>
            <a:ext cx="79675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3"/>
          <p:cNvSpPr/>
          <p:nvPr/>
        </p:nvSpPr>
        <p:spPr>
          <a:xfrm>
            <a:off x="2286000" y="7142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Дифференциация звуков в слов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Дидактическая игра:</a:t>
            </a:r>
            <a:br>
              <a:rPr sz="1800"/>
            </a:br>
            <a:r>
              <a:rPr b="1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 «Повтори, не ошибись!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Рисунок 4" descr="DSC00953.JPG"/>
          <p:cNvPicPr/>
          <p:nvPr/>
        </p:nvPicPr>
        <p:blipFill>
          <a:blip r:embed="rId1"/>
          <a:srcRect l="8258" t="10604" r="-847" b="10838"/>
          <a:stretch/>
        </p:blipFill>
        <p:spPr>
          <a:xfrm>
            <a:off x="382680" y="1643040"/>
            <a:ext cx="81900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2286000" y="5000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Учимся определять место звука в словах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Дидактическая игра:</a:t>
            </a:r>
            <a:br>
              <a:rPr sz="1800"/>
            </a:br>
            <a:r>
              <a:rPr b="1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 «Где звук?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2" descr="P1120283.JPG"/>
          <p:cNvPicPr/>
          <p:nvPr/>
        </p:nvPicPr>
        <p:blipFill>
          <a:blip r:embed="rId1"/>
          <a:srcRect l="0" t="15492" r="0" b="0"/>
          <a:stretch/>
        </p:blipFill>
        <p:spPr>
          <a:xfrm>
            <a:off x="500040" y="1428840"/>
            <a:ext cx="84297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2286000" y="7142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Соотносим название картинки с бук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Дидактическая игра:</a:t>
            </a:r>
            <a:br>
              <a:rPr sz="1800"/>
            </a:br>
            <a:r>
              <a:rPr b="1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 «Волшебные буквы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2" descr="P1120287.JPG"/>
          <p:cNvPicPr/>
          <p:nvPr/>
        </p:nvPicPr>
        <p:blipFill>
          <a:blip r:embed="rId1"/>
          <a:srcRect l="0" t="21129" r="9652" b="0"/>
          <a:stretch/>
        </p:blipFill>
        <p:spPr>
          <a:xfrm>
            <a:off x="571680" y="1714680"/>
            <a:ext cx="77864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2" descr="P1120231.JPG"/>
          <p:cNvPicPr/>
          <p:nvPr/>
        </p:nvPicPr>
        <p:blipFill>
          <a:blip r:embed="rId1"/>
          <a:stretch/>
        </p:blipFill>
        <p:spPr>
          <a:xfrm>
            <a:off x="357120" y="1357200"/>
            <a:ext cx="8286840" cy="507204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3"/>
          <p:cNvSpPr/>
          <p:nvPr/>
        </p:nvSpPr>
        <p:spPr>
          <a:xfrm>
            <a:off x="2286000" y="35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Складываем из букв слоги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Дидактическая игра:</a:t>
            </a:r>
            <a:br>
              <a:rPr sz="1800"/>
            </a:br>
            <a:r>
              <a:rPr b="1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 «Составь слоги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4" descr="15741340006a4f65da887110ee9a9fe2f9239eb2ea.jpg"/>
          <p:cNvPicPr/>
          <p:nvPr/>
        </p:nvPicPr>
        <p:blipFill>
          <a:blip r:embed="rId1"/>
          <a:srcRect l="0" t="0" r="0" b="3398"/>
          <a:stretch/>
        </p:blipFill>
        <p:spPr>
          <a:xfrm>
            <a:off x="285840" y="285840"/>
            <a:ext cx="83581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1" descr="P1120195.JPG"/>
          <p:cNvPicPr/>
          <p:nvPr/>
        </p:nvPicPr>
        <p:blipFill>
          <a:blip r:embed="rId2"/>
          <a:stretch/>
        </p:blipFill>
        <p:spPr>
          <a:xfrm>
            <a:off x="357120" y="357120"/>
            <a:ext cx="82155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1" descr="P1120197.JPG"/>
          <p:cNvPicPr/>
          <p:nvPr/>
        </p:nvPicPr>
        <p:blipFill>
          <a:blip r:embed="rId1"/>
          <a:stretch/>
        </p:blipFill>
        <p:spPr>
          <a:xfrm>
            <a:off x="428760" y="571680"/>
            <a:ext cx="83581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Прямоугольник 3"/>
          <p:cNvSpPr/>
          <p:nvPr/>
        </p:nvSpPr>
        <p:spPr>
          <a:xfrm>
            <a:off x="785880" y="571680"/>
            <a:ext cx="75722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ногофункциона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идактическое пособ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Волшебный цветок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Вызывает у ребёнка интерес к игре, познава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Компенсирует отставание в речевом развит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Помогает подготовить ребёнка к поступлению в общеобразовательную шко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2"/>
          <a:stretch/>
        </p:blipFill>
        <p:spPr>
          <a:xfrm>
            <a:off x="450720" y="353880"/>
            <a:ext cx="8321760" cy="157824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2"/>
          <p:cNvSpPr/>
          <p:nvPr/>
        </p:nvSpPr>
        <p:spPr>
          <a:xfrm>
            <a:off x="642960" y="357120"/>
            <a:ext cx="81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onstantia"/>
              </a:rPr>
              <a:t>С помощью многофункционального дидактического пособ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onstantia"/>
              </a:rPr>
              <a:t>     </a:t>
            </a:r>
            <a:r>
              <a:rPr b="1" lang="ru-RU" sz="1800" spc="-1" strike="noStrike">
                <a:solidFill>
                  <a:srgbClr val="0d0d0d"/>
                </a:solidFill>
                <a:latin typeface="Constantia"/>
              </a:rPr>
              <a:t>«Волшебный цветок» мож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4" descr="DSC00913.JPG"/>
          <p:cNvPicPr/>
          <p:nvPr/>
        </p:nvPicPr>
        <p:blipFill>
          <a:blip r:embed="rId3"/>
          <a:srcRect l="17507" t="12990" r="18184" b="0"/>
          <a:stretch/>
        </p:blipFill>
        <p:spPr>
          <a:xfrm>
            <a:off x="1071720" y="1714680"/>
            <a:ext cx="707220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могает различать и запоминать основные и оттеночные цвета. 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дактическая игра: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Назови какого цвета лепесток»</a:t>
            </a:r>
            <a:br>
              <a:rPr sz="1600"/>
            </a:b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Рисунок 5" descr="DSC00917.JPG"/>
          <p:cNvPicPr/>
          <p:nvPr/>
        </p:nvPicPr>
        <p:blipFill>
          <a:blip r:embed="rId2"/>
          <a:srcRect l="0" t="0" r="960" b="11668"/>
          <a:stretch/>
        </p:blipFill>
        <p:spPr>
          <a:xfrm>
            <a:off x="166680" y="2000160"/>
            <a:ext cx="869148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3"/>
          <p:cNvSpPr/>
          <p:nvPr/>
        </p:nvSpPr>
        <p:spPr>
          <a:xfrm>
            <a:off x="2286000" y="7858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крепить обобщающие понятия по лексическим темам.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идактическая игра: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«Назови одним словом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5" descr="DSC00939.JPG"/>
          <p:cNvPicPr/>
          <p:nvPr/>
        </p:nvPicPr>
        <p:blipFill>
          <a:blip r:embed="rId2"/>
          <a:srcRect l="6251" t="0" r="3026" b="11294"/>
          <a:stretch/>
        </p:blipFill>
        <p:spPr>
          <a:xfrm>
            <a:off x="436680" y="2143080"/>
            <a:ext cx="849312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3" descr="DSC00943.JPG"/>
          <p:cNvPicPr/>
          <p:nvPr/>
        </p:nvPicPr>
        <p:blipFill>
          <a:blip r:embed="rId1"/>
          <a:srcRect l="0" t="0" r="0" b="10807"/>
          <a:stretch/>
        </p:blipFill>
        <p:spPr>
          <a:xfrm>
            <a:off x="357120" y="1285920"/>
            <a:ext cx="8501040" cy="479592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4"/>
          <p:cNvSpPr/>
          <p:nvPr/>
        </p:nvSpPr>
        <p:spPr>
          <a:xfrm>
            <a:off x="1500120" y="642960"/>
            <a:ext cx="61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Дидактическая игра:</a:t>
            </a:r>
            <a:br>
              <a:rPr sz="1800"/>
            </a:br>
            <a:r>
              <a:rPr b="1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 «Назови одним словом» по лексической теме: « Мебел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3" descr="DSC00934.JPG"/>
          <p:cNvPicPr/>
          <p:nvPr/>
        </p:nvPicPr>
        <p:blipFill>
          <a:blip r:embed="rId1"/>
          <a:srcRect l="0" t="8333" r="0" b="19050"/>
          <a:stretch/>
        </p:blipFill>
        <p:spPr>
          <a:xfrm>
            <a:off x="285840" y="1143000"/>
            <a:ext cx="8659800" cy="480204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4"/>
          <p:cNvSpPr/>
          <p:nvPr/>
        </p:nvSpPr>
        <p:spPr>
          <a:xfrm>
            <a:off x="2286000" y="2142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Закрепление в речи предл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Дидактическая игра:</a:t>
            </a:r>
            <a:br>
              <a:rPr sz="1800"/>
            </a:br>
            <a:r>
              <a:rPr b="1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 «Стрекоза и бабочка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идия Степановна</dc:creator>
  <dc:description/>
  <dc:language>en-US</dc:language>
  <cp:lastModifiedBy>МДОУ 33</cp:lastModifiedBy>
  <dcterms:modified xsi:type="dcterms:W3CDTF">2018-01-08T09:26:02Z</dcterms:modified>
  <cp:revision>50</cp:revision>
  <dc:subject/>
  <dc:title>Слайд 1</dc:title>
</cp:coreProperties>
</file>