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4943-27C4-489A-A829-6C6525A05F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4B4D-815E-4960-99B0-7967B25E6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9386-BA60-4309-9EDE-AF85C5071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60C-D30A-4B83-B079-9E1E817A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42B-E9BE-4E9B-9528-12CF987A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906-0D9C-48F1-A507-F2C42330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32D-4CC5-4359-AC55-002154F8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B60-5DD3-4E9C-AD68-9AC9A478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CA4-C68E-43D3-9FF5-7F7C46B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654E-8A3D-4FE7-ACB8-E16F0A7E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9F06-7F37-4C67-863A-2047E68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432A-5942-401F-A3D4-1CFB7E6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5FDD-67DE-423B-A114-A69D6140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35A-05F1-4235-BDB4-0D5EE27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A9E-0B9C-4EE7-ABAA-E8444C8E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C820-8A14-43C0-B20D-AAAD5D4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FF8-0BDD-4881-A7C4-41BEA07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DD8F-4706-4077-9645-E2F8DCAE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503C-F681-4689-A535-39A2D396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81C8-8B66-4D2B-896C-4D84668A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2804-FD77-4E99-8E8A-DDEA1E6A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FE09-7B7E-41B2-8EDC-D36F6BA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C1AF-817F-4E77-A3D6-06BBCB1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90CA-A98D-4C32-AF33-CDA3AF4C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D77C-DFE1-43C6-95DC-8400FE2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97E-636A-4316-A4F2-89366E7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CFEA-9653-4200-B86A-94B28866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2472-4C2D-4EEC-9FEC-391E1FD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7B6D-E810-43A4-A9D2-847B65F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7C11-2DFB-4196-A2CF-404A83C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792F-C3C7-422D-A5C1-B9F337A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C2CA-0CAD-4006-B17C-A569282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B99E-08A6-44DD-8942-9F4F89A1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4772-2AC0-4A79-8FEE-5953405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8A1F-8208-48A9-B7EA-A4593E68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92C6-9B63-404E-A76C-BE4FF682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3E0-2AE1-4B91-AB47-5FE83F76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C43D-A815-4E1A-82FF-00329FE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CAC0-93CB-4E08-9B8B-B838D9D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95A1-22D7-4891-8C4C-061E1BA3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9A29-90CD-4CC8-8BEB-7ABD0BC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1CE8-8429-4AE0-B411-3E639C9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9D40-A5E6-49B0-93DA-682F85A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4D09-618E-4144-BC05-4F150E81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4547-0DBA-4561-9C5F-A5311E74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3057-14AA-44B5-A61D-06488EA4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79980-2210-4C0C-A0D4-B24D818F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DAB-8CB1-4823-8DB2-95A68AB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1BAC8-0E7E-42AB-B7D7-8A58CA36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B989B-0C66-4CD9-BEC9-6156A86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AF1E-14A2-4059-BFA6-7289ED0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301F-BF9C-4A3C-90E0-FA8AA259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6657-ABA6-4884-8C99-61BB8544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AF04-CE35-4F9E-82E1-8588D89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B3659-8D09-4792-8DAB-7FFB5F5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53184-6B40-44BF-8314-811FD52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F987-D733-440C-9441-182A81A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69EE-75E5-4AD1-B161-46043BC2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F41-9E7C-4094-880A-8D4C6DD6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AC3E-D4AD-4EC9-A469-48392B69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45DE-ECB9-4818-885E-1331C56F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C602-9028-4CC5-B2A8-67106AEE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96FA-4D58-4DDA-B1EC-C0B41C4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6108-CD0C-4E4E-B91E-218C1943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B05CD-4141-4249-A85D-5317AA31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A1A3-013B-4A05-B52E-EE6B08BD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F269-1109-4DED-989C-2DAFAC3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A8B4-F920-4610-B783-B6CD23BB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E3961-A138-400A-9852-CF5ED6F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64F-32B6-4337-ACB3-938D96AA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E56D0-D2B9-42E3-833E-63978A57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3F02-F9D4-44D1-A744-7A07F7BE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4760-B187-4FC4-B54B-0727491D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CC80-28CF-4F3A-BE63-03BE6580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CAF02-4167-44C8-86D6-560F03EB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78912-704E-4ECC-9034-447FDEF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FCE9-EC47-4EC7-B9C1-3BFB27E7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20A4-7F42-47DC-8095-C991D643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8A8EA-98CD-4636-B5DA-B71B9C27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FF64-F9C3-4350-BA03-F83D4925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FAD-B3BB-4BF0-9921-90C6BF22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4754-F665-4F77-B0F0-A05A078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16B2-D0D1-4FD3-897E-58B2791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1EFDB-5A65-4329-8E90-2BB393D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45CF-8210-4C3C-AEF0-A5BEFD48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0C98-3FBA-42CD-847A-5795DEEE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42A-09B9-44CC-A6DF-6BDF3F1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23C5-0695-402E-A9C8-1F8A406FAAE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99D-5678-4BFD-BADD-6443CA636D3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CF9-B9C0-41B7-A990-4679BF03B35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FBE-1419-4450-83EA-76AFB802E35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4D46-55CD-4FFE-B9C2-C599598F90C6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0E5-A085-4CC6-9BF0-5FC628B7B64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8A5-0EE5-4D42-B6A9-D7C7563C0BF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6" descr=""/>
          <p:cNvPicPr/>
          <p:nvPr/>
        </p:nvPicPr>
        <p:blipFill>
          <a:blip r:embed="rId1"/>
          <a:stretch/>
        </p:blipFill>
        <p:spPr>
          <a:xfrm>
            <a:off x="838080" y="179064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000"/>
            <a:ext cx="10515600" cy="13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Calibri Light"/>
              </a:rPr>
              <a:t>“</a:t>
            </a:r>
            <a:r>
              <a:rPr b="1" i="1" lang="ru-RU" sz="4000" spc="-1" strike="noStrike">
                <a:solidFill>
                  <a:srgbClr val="404040"/>
                </a:solidFill>
                <a:latin typeface="Calibri Light"/>
              </a:rPr>
              <a:t>Множества и операции над ними.»</a:t>
            </a:r>
            <a:br>
              <a:rPr sz="32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83240" y="4524120"/>
            <a:ext cx="3008520" cy="180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ученика МБОУ СОШ №2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етрыкина Павл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Исаева Ольга Алексеев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Способы описания множеств: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360" y="2001600"/>
            <a:ext cx="10810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.Перечисление(характерно для конечных множеств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2.Характеристическое свойство(Общее для конечных и бесконечных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Свойство общее для всех элементов множества, но которого нет у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элементов, не входящих в множество.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апример: А{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|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&gt;-2,}(бесконечное множество чисел, больших -2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{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|5&gt;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&gt;2}(бесконечное множество чисел, больших 2, но меньших 5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{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|10&gt;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&gt;0,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∈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}(конечное множество натуральных чисел меньших 10, но больших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11896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Calibri Light"/>
              </a:rPr>
              <a:t>Основная часть </a:t>
            </a:r>
            <a:br>
              <a:rPr sz="6000"/>
            </a:b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4360" y="2374560"/>
            <a:ext cx="108108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2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Счетность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4360" y="2374560"/>
            <a:ext cx="108108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Множество СЧЕТНОЕ, если можно установить соответствие между его элементами и элементами множества натуральных чисел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K – счетное множество, следовательно, K∪{a} также будет счетным множество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K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 – счетные множества, следовательно, К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∪K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 будет счетным множество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K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K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K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K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… – счетные множества, следовательно, объединенное множество также будет счетны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6" name="Рисунок 6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Рациональные и алгебраические числа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4360" y="1949040"/>
            <a:ext cx="10810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Рассмотрим рациональные числа. Это множество чисел, представимых в виде m/n, где m – целое число, а n – натуральное. Таким образом, рациональные числа представляют собой счетное число счетных множеств и при объединении также станут счетным множество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лгебраические числа – это множество корней многочленов с целыми коэффициентами. Будет ли это множество счетным? Множества корней многочленов разных степеней являются счетными множествами, а значит, результат их объединения также будет счетным множеством. Из этого следует, что множество алгебраических чисел (𝔸) – это счетное множество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Рисунок 6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7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"/>
              </a:rPr>
              <a:t>Задача о покрытии множества.</a:t>
            </a:r>
            <a:br>
              <a:rPr sz="4800"/>
            </a:b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Calibri"/>
              </a:rPr>
              <a:t>В качестве примера задачи о покрытии множества можно привести следующую проблему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редставим себе, что для выполнения какого-то задания необходим некий набор навыков S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; D; T; E; G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. Также есть группа людей, владеющих некоторыми из этих навыков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– (S, T),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(D, T)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(E, G)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(D, S, E)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(D)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. Необходимо сформировать минимальную группу для выполнения задания, включающую в себя носителей всех необходимых навыков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Решение задач с помощью кругов Эйлера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4360" y="2374560"/>
            <a:ext cx="108108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ЭЙЛЕР Леонард (1707-1783), российский ученый — математик, механик, физик и астроном. 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596880" y="3287880"/>
            <a:ext cx="2600280" cy="1788840"/>
          </a:xfrm>
          <a:prstGeom prst="rect">
            <a:avLst/>
          </a:prstGeom>
          <a:ln w="0">
            <a:noFill/>
          </a:ln>
        </p:spPr>
      </p:pic>
      <p:sp>
        <p:nvSpPr>
          <p:cNvPr id="369" name="Объект 5"/>
          <p:cNvSpPr/>
          <p:nvPr/>
        </p:nvSpPr>
        <p:spPr>
          <a:xfrm>
            <a:off x="684360" y="2374920"/>
            <a:ext cx="10810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ЭЙЛЕР Леонард (1707-1783), российский ученый — математик, механик, физик и астроном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Рисунок 2" descr=""/>
          <p:cNvPicPr/>
          <p:nvPr/>
        </p:nvPicPr>
        <p:blipFill>
          <a:blip r:embed="rId2"/>
          <a:stretch/>
        </p:blipFill>
        <p:spPr>
          <a:xfrm>
            <a:off x="3740040" y="3333600"/>
            <a:ext cx="4295880" cy="2506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7" descr=""/>
          <p:cNvPicPr/>
          <p:nvPr/>
        </p:nvPicPr>
        <p:blipFill>
          <a:blip r:embed="rId3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Решение задач с помощью кругов Эйлера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4360" y="2374560"/>
            <a:ext cx="108108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Расположите 4 элемента в двух множествах так, чтобы в каждом из них было по 3 элемент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Множества А и В содержат соответственно 5 и 6 элементов, а множество А ∩ В – 2 элемента. Сколько элементов в множестве А U В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аждая семья, живущая в нашем доме, выписывает или газету, или журнал, или и то и другое вместе. 75 семей выписывают газету, а 27 семей выписывают журнал и лишь 13 семей выписывают и журнал, и газету. Сколько семей живет в нашем доме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5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"/>
              </a:rPr>
              <a:t>Фракталы</a:t>
            </a:r>
            <a:br>
              <a:rPr sz="4800"/>
            </a:b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жно изобразить границу множества на плоскости. Иногда в результате получаются фракта́лы (лат. fractus — дроблёный, сломанный, разбитый) — математическое множество, обладающее свойством самоподобия. Например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аница множества Мандельброта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 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Множество Жюли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9" name="Рисунок 7" descr="http://nado.znate.ru/images/ukbase_2_1535182555_23380.jpg"/>
          <p:cNvPicPr/>
          <p:nvPr/>
        </p:nvPicPr>
        <p:blipFill>
          <a:blip r:embed="rId1"/>
          <a:stretch/>
        </p:blipFill>
        <p:spPr>
          <a:xfrm>
            <a:off x="1096920" y="3225960"/>
            <a:ext cx="3965760" cy="29746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8" descr="http://nado.znate.ru/images/ukbase_2_1535241883_40758.jpg"/>
          <p:cNvPicPr/>
          <p:nvPr/>
        </p:nvPicPr>
        <p:blipFill>
          <a:blip r:embed="rId2"/>
          <a:stretch/>
        </p:blipFill>
        <p:spPr>
          <a:xfrm>
            <a:off x="6126120" y="3225960"/>
            <a:ext cx="3905280" cy="29415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6" descr=""/>
          <p:cNvPicPr/>
          <p:nvPr/>
        </p:nvPicPr>
        <p:blipFill>
          <a:blip r:embed="rId3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7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"/>
              </a:rPr>
              <a:t>Зачем нужно изучать множества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504440" y="1310760"/>
            <a:ext cx="965052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Фракталами хорошо описываются такие процессы и явления, касающиеся механики жидкостей и газов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динамика и турбулентность сложных поток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моделирование пламени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ристые материалы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моделирование популяций;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роцессы внутри организма, например, биение сердца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фрактальные антенны.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Рисунок 4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95280" y="68400"/>
          <a:ext cx="11242800" cy="6729120"/>
        </p:xfrm>
        <a:graphic>
          <a:graphicData uri="http://schemas.openxmlformats.org/drawingml/2006/table">
            <a:tbl>
              <a:tblPr/>
              <a:tblGrid>
                <a:gridCol w="331920"/>
                <a:gridCol w="9715320"/>
                <a:gridCol w="1195560"/>
              </a:tblGrid>
              <a:tr h="73044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ше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62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ы считаете, хорошо ли вы знаете тему «множества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Сред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лох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3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ются ли операции над множествами от обычных математических? Если да, то наскольк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, с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Да, нем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методы решения задач на множества вы знает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танда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Решаю на основе лог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Затрудняюсь ответи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жете ли вы четко сформулировать ваш способ реш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Рисунок 3" descr=""/>
          <p:cNvPicPr/>
          <p:nvPr/>
        </p:nvPicPr>
        <p:blipFill>
          <a:blip r:embed="rId1"/>
          <a:stretch/>
        </p:blipFill>
        <p:spPr>
          <a:xfrm>
            <a:off x="11588760" y="109440"/>
            <a:ext cx="814320" cy="7113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11860200" y="216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5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211200" cy="1170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11"/>
          <p:cNvSpPr/>
          <p:nvPr/>
        </p:nvSpPr>
        <p:spPr>
          <a:xfrm>
            <a:off x="0" y="1152360"/>
            <a:ext cx="12192120" cy="1861200"/>
          </a:xfrm>
          <a:prstGeom prst="rect">
            <a:avLst/>
          </a:prstGeom>
          <a:solidFill>
            <a:srgbClr val="bd582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ная раб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«Множества и операции над ним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Прямоугольник 13" descr=""/>
          <p:cNvPicPr/>
          <p:nvPr/>
        </p:nvPicPr>
        <p:blipFill>
          <a:blip r:embed="rId2"/>
          <a:stretch/>
        </p:blipFill>
        <p:spPr>
          <a:xfrm>
            <a:off x="8663040" y="4363920"/>
            <a:ext cx="3541680" cy="19576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4"/>
          <p:cNvSpPr/>
          <p:nvPr/>
        </p:nvSpPr>
        <p:spPr>
          <a:xfrm>
            <a:off x="0" y="6273720"/>
            <a:ext cx="12192120" cy="580680"/>
          </a:xfrm>
          <a:prstGeom prst="rect">
            <a:avLst/>
          </a:prstGeom>
          <a:solidFill>
            <a:srgbClr val="bd582c"/>
          </a:solidFill>
          <a:ln w="15840">
            <a:solidFill>
              <a:srgbClr val="8a3e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Лебедя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20240" y="0"/>
            <a:ext cx="11912760" cy="652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жение – Пересечение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ерация пересечение (обозн. ⋂) – при выполнении для множеств А и В,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учаем множество С, содержащее элементы, принадлежащие и А, и В одновременно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жение – Объединение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ерация объединение (обозн. ∪) – при выполнении для множеств А и В, получаем множество С, содержащее элементы, принадлежащие или А, или В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вод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ифметическое действие  «Сложение» интерпретируется операциями «Пересечение» и «Объединение», с различными результатами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 есть имеет место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азлич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читание – Разность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ерация разность (обозн. \) – при выполнении для множеств А и В, получаем множество С, содержащее элементы А, которые не принадлежат В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вод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ифметическое действие «Вычитание»  схоже с операцией «Разность»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 есть имеем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ходство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авнение – Надмножества и подмножеств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 ⊂ (Является подмножеством) – для множеств А и В означает: «каждый элемент из   также является элементом из  »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 ⊃ (Является надмножеством) – для множеств А и В означает: «каждый элемент из   также является элементом из  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вод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авнение в арифметике аналогичны знакам «Надмножество» и «Подмножество». То есть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ходны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1" name="Рисунок 3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0" y="26640"/>
            <a:ext cx="12192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Выв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Из опроса следует, что мои сверстники очень мало знают о множествах. А решение задач с ними вызывает затруднения. Респонденты не смогли дать четкое объяснение способа решения. Решения были названы интуитивными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Исследования операций показали, что 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ействия над множествами и обычные математические сходны, но не идентич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Рисунок 3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4"/>
          <p:cNvSpPr/>
          <p:nvPr/>
        </p:nvSpPr>
        <p:spPr>
          <a:xfrm>
            <a:off x="3381480" y="3366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казательство гипот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7" name="Диаграмма 6"/>
          <p:cNvGraphicFramePr/>
          <p:nvPr/>
        </p:nvGraphicFramePr>
        <p:xfrm>
          <a:off x="6626160" y="1717560"/>
          <a:ext cx="5526000" cy="43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6160" y="1717560"/>
                    <a:ext cx="552600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Диаграмма 12"/>
          <p:cNvGraphicFramePr/>
          <p:nvPr/>
        </p:nvGraphicFramePr>
        <p:xfrm>
          <a:off x="81000" y="1793880"/>
          <a:ext cx="6566040" cy="41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0" name="Диаграмма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1793880"/>
                    <a:ext cx="65660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1" name="Рисунок 15" descr=""/>
          <p:cNvPicPr/>
          <p:nvPr/>
        </p:nvPicPr>
        <p:blipFill>
          <a:blip r:embed="rId5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6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74760" y="395280"/>
            <a:ext cx="11532960" cy="575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ключение.</a:t>
            </a:r>
            <a:br>
              <a:rPr sz="27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я гипотеза подтвердилась полностью.  Арифметические действия  отличаются от операций над множествами, однако, основаны на них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процессе работы были рассмотрены следующие вопросы: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новные положения теории множеств ( определение множества, конечные и бесконечные множества, обозначения множеств, способы их задания, подмножество);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глядные примеры (помогли мне лучше усвоить понятия). 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настоящее время теория множеств является одной из основ различных областей математики ( функциональный анализ, топология, общая алгебра). Ведутся глубокие исследования и в самой теории множеств. Эти исследования связаны с самыми основами математики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Элементами теории множеств могут быть самые разнообразные предметы: виды и подвиды животных, растений; буквы; атомы; числа; функции; точки; углы и т.д. Отсюда с самого начала ясна чрезвычайная широта теории множеств и ее прикладное значение к очень многим областям знаний (математика, биология, физика, экология). Теория множеств является истоком для многих современных наук,. Поэтому так важно усвоить тему «Множества» в школьном курсе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я работа может служить учебным пособием на уроках математики, связанных с темой “множества”.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11580840" y="206280"/>
            <a:ext cx="5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93640"/>
            <a:ext cx="3200400" cy="570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ракталы в природ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ктал “папоротник”, исчисленный с использованием системы итерационных функц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лизительные фракталы можно легко найти в природе. Эти объекты имеют структуру фрактала при больших, но ограниченных диапазонах увеличений. В качестве примеров можно назвать облака, снежинки, горы, сети рек, и системы кровеносных сосудов.</a:t>
            </a:r>
            <a:br>
              <a:rPr sz="3200"/>
            </a:b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07" name="Рисунок 18" descr="https://upload.wikimedia.org/wikipedia/commons/6/69/Bransleys_fern.png"/>
          <p:cNvPicPr/>
          <p:nvPr/>
        </p:nvPicPr>
        <p:blipFill>
          <a:blip r:embed="rId1"/>
          <a:stretch/>
        </p:blipFill>
        <p:spPr>
          <a:xfrm>
            <a:off x="6130800" y="519120"/>
            <a:ext cx="36957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93280"/>
            <a:ext cx="3200400" cy="474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Капуста Romanesco broccoli демонстрирует очень мелкие природные фракталы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09" name="Рисунок 13" descr="Файл:Fractal Broccoli.jpg"/>
          <p:cNvPicPr/>
          <p:nvPr/>
        </p:nvPicPr>
        <p:blipFill>
          <a:blip r:embed="rId1"/>
          <a:stretch/>
        </p:blipFill>
        <p:spPr>
          <a:xfrm>
            <a:off x="4800600" y="925560"/>
            <a:ext cx="64929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93640"/>
            <a:ext cx="3200400" cy="37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 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Высоковольтный разряд в блоке акрила создает фрактальный рисунок Лихтенберга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11" name="Рисунок 16" descr="Файл:Lichtenberg figure in block of Plexiglas.jpg"/>
          <p:cNvPicPr/>
          <p:nvPr/>
        </p:nvPicPr>
        <p:blipFill>
          <a:blip r:embed="rId1"/>
          <a:stretch/>
        </p:blipFill>
        <p:spPr>
          <a:xfrm>
            <a:off x="4883040" y="387360"/>
            <a:ext cx="64436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93640"/>
            <a:ext cx="3200400" cy="31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Кривая (снежинка) Госпера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13" name="Рисунок 15" descr="Кривая (снежинка) Госпера"/>
          <p:cNvPicPr/>
          <p:nvPr/>
        </p:nvPicPr>
        <p:blipFill>
          <a:blip r:embed="rId1"/>
          <a:stretch/>
        </p:blipFill>
        <p:spPr>
          <a:xfrm>
            <a:off x="4363920" y="1496880"/>
            <a:ext cx="7419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9120" y="144612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Фрактальная геометрия природы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15" name="Рисунок 43" descr="http://bgconv.com/pars_docs/refs/150/149571/149571_html_m4a2d07a3.png"/>
          <p:cNvPicPr/>
          <p:nvPr/>
        </p:nvPicPr>
        <p:blipFill>
          <a:blip r:embed="rId1"/>
          <a:stretch/>
        </p:blipFill>
        <p:spPr>
          <a:xfrm>
            <a:off x="4373640" y="603360"/>
            <a:ext cx="71816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4000" spc="-1" strike="noStrike">
                <a:solidFill>
                  <a:srgbClr val="404040"/>
                </a:solidFill>
                <a:latin typeface="Calibri"/>
                <a:ea typeface="Calibri"/>
              </a:rPr>
              <a:t>Выбор темы исследования.</a:t>
            </a:r>
            <a:br>
              <a:rPr sz="16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4360" y="2503440"/>
            <a:ext cx="1081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ждый человек встречается с множествами, иногда сам того не зная. Множество простых, составных чисел, остроугольных треугольников, объемных фигур. Эти понятные и простые множества всегда с нами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 как много знают о множествах ученики моей школы?  Считают ли они эту тему ненужной или скучной? Знают ли они, где множества находят себе применение? На эти и другие вопросы я хочу ответить своей работо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Цель исследования.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4360" y="2374560"/>
            <a:ext cx="108108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ыяснить что же такое множества, научиться производить операции над ними, изучить специальные знаки, используемые в этой области, а также научиться решать задачи с множествам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Определить степень знаний учеников моей школы по этой теме,  их отношение к не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4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6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  <a:ea typeface="Calibri"/>
              </a:rPr>
              <a:t>Задачи исследования.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4360" y="2374560"/>
            <a:ext cx="1081080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. Проанализировать литературу по данной теме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2. Выяснить, какие способы решения подобных задач существуют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3. Рассмотреть популярные задачи о множествах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4. Научиться решать задачи с множествами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8" name="Рисунок 6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7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Гипотеза исследования.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4360" y="1914120"/>
            <a:ext cx="10810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lnSpc>
                <a:spcPct val="87000"/>
              </a:lnSpc>
              <a:spcBef>
                <a:spcPts val="1199"/>
              </a:spcBef>
              <a:spcAft>
                <a:spcPts val="799"/>
              </a:spcAft>
              <a:buClr>
                <a:srgbClr val="e4831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imes New Roman"/>
                <a:ea typeface="Calibri"/>
              </a:rPr>
              <a:t>ученики моей школы мало знают о множествах, их применении и решении задач с ними;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  <a:spcAft>
                <a:spcPts val="799"/>
              </a:spcAft>
              <a:buClr>
                <a:srgbClr val="e4831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imes New Roman"/>
                <a:ea typeface="Calibri"/>
              </a:rPr>
              <a:t>решения задач на множества основывается на логике;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  <a:spcAft>
                <a:spcPts val="799"/>
              </a:spcAft>
              <a:buClr>
                <a:srgbClr val="e4831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imes New Roman"/>
                <a:ea typeface="Calibri"/>
              </a:rPr>
              <a:t> </a:t>
            </a:r>
            <a:r>
              <a:rPr b="0" lang="ru-RU" sz="3400" spc="-1" strike="noStrike">
                <a:solidFill>
                  <a:srgbClr val="404040"/>
                </a:solidFill>
                <a:latin typeface="Times New Roman"/>
                <a:ea typeface="Calibri"/>
              </a:rPr>
              <a:t>операции над множествами не отличаются от обычных математических операций.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2" name="Рисунок 6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Актуализация знаний.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4360" y="1897200"/>
            <a:ext cx="108108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– совокупность объектов, объединенных по какому-нибудь признаку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а обозначают большими буквами латинского алфавита: А, В, С, D и т. д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6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Актуализация знаний.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4360" y="1897200"/>
            <a:ext cx="1081080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значения некоторых числовых множеств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 – множество натуральных чисел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 – множество целых чисел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 – множество рациональных чисел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- множество иррациональных чисел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7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 – множество действительных чисел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0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6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1081080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Актуализация знаний.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64680" y="1931760"/>
            <a:ext cx="1162044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alibri"/>
              </a:rPr>
              <a:t>Виды множеств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Равные множества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{А, Е, Ё, И, О, У, Ы, Э, Ю, Я} = {Э, Е, А, Ё, Я, О, Ы, И, У, Ю}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онечные множества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 = {2; 3; 5; 7; 11; 13}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Бесконечные множества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{1; 4; 9; 16; 25; …}; {10; 20; 30; 40; 50; …}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устое множество (обозначается символом Ø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Счетные/Несчетные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Рисунок 5" descr=""/>
          <p:cNvPicPr/>
          <p:nvPr/>
        </p:nvPicPr>
        <p:blipFill>
          <a:blip r:embed="rId1"/>
          <a:stretch/>
        </p:blipFill>
        <p:spPr>
          <a:xfrm>
            <a:off x="11377440" y="100080"/>
            <a:ext cx="814680" cy="7110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11647440" y="1681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14:44:13Z</dcterms:created>
  <dc:creator>Павел Петрыкин</dc:creator>
  <dc:description/>
  <dc:language>en-US</dc:language>
  <cp:lastModifiedBy>Andrey Petrykin</cp:lastModifiedBy>
  <dcterms:modified xsi:type="dcterms:W3CDTF">2016-03-25T19:48:20Z</dcterms:modified>
  <cp:revision>46</cp:revision>
  <dc:subject/>
  <dc:title>Проектная работа  “Множества, операции над ними, решение задач с ними.”</dc:title>
</cp:coreProperties>
</file>