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514-D1DD-4D24-9890-B26866EC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05B-6BEB-4B7B-92E8-06F5136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FE3-6D18-4E55-A164-6115F705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360-7D98-4380-BEF8-E2FF5ECC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C696-C03C-45B8-8BD2-2BFDB79B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2285-FE9C-411F-A5A4-4712F01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A3A0-8B0D-4A7A-B767-23EB330B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8932-31A4-4882-A4BF-955C629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B921-81D1-454E-B98D-ED1F3848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E4DE-57C1-4ABA-B42C-5E2EFE8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1E14-A658-4958-8451-D1FF7E4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ABE-4607-4449-9585-6515EFC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C3EC-58EE-4785-AEF5-E374B10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DF70-DDC4-4B6B-980C-9095073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DE54-45B7-4F03-9BE0-EEA9C886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66B1-A0AB-43D8-B212-EC7E4BB5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26A0-8186-41C6-989B-B153B6C9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344-AB3C-4FF0-B77C-27B3AD5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CF6-937B-46C0-992C-37DAE3F4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2F9-8D3E-4532-9378-74D73F54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5E8-903B-4A9D-86B0-F0829FA7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317-54F6-4303-813C-68E3010F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DA9-2B01-47BD-87BC-46F7B8F8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F9D-4383-42E9-912B-69C9138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415B-95C1-4E45-9291-5CDCFF9B847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7C8D-2CA1-47CB-BB24-23E9456FD5C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02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y Town. Its nature and seasons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796000" y="907920"/>
            <a:ext cx="3348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Krikun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Evgeniy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9 “a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                                                       </a:t>
            </a: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The tutor</a:t>
            </a:r>
            <a:r>
              <a:rPr b="0" lang="ru-RU" sz="4000" spc="-1" strike="noStrike">
                <a:solidFill>
                  <a:srgbClr val="ffcc00"/>
                </a:solidFill>
                <a:latin typeface="Snap IT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Bokhan.G.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6012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610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Yugorsk at nigh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58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Town Fountain at night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nature of my town is various.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Magnificent winter’s landscape’s…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8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mmer’s pictures…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utumn and spring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8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43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y town is  so beautiful in summer and winter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2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7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7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 like my town very much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d  I enjoy its nature  greatly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600"/>
                            </p:stCondLst>
                            <p:childTnLst>
                              <p:par>
                                <p:cTn id="24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sight of the Sanatorium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 summer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03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54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central square in rai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Town Park in summe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610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TTG-building in summer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t night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28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 the eve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572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d at nigh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104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ur church at night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1:36:38Z</dcterms:created>
  <dc:creator>Юля</dc:creator>
  <dc:description/>
  <dc:language>en-US</dc:language>
  <cp:lastModifiedBy>*</cp:lastModifiedBy>
  <dcterms:modified xsi:type="dcterms:W3CDTF">2017-02-05T16:19:46Z</dcterms:modified>
  <cp:revision>52</cp:revision>
  <dc:subject/>
  <dc:title>Nature of my town </dc:title>
</cp:coreProperties>
</file>