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06D9C-02E5-4E40-862D-9ADBF67E93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DA3036-CE12-4ACD-AB7E-20218BB32F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442C-CF7C-4E6B-9751-2E96D720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6DA6-32CD-4B84-891B-38F1D989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DDC9-5908-4840-B092-B1FCFA09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1DF9-34F0-4A23-9FEB-B012B6B4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289C-608A-4DBF-A7C0-0DD37F9F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2ABE-3CD9-4B1A-AFB9-1194D408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B15A-4BEF-4FCB-B8C3-18FF7A56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FCF9-6425-46E5-896C-70300802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006E-CD3C-4142-8D77-A6CE6876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052B-65EC-417A-866F-B70FB4FE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3C68-2201-4271-85F7-29B884B8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31D-3B1E-4EE5-B122-CE637A68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969D-54C8-4ABB-8620-518464F9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E641-354D-4669-B8B8-97E35CEE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3B83-1C7C-42C5-A8D2-778E2757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2799-8B6D-4E8D-95B9-AC7EA80C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20A7-EA30-42A9-A012-DD83139C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3CF96-848B-461C-BD5E-53DC070E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45542-D8E0-4540-B296-86E57C93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03492-EA68-4CDE-AB1A-F8DBAF9F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DA90D-63E7-4DE4-9447-05464E6B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A4971-3F92-4B1B-A2EE-C01F4BFC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BF0F-EBE8-49E1-9E9C-DFC51ABE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D5437-F32A-40AB-A44C-6F9603A9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BE695-9CD6-477A-AC4F-F2E09659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F4F0F-0C15-46B1-B1D4-5A164FC3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8305F-CDF0-4371-A61D-E481CDD0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4B0F9-34DA-44D4-8C4D-31611267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97F0B-9B7B-4489-9046-C7762E59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116CB-E2C0-4E04-A927-DCC2CAE9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7CFCE-9D05-439D-9FFA-22BBF865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F64C4-0F3F-44D1-81F7-36D58E1B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19640-9CDD-4299-A459-F5643034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D2F6-6027-4A86-9FEF-68C0079F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34809-0D0F-4D95-B3EC-34538E6A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D9FC0-DA18-491E-91C5-EB567400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99A68-B164-46B3-AEA4-1815AE19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3FBA8-ACE6-4D3A-9E8A-6FD9B74D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C8570-0461-4DA8-9572-5CC554ED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7891D-A9FD-4352-AE0C-22249ABC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74C3F-13A0-48AB-9114-5D087133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7DD70-0740-4287-8FA7-B65E5F3E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B9DF7-46E4-4B2B-84E0-A4F994EB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9091A-BF9E-41A0-8797-125DB5CF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F891-EE66-4102-A98C-11B41C0A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51AEF-5804-479A-AEEF-B9BB509E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47949-814B-4C75-8845-029061B2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0D9EB-21FE-4923-9625-1AFBB16B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5EDFF-B1D3-4E0C-872C-7078D596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174CF-C9A2-45A9-BEDB-C85D10CE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3F1BA-9061-4F6A-B99A-C950AF16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D2B2D-2F5B-41DE-B481-9B5607D2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84219-A698-4754-910A-1F4953C0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7BA15-2C4E-429E-A19F-9B7DDB35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D36A3-CC88-49AA-9E13-87E1FA24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E6EE-950E-487B-A78D-02BA965B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4189C-220B-4D24-A69D-34F75A53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D6165-8B66-47A6-B125-19AEEB63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58C62-749F-4093-BEDF-BC53D6BB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F13D8-E0D0-4988-99DD-808F60C7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B1DD7-D321-4F46-A6A6-E89AE2C0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7BA97-B0DD-4FAB-8A9E-577562FA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08D0B-4518-467E-89F4-18D2B3C1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0AD72-AB46-4434-A9E5-69947E00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F2A2F-2B2A-4309-8E8C-A9B9D797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18CB4-7C01-41F4-84C3-DEEB7EBA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D073-BF8F-4566-A43C-F16AAB8D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A7499-F88D-4772-A551-B395ED7D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96B8D-43E3-44F4-9276-D9D86E23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AA5A2-C67F-4384-AF6C-17D45056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8B5DE-B5A4-4BE6-9CB7-7335956D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E4C1D-2DA0-49F4-93EF-12DE8FE0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EEB4F-037A-4B8B-BC93-7D6D3674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6E7B5-3464-4593-B70A-C910162E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B07EA-34C6-434D-AE37-82E4887B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0B045-986E-4919-BBF4-8F89C32D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7C61D-6892-4C34-ACA3-662F78D4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8E78-6DA4-4B93-A6E0-211ACCD3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153E6-6C6D-4865-BE5B-A6A7BAC7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46E48-797B-49B7-8E7B-43E3D9F3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87C84-A948-4B8E-A252-964A2E70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91349-BFFB-479F-A4C6-BC8E4BA3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56E4A-22F2-4150-A6B6-40B2BB01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FA734-BE0E-45FF-AB04-A9B6FF38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871B0-3D51-4A89-8349-6F0E1FCD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AE19E-EA73-4097-B3A0-6829A946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E6352-FDDE-4895-8300-C761426A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A6EB9-25D6-4D51-83F9-3EF1C8FE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07D2-7740-4C84-8632-C49EC86C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4B07E-77FC-499D-B58B-183BD715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D9A6A-A6A0-4BCC-B3FD-1C5B43CF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0C859-F570-4725-BE4E-3057EA2D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6F02F-FAC8-4B47-8CCE-A27EF21C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3389B-440F-4327-A026-EE95279E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21075-2833-4C3A-AF4B-6C020E12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0535D-DFFA-47AE-87C9-48BCF771D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8C0EB-C2D7-4DC9-8639-50BD04FAA9B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648135-5FC1-43B6-AF99-56B214BE6DB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D9FEFC-3C5A-42C8-AF0F-8063FB3FEF5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F3B063-624F-450E-928B-5B6E63F349A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11A2FD-EBEF-4371-86B2-CBD5F486DA3E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D891BB-F6E4-448F-88D7-DBD48F30D5F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674B31-BD71-4056-9FB9-C75DF4FDF2D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617014-9E3A-4647-8273-775A31786C9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455920" y="590400"/>
            <a:ext cx="6192720" cy="354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262626"/>
                </a:solidFill>
                <a:latin typeface="Calibri Light"/>
              </a:rPr>
              <a:t>Гласные и согласные звуки и буквы.</a:t>
            </a:r>
            <a:endParaRPr b="0" lang="en-US" sz="7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2488680" y="4238280"/>
            <a:ext cx="61470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637052"/>
              </a:solidFill>
              <a:latin typeface="Calibri Light"/>
            </a:endParaRPr>
          </a:p>
        </p:txBody>
      </p:sp>
    </p:spTree>
  </p:cSld>
  <p:transition spd="slow">
    <p:checker dir="vert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8400" y="107136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Calibri Light"/>
              </a:rPr>
              <a:t>Назовите сходство и отличие.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600200"/>
            <a:ext cx="440208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200" spc="-1" strike="noStrike">
                <a:solidFill>
                  <a:srgbClr val="404040"/>
                </a:solidFill>
                <a:latin typeface="Century Schoolbook"/>
              </a:rPr>
              <a:t>  </a:t>
            </a:r>
            <a:r>
              <a:rPr b="0" i="1" lang="ru-RU" sz="17200" spc="-1" strike="noStrike">
                <a:solidFill>
                  <a:srgbClr val="404040"/>
                </a:solidFill>
                <a:latin typeface="Century Schoolbook"/>
              </a:rPr>
              <a:t>а о</a:t>
            </a:r>
            <a:endParaRPr b="0" lang="en-US" sz="17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214200" y="378612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637052"/>
                </a:solidFill>
                <a:latin typeface="Verdana"/>
              </a:rPr>
              <a:t>Как назвать одним слово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250920" y="492912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Какие звуки обозначают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4859280" y="2276640"/>
            <a:ext cx="374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entury Schoolbook"/>
              </a:rPr>
              <a:t>[</a:t>
            </a:r>
            <a:r>
              <a:rPr b="0" lang="ru-RU" sz="8800" spc="-1" strike="noStrike">
                <a:solidFill>
                  <a:srgbClr val="000000"/>
                </a:solidFill>
                <a:latin typeface="Century Schoolbook"/>
              </a:rPr>
              <a:t>а о</a:t>
            </a:r>
            <a:r>
              <a:rPr b="0" lang="en-US" sz="8800" spc="-1" strike="noStrike">
                <a:solidFill>
                  <a:srgbClr val="000000"/>
                </a:solidFill>
                <a:latin typeface="Century Schoolbook"/>
              </a:rPr>
              <a:t>]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Прямоугольник 6" descr=""/>
          <p:cNvPicPr/>
          <p:nvPr/>
        </p:nvPicPr>
        <p:blipFill>
          <a:blip r:embed="rId1"/>
          <a:stretch/>
        </p:blipFill>
        <p:spPr>
          <a:xfrm>
            <a:off x="1573200" y="-30240"/>
            <a:ext cx="5632560" cy="1457280"/>
          </a:xfrm>
          <a:prstGeom prst="rect">
            <a:avLst/>
          </a:prstGeom>
          <a:ln w="0">
            <a:noFill/>
          </a:ln>
        </p:spPr>
      </p:pic>
      <p:sp>
        <p:nvSpPr>
          <p:cNvPr id="363" name="Прямая соединительная линия 8"/>
          <p:cNvSpPr/>
          <p:nvPr/>
        </p:nvSpPr>
        <p:spPr>
          <a:xfrm>
            <a:off x="1643040" y="3643200"/>
            <a:ext cx="314316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9"/>
          <p:cNvSpPr/>
          <p:nvPr/>
        </p:nvSpPr>
        <p:spPr>
          <a:xfrm>
            <a:off x="928800" y="578016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entury Schoolbook"/>
              </a:rPr>
              <a:t>Напишите буквы в тетрадь в заданной последова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0"/>
          <p:cNvSpPr/>
          <p:nvPr/>
        </p:nvSpPr>
        <p:spPr>
          <a:xfrm>
            <a:off x="6215040" y="385776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entury Schoolbook"/>
              </a:rPr>
              <a:t>глас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ver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Прямоугольник 1" descr=""/>
          <p:cNvPicPr/>
          <p:nvPr/>
        </p:nvPicPr>
        <p:blipFill>
          <a:blip r:embed="rId1"/>
          <a:stretch/>
        </p:blipFill>
        <p:spPr>
          <a:xfrm>
            <a:off x="208080" y="353880"/>
            <a:ext cx="8727840" cy="1760760"/>
          </a:xfrm>
          <a:prstGeom prst="rect">
            <a:avLst/>
          </a:prstGeom>
          <a:ln w="0">
            <a:noFill/>
          </a:ln>
        </p:spPr>
      </p:pic>
      <p:sp>
        <p:nvSpPr>
          <p:cNvPr id="367" name="TextBox 2"/>
          <p:cNvSpPr/>
          <p:nvPr/>
        </p:nvSpPr>
        <p:spPr>
          <a:xfrm>
            <a:off x="714240" y="2500200"/>
            <a:ext cx="7858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Гласные и согласные различаются по тому, есть или нет преграда на пути выдыхаемого воздух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vert"/>
    <p:sndAc>
      <p:stSnd>
        <p:snd r:embed="rId2" name="chimes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Calibri Light"/>
              </a:rPr>
              <a:t>Какие гласные звуки вы знаете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642960" y="150012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[</a:t>
            </a: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], [</a:t>
            </a: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о</a:t>
            </a: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], [</a:t>
            </a: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], [</a:t>
            </a: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ы</a:t>
            </a: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], [</a:t>
            </a: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и</a:t>
            </a: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], [</a:t>
            </a: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э</a:t>
            </a: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]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Прямоугольник 3"/>
          <p:cNvSpPr/>
          <p:nvPr/>
        </p:nvSpPr>
        <p:spPr>
          <a:xfrm>
            <a:off x="0" y="385776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Schoolbook"/>
              </a:rPr>
              <a:t>Напишите буквы, которыми можно обозначить эти звуки в тетрад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vert"/>
    <p:sndAc>
      <p:stSnd>
        <p:snd r:embed="rId1" name="chimes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04040"/>
                </a:solidFill>
                <a:latin typeface="Calibri Light"/>
              </a:rPr>
              <a:t>Гласные буквы:</a:t>
            </a:r>
            <a:endParaRPr b="0" lang="en-US" sz="6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Text Box 29"/>
          <p:cNvSpPr/>
          <p:nvPr/>
        </p:nvSpPr>
        <p:spPr>
          <a:xfrm>
            <a:off x="0" y="2852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entury Schoolbook"/>
              </a:rPr>
              <a:t>а, я, о, ё, у, ю, и, ы, э, 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 Box 30"/>
          <p:cNvSpPr/>
          <p:nvPr/>
        </p:nvSpPr>
        <p:spPr>
          <a:xfrm>
            <a:off x="179280" y="1557360"/>
            <a:ext cx="856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Century Schoolbook"/>
              </a:rPr>
              <a:t>после твёрдых согласн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Line 32"/>
          <p:cNvSpPr/>
          <p:nvPr/>
        </p:nvSpPr>
        <p:spPr>
          <a:xfrm flipH="1">
            <a:off x="971640" y="2276640"/>
            <a:ext cx="316872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Line 33"/>
          <p:cNvSpPr/>
          <p:nvPr/>
        </p:nvSpPr>
        <p:spPr>
          <a:xfrm flipH="1">
            <a:off x="2555640" y="2276640"/>
            <a:ext cx="158436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Line 34"/>
          <p:cNvSpPr/>
          <p:nvPr/>
        </p:nvSpPr>
        <p:spPr>
          <a:xfrm flipH="1">
            <a:off x="3995640" y="2276640"/>
            <a:ext cx="14472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Line 35"/>
          <p:cNvSpPr/>
          <p:nvPr/>
        </p:nvSpPr>
        <p:spPr>
          <a:xfrm>
            <a:off x="4140360" y="2276640"/>
            <a:ext cx="244764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Line 36"/>
          <p:cNvSpPr/>
          <p:nvPr/>
        </p:nvSpPr>
        <p:spPr>
          <a:xfrm>
            <a:off x="4140360" y="2276640"/>
            <a:ext cx="316836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 Box 37"/>
          <p:cNvSpPr/>
          <p:nvPr/>
        </p:nvSpPr>
        <p:spPr>
          <a:xfrm>
            <a:off x="395280" y="4653000"/>
            <a:ext cx="82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336600"/>
                </a:solidFill>
                <a:latin typeface="Century Schoolbook"/>
              </a:rPr>
              <a:t>после мягких согласны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Line 38"/>
          <p:cNvSpPr/>
          <p:nvPr/>
        </p:nvSpPr>
        <p:spPr>
          <a:xfrm flipH="1" flipV="1">
            <a:off x="1763640" y="3789360"/>
            <a:ext cx="266400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ine 39"/>
          <p:cNvSpPr/>
          <p:nvPr/>
        </p:nvSpPr>
        <p:spPr>
          <a:xfrm flipH="1" flipV="1">
            <a:off x="3203640" y="3715920"/>
            <a:ext cx="122400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Line 40"/>
          <p:cNvSpPr/>
          <p:nvPr/>
        </p:nvSpPr>
        <p:spPr>
          <a:xfrm flipV="1">
            <a:off x="4427640" y="3715920"/>
            <a:ext cx="21564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Line 41"/>
          <p:cNvSpPr/>
          <p:nvPr/>
        </p:nvSpPr>
        <p:spPr>
          <a:xfrm flipV="1">
            <a:off x="4427640" y="3715920"/>
            <a:ext cx="115236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Line 42"/>
          <p:cNvSpPr/>
          <p:nvPr/>
        </p:nvSpPr>
        <p:spPr>
          <a:xfrm flipV="1">
            <a:off x="4427640" y="3644640"/>
            <a:ext cx="3816360" cy="115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vert"/>
    <p:sndAc>
      <p:stSnd>
        <p:snd r:embed="rId1" name="chimes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Прямоугольник 1" descr=""/>
          <p:cNvPicPr/>
          <p:nvPr/>
        </p:nvPicPr>
        <p:blipFill>
          <a:blip r:embed="rId1"/>
          <a:stretch/>
        </p:blipFill>
        <p:spPr>
          <a:xfrm>
            <a:off x="2212920" y="360360"/>
            <a:ext cx="4479840" cy="919080"/>
          </a:xfrm>
          <a:prstGeom prst="rect">
            <a:avLst/>
          </a:prstGeom>
          <a:ln w="0">
            <a:noFill/>
          </a:ln>
        </p:spPr>
      </p:pic>
      <p:sp>
        <p:nvSpPr>
          <p:cNvPr id="387" name="TextBox 2"/>
          <p:cNvSpPr/>
          <p:nvPr/>
        </p:nvSpPr>
        <p:spPr>
          <a:xfrm>
            <a:off x="857160" y="2071800"/>
            <a:ext cx="7858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 какие 2 группы можно разделить все звук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ак отличить гласный звук от согласног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колько гласных звук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колько гласных бук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чему звуков меньше, чем бук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vert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04:30:19Z</dcterms:created>
  <dc:creator>andrei</dc:creator>
  <dc:description/>
  <dc:language>en-US</dc:language>
  <cp:lastModifiedBy>1</cp:lastModifiedBy>
  <dcterms:modified xsi:type="dcterms:W3CDTF">2018-01-08T13:40:03Z</dcterms:modified>
  <cp:revision>20</cp:revision>
  <dc:subject/>
  <dc:title>Гласные и согласные звуки и буквы.</dc:title>
</cp:coreProperties>
</file>