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A6E-905A-47BA-9F6B-9F5A2540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182-9D8D-470E-B9A1-0331BCAE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BB7-8852-47C7-9FB6-A4E7EE9D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B24-6E32-4CE2-B966-10DEB734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3C7E-DCA4-4314-A29D-163B7216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8C08-7666-47C4-BDC5-A68BD961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6406-33F7-47D0-8501-82B779B7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5472-1BA7-4B7D-8CB5-3B400086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829F-7E12-448F-8F16-35D7CA0F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3040-6F4E-401E-BB9C-CFACD55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0457-5C57-46EE-B1A8-7BF759B7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0A6-F817-4B25-980E-28DA2932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1E08-AA8E-4E3E-A788-305E4F17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0A51-0DE3-4DED-8743-F4515952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1435-B74C-4EDE-9F80-25A444D2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1FBF-FDFA-4E77-9637-55EB2C23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2A25-9A98-42B8-A5CD-D1E11F3C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0908-9D44-4BA1-81B0-941A563C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A159-ED85-49F5-84A3-EE62F548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C8971-AC56-49C9-A391-1A5E1537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6A32-869E-45BB-A410-01BC3354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10EC-55DB-4DB9-B580-CE49B8EB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05B-CDBB-445E-9AAE-1F898BEA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5768-2B90-49E7-9335-9E475CAA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3FCF-8976-4FB9-9B2A-69C8FF9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5FA8-6971-4559-BB09-E79DF7C0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9F736-E0A4-47F6-9A1B-ED09D938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B53B-B74F-4F29-B2C8-619AC3FC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9193-861A-4BEB-B40F-913D7E95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93FB-2A22-4DDA-B78C-BDA0B604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37008-A143-4A84-9CEF-1146FF82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DCAD5-A639-4DA2-8CBF-91BA7C3F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2F6A-4C1F-49F9-86C3-4C1BA1D5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EA9-03A4-44EC-875E-B7FD262F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239CF-F210-4145-B972-ED4B6E71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9D03-FAD8-4028-9898-9CF0772E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D8FA-69FF-43EB-A248-E2D8D8CC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F681-FB2D-4C09-8430-DF0E2F5F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95ADB-A345-454D-96F1-A499BB38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B67D-0220-4927-A840-11AE5480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27252-A001-449A-A591-25C7F950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8C79-A5FB-4074-8253-C5253EB9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F9D3-719C-4F6F-846E-7951E122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E8329-2232-4DCD-9CDB-445B8BD7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170-01D3-4FFC-A0AA-5663AF7A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F531-146D-4832-8ED1-15307357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8802C-2074-46CD-AB44-C179C663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A6E6B-4C95-44F1-932F-D4244132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FE53B-89B7-4FC6-A011-D8986491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092A-8C57-4A2A-B6C9-7BA5BD39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3FFB-8BA1-46C2-B5A4-BCD4CDF7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562D3-A95C-44A3-9699-F9B93457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392A9-2AB7-4F9A-95A0-1B11FC47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04C89-E927-4137-944B-E16418C9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7D966-80F3-4A5A-9019-7913ADDA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E19-07EA-4610-8F86-1646DEB8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5CF07-C7A9-4914-B074-6C4260F8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25F41-D7FE-4BA6-BA9D-CEEAE94C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EFCD-CD7E-4392-A89D-AD4D3BBC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0AC40-F0EB-46A8-81D6-202301A7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DE7B3-B140-46C2-AA6D-BB5D40E3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EA48C-B020-4C92-83CD-B3DDE1EF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6AC33-D91A-438E-919D-79D78140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3F3AA-5BF3-4F1A-971F-D7384D3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80AE6-85ED-4D4B-BF7D-138C1249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F64FB-0182-4C98-A1CE-28BFE511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2A7-C4FE-45CF-A318-7B04DE1D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0848C-1D0A-4590-B745-560CC5F4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94A0B-6D2E-4BA2-8AD4-0A5132E9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3D31-B709-4C08-91D4-645933D5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E8636-FD24-443D-B596-44140D33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B777F-282C-404C-944D-FB663CE9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48419-16C4-4B52-B84D-117862D5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A69F4-6686-4F36-8E43-654AF345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7407F-D948-4B1B-A627-D78DDF16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9F3AE-3376-4CCE-98DE-0985B248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48BA0-319D-410D-B547-5EA697F3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30C-CE99-4A72-B62C-46556A4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01074-B03F-41F2-AB8B-8469F3B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C5A3F-0F3A-41DA-94AB-0332FDCF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95030-686B-4464-9BAD-BD89270D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84D58-EDA1-423E-BA71-4BFDDED8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C9AE3-FBB3-45EB-88CD-A9C29AD5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D78-CFA7-4ED6-BE4E-3BDC8C5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DC4D-6BCF-407F-9D7C-7E86EFB9DE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FBB1-646D-4FAA-A7ED-5C692404CE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0C23-A084-4F33-8528-93F3AB6ABC4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EB9C-5A31-45F5-A1E7-E5FEBA1D66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59E6-B3D7-40E1-9398-F8FD27AF90B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B0E1-68CA-4208-82C8-AE71FF8600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A6E2-3990-4E97-9D99-7740034F93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1/3 жизни – правила и закон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156000" y="3860640"/>
            <a:ext cx="2779560" cy="280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20e04"/>
                </a:solidFill>
                <a:uFillTx/>
                <a:latin typeface="Corbel"/>
              </a:rPr>
              <a:t>Автор: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Ковалев М., ученик 1Б клас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20e04"/>
                </a:solidFill>
                <a:uFillTx/>
                <a:latin typeface="Corbel"/>
              </a:rPr>
              <a:t>Научный руководитель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: Рязанова Н.Н., учитель 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http://writercenter.ru/uploads/images/00/22/77/2013/10/01/509527-big.jpg"/>
          <p:cNvPicPr/>
          <p:nvPr/>
        </p:nvPicPr>
        <p:blipFill>
          <a:blip r:embed="rId1"/>
          <a:stretch/>
        </p:blipFill>
        <p:spPr>
          <a:xfrm>
            <a:off x="5796000" y="1557360"/>
            <a:ext cx="2916360" cy="1995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http://062013.imgbb.ru/user/7/70831/be2944a2ce36594d188665f245159607.jpg"/>
          <p:cNvPicPr/>
          <p:nvPr/>
        </p:nvPicPr>
        <p:blipFill>
          <a:blip r:embed="rId2"/>
          <a:stretch/>
        </p:blipFill>
        <p:spPr>
          <a:xfrm>
            <a:off x="1042920" y="3716280"/>
            <a:ext cx="2163960" cy="2811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http://s007.radikal.ru/i301/1112/a2/0a22b9ab2728.jpg"/>
          <p:cNvPicPr/>
          <p:nvPr/>
        </p:nvPicPr>
        <p:blipFill>
          <a:blip r:embed="rId3"/>
          <a:stretch/>
        </p:blipFill>
        <p:spPr>
          <a:xfrm>
            <a:off x="3276720" y="2133720"/>
            <a:ext cx="24955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402920" y="333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пать нужно в темнот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Проветривать в комнате перед сн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Диаграмма 3" descr=""/>
          <p:cNvPicPr/>
          <p:nvPr/>
        </p:nvPicPr>
        <p:blipFill>
          <a:blip r:embed="rId1"/>
          <a:stretch/>
        </p:blipFill>
        <p:spPr>
          <a:xfrm>
            <a:off x="2408400" y="1768320"/>
            <a:ext cx="49622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186920" y="1699920"/>
            <a:ext cx="522468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б здоровье сохрани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зм свой укрепить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нает вся моя сем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лжен быть режим и дн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http://school.xvatit.com/images/0/08/Umt94.jpeg"/>
          <p:cNvPicPr/>
          <p:nvPr/>
        </p:nvPicPr>
        <p:blipFill>
          <a:blip r:embed="rId1"/>
          <a:stretch/>
        </p:blipFill>
        <p:spPr>
          <a:xfrm>
            <a:off x="1042920" y="0"/>
            <a:ext cx="2279880" cy="1655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ttp://thelib.ru/books/00/15/93/00159328/i_001.jpg"/>
          <p:cNvPicPr/>
          <p:nvPr/>
        </p:nvPicPr>
        <p:blipFill>
          <a:blip r:embed="rId2"/>
          <a:stretch/>
        </p:blipFill>
        <p:spPr>
          <a:xfrm>
            <a:off x="3564000" y="0"/>
            <a:ext cx="1781280" cy="1735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http://2.bp.blogspot.com/-hR0EXVO_mSg/UYlNpi4-rpI/AAAAAAAAAM8/GUznV1hHrzg/s640/3341840.jpg"/>
          <p:cNvPicPr/>
          <p:nvPr/>
        </p:nvPicPr>
        <p:blipFill>
          <a:blip r:embed="rId3"/>
          <a:stretch/>
        </p:blipFill>
        <p:spPr>
          <a:xfrm>
            <a:off x="5651640" y="189000"/>
            <a:ext cx="3313080" cy="1541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http://fotohomka.ru/images/Dec/01/eef3e28af0352629d17e9445c97368d6/mini_1.jpg"/>
          <p:cNvPicPr/>
          <p:nvPr/>
        </p:nvPicPr>
        <p:blipFill>
          <a:blip r:embed="rId4"/>
          <a:stretch/>
        </p:blipFill>
        <p:spPr>
          <a:xfrm>
            <a:off x="2916360" y="4437000"/>
            <a:ext cx="2697120" cy="2009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http://detochki-doma.ru/wp-content/uploads/2013/01/podgotovka-k-shkole.jpg"/>
          <p:cNvPicPr/>
          <p:nvPr/>
        </p:nvPicPr>
        <p:blipFill>
          <a:blip r:embed="rId5"/>
          <a:stretch/>
        </p:blipFill>
        <p:spPr>
          <a:xfrm>
            <a:off x="5651640" y="4221000"/>
            <a:ext cx="3244680" cy="2100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http://spas-school.edu.tomsk.ru/wp-content/uploads/2014/05/1klass.jpg"/>
          <p:cNvPicPr/>
          <p:nvPr/>
        </p:nvPicPr>
        <p:blipFill>
          <a:blip r:embed="rId6"/>
          <a:stretch/>
        </p:blipFill>
        <p:spPr>
          <a:xfrm>
            <a:off x="5867280" y="1844640"/>
            <a:ext cx="2989440" cy="1727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4" descr="http://img1.liveinternet.ru/images/attach/c/2/65/616/65616410_1863.jpg"/>
          <p:cNvPicPr/>
          <p:nvPr/>
        </p:nvPicPr>
        <p:blipFill>
          <a:blip r:embed="rId7"/>
          <a:stretch/>
        </p:blipFill>
        <p:spPr>
          <a:xfrm>
            <a:off x="250920" y="4581360"/>
            <a:ext cx="2755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31640" y="2565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асибо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333000"/>
            <a:ext cx="7499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исследовательской работы является выяснение причин сна с физиологической точки зрения, а также установление обстоятельств которые могут сделать сон лучш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Задачи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- Образовательная - выяснение физиологических причин сна,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- Воспитательная – исследование и выявление правил «хорошего» сна,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-  Развивающие – познакомить своих одноклассников с законами и правилами сна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Методы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изучение литературы по теме,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- проведение анкетирования,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- анализ полученных данных,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- составление рекомендаций для сверстников о правильной организации сна.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се люди спят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4" descr="http://bis73.ru/wp-content/uploads/2015/07/son_man.jpg"/>
          <p:cNvPicPr/>
          <p:nvPr/>
        </p:nvPicPr>
        <p:blipFill>
          <a:blip r:embed="rId1"/>
          <a:stretch/>
        </p:blipFill>
        <p:spPr>
          <a:xfrm>
            <a:off x="1116000" y="1484280"/>
            <a:ext cx="3330720" cy="2498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http://www.nn.ru/users/foto/161489-2012-02-27-kl.jpg"/>
          <p:cNvPicPr/>
          <p:nvPr/>
        </p:nvPicPr>
        <p:blipFill>
          <a:blip r:embed="rId2"/>
          <a:stretch/>
        </p:blipFill>
        <p:spPr>
          <a:xfrm>
            <a:off x="5508720" y="1700280"/>
            <a:ext cx="3262320" cy="2190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http://www.stimul-spb.ru/wp-content/uploads/2013/12/spim.jpg"/>
          <p:cNvPicPr/>
          <p:nvPr/>
        </p:nvPicPr>
        <p:blipFill>
          <a:blip r:embed="rId3"/>
          <a:stretch/>
        </p:blipFill>
        <p:spPr>
          <a:xfrm>
            <a:off x="3851280" y="4076640"/>
            <a:ext cx="3732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042920" y="3644640"/>
            <a:ext cx="266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выходные дети засыпают в среднем на час поз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Диаграмма 3" descr=""/>
          <p:cNvPicPr/>
          <p:nvPr/>
        </p:nvPicPr>
        <p:blipFill>
          <a:blip r:embed="rId1"/>
          <a:stretch/>
        </p:blipFill>
        <p:spPr>
          <a:xfrm>
            <a:off x="1036800" y="182520"/>
            <a:ext cx="5503680" cy="3189240"/>
          </a:xfrm>
          <a:prstGeom prst="rect">
            <a:avLst/>
          </a:prstGeom>
          <a:ln w="0">
            <a:noFill/>
          </a:ln>
        </p:spPr>
      </p:pic>
      <p:pic>
        <p:nvPicPr>
          <p:cNvPr id="330" name="Диаграмма 4" descr=""/>
          <p:cNvPicPr/>
          <p:nvPr/>
        </p:nvPicPr>
        <p:blipFill>
          <a:blip r:embed="rId2"/>
          <a:stretch/>
        </p:blipFill>
        <p:spPr>
          <a:xfrm>
            <a:off x="3846600" y="3352680"/>
            <a:ext cx="531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84000" y="3428640"/>
            <a:ext cx="2374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ремя пробуждения в будни и в выходные отличается более чем на 2 час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Диаграмма 3" descr=""/>
          <p:cNvPicPr/>
          <p:nvPr/>
        </p:nvPicPr>
        <p:blipFill>
          <a:blip r:embed="rId1"/>
          <a:stretch/>
        </p:blipFill>
        <p:spPr>
          <a:xfrm>
            <a:off x="1395360" y="182520"/>
            <a:ext cx="6145200" cy="3133800"/>
          </a:xfrm>
          <a:prstGeom prst="rect">
            <a:avLst/>
          </a:prstGeom>
          <a:ln w="0">
            <a:noFill/>
          </a:ln>
        </p:spPr>
      </p:pic>
      <p:pic>
        <p:nvPicPr>
          <p:cNvPr id="333" name="Диаграмма 4" descr=""/>
          <p:cNvPicPr/>
          <p:nvPr/>
        </p:nvPicPr>
        <p:blipFill>
          <a:blip r:embed="rId2"/>
          <a:stretch/>
        </p:blipFill>
        <p:spPr>
          <a:xfrm>
            <a:off x="3103560" y="3279600"/>
            <a:ext cx="60530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116000" y="3716280"/>
            <a:ext cx="241632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Диаграмма 3" descr=""/>
          <p:cNvPicPr/>
          <p:nvPr/>
        </p:nvPicPr>
        <p:blipFill>
          <a:blip r:embed="rId1"/>
          <a:stretch/>
        </p:blipFill>
        <p:spPr>
          <a:xfrm>
            <a:off x="963720" y="255600"/>
            <a:ext cx="6149880" cy="3060720"/>
          </a:xfrm>
          <a:prstGeom prst="rect">
            <a:avLst/>
          </a:prstGeom>
          <a:ln w="0">
            <a:noFill/>
          </a:ln>
        </p:spPr>
      </p:pic>
      <p:pic>
        <p:nvPicPr>
          <p:cNvPr id="336" name="Диаграмма 4" descr=""/>
          <p:cNvPicPr/>
          <p:nvPr/>
        </p:nvPicPr>
        <p:blipFill>
          <a:blip r:embed="rId2"/>
          <a:stretch/>
        </p:blipFill>
        <p:spPr>
          <a:xfrm>
            <a:off x="3840120" y="3638520"/>
            <a:ext cx="5316480" cy="3024360"/>
          </a:xfrm>
          <a:prstGeom prst="rect">
            <a:avLst/>
          </a:prstGeom>
          <a:ln w="0">
            <a:noFill/>
          </a:ln>
        </p:spPr>
      </p:pic>
      <p:pic>
        <p:nvPicPr>
          <p:cNvPr id="337" name="Диаграмма 5" descr=""/>
          <p:cNvPicPr/>
          <p:nvPr/>
        </p:nvPicPr>
        <p:blipFill>
          <a:blip r:embed="rId3"/>
          <a:stretch/>
        </p:blipFill>
        <p:spPr>
          <a:xfrm>
            <a:off x="1109520" y="255600"/>
            <a:ext cx="77965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вила «хорошего» сн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Обязательно ложиться спать и вставать в одно и тоже врем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Перед сном необходимо гуля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Диаграмма 3" descr=""/>
          <p:cNvPicPr/>
          <p:nvPr/>
        </p:nvPicPr>
        <p:blipFill>
          <a:blip r:embed="rId1"/>
          <a:stretch/>
        </p:blipFill>
        <p:spPr>
          <a:xfrm>
            <a:off x="2693880" y="3352680"/>
            <a:ext cx="4103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402920" y="404640"/>
            <a:ext cx="74977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Нельзя перед сном играть в подвижные иг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Диаграмма 3" descr=""/>
          <p:cNvPicPr/>
          <p:nvPr/>
        </p:nvPicPr>
        <p:blipFill>
          <a:blip r:embed="rId1"/>
          <a:stretch/>
        </p:blipFill>
        <p:spPr>
          <a:xfrm>
            <a:off x="3054240" y="2054160"/>
            <a:ext cx="3907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02920" y="475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Ужинать нужно за 2 часа до с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Диаграмма 3" descr=""/>
          <p:cNvPicPr/>
          <p:nvPr/>
        </p:nvPicPr>
        <p:blipFill>
          <a:blip r:embed="rId1"/>
          <a:stretch/>
        </p:blipFill>
        <p:spPr>
          <a:xfrm>
            <a:off x="1828800" y="1768320"/>
            <a:ext cx="6138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00:09:35Z</dcterms:created>
  <dc:creator>Sony</dc:creator>
  <dc:description/>
  <dc:language>en-US</dc:language>
  <cp:lastModifiedBy>Sony</cp:lastModifiedBy>
  <dcterms:modified xsi:type="dcterms:W3CDTF">2015-11-24T08:11:18Z</dcterms:modified>
  <cp:revision>3</cp:revision>
  <dc:subject/>
  <dc:title>1/3 жизни – правила и законы</dc:title>
</cp:coreProperties>
</file>