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CB95-C67E-4EBD-8ACF-EB6A5C2CB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5BD1-307E-4F0B-BC15-5A86704C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4B2C-AA53-44E2-B465-2807D2F21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CCB2-E015-4FAA-BE83-1A508504C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A207-EC79-4E91-924C-B29B4DBDD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FEA7-20EE-4847-B348-140CBF6C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2422-4513-4CE1-96B5-225043E8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4451-3F1A-43AA-9D2E-151D0DA8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EA0C-12F6-4934-8E79-58A723C9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CD44A-A020-461D-8336-76A7AD56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DDE6-1D08-4F24-81D4-E59E4964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D7A4-E3F2-41B5-AD09-4D585C31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B036-439D-4024-93B9-7A77B2DD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12B2-8E39-4CD3-B1C1-A97834B5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F8F7-0A89-470A-A2D3-D9438B97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39F3-749D-4D53-AF20-FDEDD8859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707C-E17E-4CC1-B1EC-48DEFE5D4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C2F9-5245-4918-9430-A8DF37F1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65FA-0FCE-4FC0-91A9-C5ED30AA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FF22-97F4-47C8-88C5-017E1A06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0838-3E52-4773-A35A-0047ECC7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10CA-2094-4FD8-812A-F456CBF9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78D1-8D42-4B49-BDB0-0617DCD8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2A78-2980-4E26-97C0-321C98C7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9E14C-4B70-4DD4-B968-D631C621B37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404B-B5B3-44AD-BEA7-986E86271CFA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gallerix.ru/pic/Shishkin/glrx-492733764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Основы светотеней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45417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00"/>
                </a:solidFill>
                <a:latin typeface="Tahoma"/>
              </a:rPr>
              <a:t>Выполнила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00"/>
                </a:solidFill>
                <a:latin typeface="Tahoma"/>
              </a:rPr>
              <a:t>учитель ИЗО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00"/>
                </a:solidFill>
                <a:latin typeface="Tahoma"/>
              </a:rPr>
              <a:t>И.В.Курбаков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00"/>
                </a:solidFill>
                <a:latin typeface="Tahoma"/>
              </a:rPr>
              <a:t>МБОУ «Школа №5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00"/>
                </a:solidFill>
                <a:latin typeface="Tahoma"/>
              </a:rPr>
              <a:t>г. Нижний Новгород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6" name="Picture 4" descr="6[1]"/>
          <p:cNvPicPr/>
          <p:nvPr/>
        </p:nvPicPr>
        <p:blipFill>
          <a:blip r:embed="rId1"/>
          <a:stretch/>
        </p:blipFill>
        <p:spPr>
          <a:xfrm>
            <a:off x="5148360" y="1484280"/>
            <a:ext cx="2808360" cy="4267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М.Врубель «Натюрморт. Подсвечник, графин, стакан» 1905  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pic>
        <p:nvPicPr>
          <p:cNvPr id="412" name="Picture 5" descr="Картинки"/>
          <p:cNvPicPr/>
          <p:nvPr/>
        </p:nvPicPr>
        <p:blipFill>
          <a:blip r:embed="rId1"/>
          <a:stretch/>
        </p:blipFill>
        <p:spPr>
          <a:xfrm>
            <a:off x="155520" y="46080"/>
            <a:ext cx="1400400" cy="10000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7" descr="Картинки"/>
          <p:cNvPicPr/>
          <p:nvPr/>
        </p:nvPicPr>
        <p:blipFill>
          <a:blip r:embed="rId2"/>
          <a:stretch/>
        </p:blipFill>
        <p:spPr>
          <a:xfrm>
            <a:off x="468360" y="0"/>
            <a:ext cx="1400040" cy="10000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5" descr="vrubel_work_200712041344432jpg"/>
          <p:cNvPicPr/>
          <p:nvPr/>
        </p:nvPicPr>
        <p:blipFill>
          <a:blip r:embed="rId3"/>
          <a:stretch/>
        </p:blipFill>
        <p:spPr>
          <a:xfrm>
            <a:off x="2627280" y="1484280"/>
            <a:ext cx="3843360" cy="511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292720" y="228240"/>
            <a:ext cx="3549600" cy="485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Иван Шишкин 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«В лесу. Упавшее дерево.»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7" name="Picture 5" descr="В лесу. Упавшее дерево 1878 32. 3х23, 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765000"/>
            <a:ext cx="4095720" cy="571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Ответь на вопросы: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его достигает художник с помощью светотени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ие градации ты знаеш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 такое блик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 чего зависит светотен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 чего зависит форма падающей тени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Светотень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ветотень – это  соотношение света и тени на форме, градации светлого и темног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9" name="Picture 4" descr="expl76"/>
          <p:cNvPicPr/>
          <p:nvPr/>
        </p:nvPicPr>
        <p:blipFill>
          <a:blip r:embed="rId1"/>
          <a:stretch/>
        </p:blipFill>
        <p:spPr>
          <a:xfrm>
            <a:off x="3995640" y="2852640"/>
            <a:ext cx="3745080" cy="3232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Для чего нужна светотень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ветотень помогает выявить форму и объем предмет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ветотень показывает степень освещенности поверхности предме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2" name="Picture 5" descr="f13[1]"/>
          <p:cNvPicPr/>
          <p:nvPr/>
        </p:nvPicPr>
        <p:blipFill>
          <a:blip r:embed="rId1"/>
          <a:stretch/>
        </p:blipFill>
        <p:spPr>
          <a:xfrm>
            <a:off x="4211640" y="1844640"/>
            <a:ext cx="4246560" cy="3522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Образование светотени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висит от  положения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едмета  по отношению к источнику свет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его сил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5" name="Picture 6" descr="IMG_4334"/>
          <p:cNvPicPr/>
          <p:nvPr/>
        </p:nvPicPr>
        <p:blipFill>
          <a:blip r:embed="rId1"/>
          <a:stretch/>
        </p:blipFill>
        <p:spPr>
          <a:xfrm>
            <a:off x="3827520" y="1484280"/>
            <a:ext cx="4311720" cy="475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Светотень составляют градации: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419076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ли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ве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лутен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нь собственн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ефлек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нь падающ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8" name="Picture 20" descr="svtensf1[1]"/>
          <p:cNvPicPr/>
          <p:nvPr/>
        </p:nvPicPr>
        <p:blipFill>
          <a:blip r:embed="rId1"/>
          <a:stretch/>
        </p:blipFill>
        <p:spPr>
          <a:xfrm>
            <a:off x="3851280" y="2133720"/>
            <a:ext cx="4464000" cy="316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Градации светотени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pic>
        <p:nvPicPr>
          <p:cNvPr id="400" name="Picture 4" descr="3"/>
          <p:cNvPicPr/>
          <p:nvPr/>
        </p:nvPicPr>
        <p:blipFill>
          <a:blip r:embed="rId1"/>
          <a:stretch/>
        </p:blipFill>
        <p:spPr>
          <a:xfrm>
            <a:off x="1042920" y="1704960"/>
            <a:ext cx="7058160" cy="4289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Свет 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0560" y="2491920"/>
            <a:ext cx="419076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вет - освещенная поверхность предме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3" name="Picture 11" descr="1[1]"/>
          <p:cNvPicPr/>
          <p:nvPr/>
        </p:nvPicPr>
        <p:blipFill>
          <a:blip r:embed="rId1"/>
          <a:stretch/>
        </p:blipFill>
        <p:spPr>
          <a:xfrm>
            <a:off x="4643280" y="1413000"/>
            <a:ext cx="3049920" cy="4340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Тень (собственная и падающая)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5934b"/>
                </a:solidFill>
                <a:latin typeface="Tahoma"/>
              </a:rPr>
              <a:t>Тень собственна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-поверхность, куда лучи света не попадают, т.е. не освещенная поверхность предмета ;(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5120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5934b"/>
                </a:solidFill>
                <a:latin typeface="Tahoma"/>
              </a:rPr>
              <a:t>Падающая тен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тень, которая образуется от конкретного предмета на какой либо поверхности (поверхности стола, стены, на предметах) (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7" name="Picture 13" descr="svten2a[1]"/>
          <p:cNvPicPr/>
          <p:nvPr/>
        </p:nvPicPr>
        <p:blipFill>
          <a:blip r:embed="rId1"/>
          <a:stretch/>
        </p:blipFill>
        <p:spPr>
          <a:xfrm>
            <a:off x="1258920" y="4775040"/>
            <a:ext cx="2808360" cy="2082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95280" y="620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5934b"/>
                </a:solidFill>
                <a:latin typeface="Tahoma"/>
              </a:rPr>
              <a:t>Полутен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-поверхность предмета, освещенная косыми, скользящими лучами света;(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5934b"/>
                </a:solidFill>
                <a:latin typeface="Tahoma"/>
              </a:rPr>
              <a:t>Рефлекс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– отражение в теневой части предмета света и цвета другой поверхности;(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5934b"/>
                </a:solidFill>
                <a:latin typeface="Tahoma"/>
              </a:rPr>
              <a:t>Блик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самое светлое пятно на поверхности предмета(4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0" name="Picture 7" descr="svten2a[1]"/>
          <p:cNvPicPr/>
          <p:nvPr/>
        </p:nvPicPr>
        <p:blipFill>
          <a:blip r:embed="rId1"/>
          <a:stretch/>
        </p:blipFill>
        <p:spPr>
          <a:xfrm>
            <a:off x="6012000" y="4292640"/>
            <a:ext cx="2957400" cy="2235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15:13:26Z</dcterms:created>
  <dc:creator>Диман</dc:creator>
  <dc:description/>
  <dc:language>en-US</dc:language>
  <cp:lastModifiedBy>User</cp:lastModifiedBy>
  <dcterms:modified xsi:type="dcterms:W3CDTF">2018-01-08T12:38:08Z</dcterms:modified>
  <cp:revision>10</cp:revision>
  <dc:subject/>
  <dc:title>Основы светотеней</dc:title>
</cp:coreProperties>
</file>