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0.jpeg" ContentType="image/jpeg"/>
  <Override PartName="/ppt/media/image8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1.jpeg" ContentType="image/jpeg"/>
  <Override PartName="/ppt/media/image9.jpeg" ContentType="image/jpeg"/>
  <Override PartName="/ppt/media/image21.gif" ContentType="image/gif"/>
  <Override PartName="/ppt/media/image6.jpeg" ContentType="image/jpeg"/>
  <Override PartName="/ppt/media/image20.gif" ContentType="image/gif"/>
  <Override PartName="/ppt/media/image3.gif" ContentType="image/gif"/>
  <Override PartName="/ppt/media/image19.jpeg" ContentType="image/jpeg"/>
  <Override PartName="/ppt/media/image1.jpeg" ContentType="image/jpeg"/>
  <Override PartName="/ppt/media/image16.gif" ContentType="image/gif"/>
  <Override PartName="/ppt/media/image17.png" ContentType="image/png"/>
  <Override PartName="/ppt/media/image14.gif" ContentType="image/gif"/>
  <Override PartName="/ppt/media/image2.png" ContentType="image/png"/>
  <Override PartName="/ppt/media/image22.gif" ContentType="image/gif"/>
  <Override PartName="/ppt/media/image5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7D8-72C5-4E2F-B178-59D69D1E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EDC-C6F3-49F1-B357-2AF027AC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488-94C9-4DBB-8595-639C4025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F53-5E37-4903-B224-C3594B4A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BBFA2-847A-463C-BFF6-B9DADF88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C2528-BA8B-4471-8876-E23F4C07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4391F-536B-4795-B038-A4F1DC26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68231-F78A-4779-A0F4-2E7823FD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83B04-2782-487E-8FB2-5EC49C7B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FBA1C-58AF-414F-A133-4E24FE50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F60DC-8CA2-4E30-AC6F-374BA4F0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A83-2297-448D-8A27-E8967247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5CE39-88E2-4F88-B9F5-00D66EC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260DB-FD99-42B9-9722-660F9A40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6E605-16AA-4721-944A-C591FD1D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BACEF-14AE-4701-A4E9-AE6681C3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C9A45-8B05-44BC-8D9A-002E09A1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80B-268A-4EBF-A392-07DAD217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90A-D876-4E2D-8450-287A98E3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96D-0167-4E5D-905D-6EF2CA3C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6C7-F3A4-4B4F-AC72-0D6EE5CF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978-4AB9-4954-87FD-81CCF66F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19F-9FC2-4C7B-9925-3BA14FA3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0D6-1B55-41CB-A9BF-55FF7734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5B3F-E5AC-4BD1-8B6B-5AC48D0C5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AE3E-E740-4057-98C2-A3DBDE39EA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6.gif"/><Relationship Id="rId12" Type="http://schemas.openxmlformats.org/officeDocument/2006/relationships/image" Target="../media/image2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"Вода… Ты не имеешь ни вкуса, ни цвета, ни запаха, тебя невозможно описать – тобой наслаждаеш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ы не просто необходима для жизни, ты и есть сама жизнь. Ты божество, ты совершенство, ты самое большое богатство на свете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уан де Сент-Экзюпе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введение.mp3" descr=""/>
          <p:cNvPicPr/>
          <p:nvPr/>
        </p:nvPicPr>
        <p:blipFill>
          <a:blip r:embed="rId1"/>
          <a:stretch/>
        </p:blipFill>
        <p:spPr>
          <a:xfrm>
            <a:off x="864396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61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J0336789"/>
          <p:cNvPicPr/>
          <p:nvPr/>
        </p:nvPicPr>
        <p:blipFill>
          <a:blip r:embed="rId1"/>
          <a:stretch/>
        </p:blipFill>
        <p:spPr>
          <a:xfrm>
            <a:off x="7524720" y="620640"/>
            <a:ext cx="533520" cy="80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J0336789"/>
          <p:cNvPicPr/>
          <p:nvPr/>
        </p:nvPicPr>
        <p:blipFill>
          <a:blip r:embed="rId2"/>
          <a:stretch/>
        </p:blipFill>
        <p:spPr>
          <a:xfrm>
            <a:off x="7380360" y="404640"/>
            <a:ext cx="533160" cy="80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J0336789"/>
          <p:cNvPicPr/>
          <p:nvPr/>
        </p:nvPicPr>
        <p:blipFill>
          <a:blip r:embed="rId3"/>
          <a:stretch/>
        </p:blipFill>
        <p:spPr>
          <a:xfrm>
            <a:off x="7956720" y="1052640"/>
            <a:ext cx="533160" cy="809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J0336789"/>
          <p:cNvPicPr/>
          <p:nvPr/>
        </p:nvPicPr>
        <p:blipFill>
          <a:blip r:embed="rId4"/>
          <a:stretch/>
        </p:blipFill>
        <p:spPr>
          <a:xfrm>
            <a:off x="8388360" y="404640"/>
            <a:ext cx="533520" cy="80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J0336789"/>
          <p:cNvPicPr/>
          <p:nvPr/>
        </p:nvPicPr>
        <p:blipFill>
          <a:blip r:embed="rId5"/>
          <a:stretch/>
        </p:blipFill>
        <p:spPr>
          <a:xfrm>
            <a:off x="8388360" y="1484280"/>
            <a:ext cx="53352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J0336789"/>
          <p:cNvPicPr/>
          <p:nvPr/>
        </p:nvPicPr>
        <p:blipFill>
          <a:blip r:embed="rId6"/>
          <a:stretch/>
        </p:blipFill>
        <p:spPr>
          <a:xfrm>
            <a:off x="5580000" y="260280"/>
            <a:ext cx="533520" cy="809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J0336789"/>
          <p:cNvPicPr/>
          <p:nvPr/>
        </p:nvPicPr>
        <p:blipFill>
          <a:blip r:embed="rId7"/>
          <a:stretch/>
        </p:blipFill>
        <p:spPr>
          <a:xfrm>
            <a:off x="6877080" y="907920"/>
            <a:ext cx="533520" cy="80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J0336789"/>
          <p:cNvPicPr/>
          <p:nvPr/>
        </p:nvPicPr>
        <p:blipFill>
          <a:blip r:embed="rId8"/>
          <a:stretch/>
        </p:blipFill>
        <p:spPr>
          <a:xfrm>
            <a:off x="6300720" y="404640"/>
            <a:ext cx="533520" cy="80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346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82000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физичес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химичес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й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од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Научиться писать уравнения реакций, характеризующ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химические свойства вод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Доказать, что в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ам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ника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ещество на планете Зем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3964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Тема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Вода – уникальное вещество на планете Земл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Цель уро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§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ahoma"/>
              </a:rPr>
              <a:t> 29,   упр. 4,6,7 на стр. 7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an1_stopkaknig"/>
          <p:cNvPicPr/>
          <p:nvPr/>
        </p:nvPicPr>
        <p:blipFill>
          <a:blip r:embed="rId1"/>
          <a:stretch/>
        </p:blipFill>
        <p:spPr>
          <a:xfrm>
            <a:off x="3851280" y="4076640"/>
            <a:ext cx="1655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8"/>
          <p:cNvSpPr/>
          <p:nvPr/>
        </p:nvSpPr>
        <p:spPr>
          <a:xfrm>
            <a:off x="7093080" y="5445000"/>
            <a:ext cx="1224000" cy="1079640"/>
          </a:xfrm>
          <a:prstGeom prst="sun">
            <a:avLst>
              <a:gd name="adj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водичка.avi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428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Физические свойства воды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700360" y="3213000"/>
            <a:ext cx="1440000" cy="71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148360" y="1916280"/>
            <a:ext cx="273672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зообраз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ёрдо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5364000" y="3213000"/>
            <a:ext cx="3996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 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кип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отность = 1 г/м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35640" y="4869000"/>
            <a:ext cx="370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 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пл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отность = 0,92 г/м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2627280" y="1052640"/>
            <a:ext cx="216072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з цвет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з вкус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з зап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1116000" y="522936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Универсальный раствор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0" y="321300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 (H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) = 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22"/>
          <p:cNvSpPr/>
          <p:nvPr/>
        </p:nvSpPr>
        <p:spPr>
          <a:xfrm flipV="1">
            <a:off x="4140360" y="2276640"/>
            <a:ext cx="107928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23"/>
          <p:cNvSpPr/>
          <p:nvPr/>
        </p:nvSpPr>
        <p:spPr>
          <a:xfrm flipH="1">
            <a:off x="2555640" y="3933720"/>
            <a:ext cx="8636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24"/>
          <p:cNvSpPr/>
          <p:nvPr/>
        </p:nvSpPr>
        <p:spPr>
          <a:xfrm flipH="1">
            <a:off x="2268360" y="3500280"/>
            <a:ext cx="430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25"/>
          <p:cNvSpPr/>
          <p:nvPr/>
        </p:nvSpPr>
        <p:spPr>
          <a:xfrm flipV="1">
            <a:off x="3419640" y="2492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4140360" y="3933720"/>
            <a:ext cx="1008000" cy="11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4211640" y="3500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Химические свойства воды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755640" y="2205000"/>
            <a:ext cx="7632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ЗАИМОДЕЙСТВИЕ ВОДЫ С ПРОСТЫМИ ВЕЩЕСТ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С активными металла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ый М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щелочь + 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anmated_doll_0002"/>
          <p:cNvPicPr/>
          <p:nvPr/>
        </p:nvPicPr>
        <p:blipFill>
          <a:blip r:embed="rId1"/>
          <a:stretch/>
        </p:blipFill>
        <p:spPr>
          <a:xfrm>
            <a:off x="7236000" y="4005360"/>
            <a:ext cx="1514160" cy="20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россвор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6480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вертика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Какой газ выделяется при взаимодействии воды с активными металла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 называется растворимое осн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 называется вещество, изменяющее окраску в растворах кислот и щелоч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 называется газообразное состояние вод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Group 7"/>
          <p:cNvGrpSpPr/>
          <p:nvPr/>
        </p:nvGrpSpPr>
        <p:grpSpPr>
          <a:xfrm>
            <a:off x="6804000" y="981000"/>
            <a:ext cx="2125440" cy="4743360"/>
            <a:chOff x="6804000" y="981000"/>
            <a:chExt cx="2125440" cy="4743360"/>
          </a:xfrm>
        </p:grpSpPr>
        <p:sp>
          <p:nvSpPr>
            <p:cNvPr id="112" name="Text Box 8"/>
            <p:cNvSpPr/>
            <p:nvPr/>
          </p:nvSpPr>
          <p:spPr>
            <a:xfrm>
              <a:off x="7866720" y="2709720"/>
              <a:ext cx="531360" cy="42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6804000" y="2709720"/>
              <a:ext cx="531000" cy="42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6804000" y="3141720"/>
              <a:ext cx="531000" cy="42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7335000" y="2278080"/>
              <a:ext cx="531360" cy="42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7335000" y="1844640"/>
              <a:ext cx="531360" cy="42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7335000" y="3141720"/>
              <a:ext cx="531360" cy="42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7335000" y="1412640"/>
              <a:ext cx="531360" cy="42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8398440" y="3141720"/>
              <a:ext cx="531000" cy="42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7866720" y="1844640"/>
              <a:ext cx="531360" cy="42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1" name="Group 17"/>
            <p:cNvGrpSpPr/>
            <p:nvPr/>
          </p:nvGrpSpPr>
          <p:grpSpPr>
            <a:xfrm>
              <a:off x="6804000" y="3573360"/>
              <a:ext cx="1594080" cy="2151000"/>
              <a:chOff x="6804000" y="3573360"/>
              <a:chExt cx="1594080" cy="2151000"/>
            </a:xfrm>
          </p:grpSpPr>
          <p:sp>
            <p:nvSpPr>
              <p:cNvPr id="122" name="Text Box 18"/>
              <p:cNvSpPr/>
              <p:nvPr/>
            </p:nvSpPr>
            <p:spPr>
              <a:xfrm>
                <a:off x="6804000" y="3573360"/>
                <a:ext cx="531000" cy="422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Text Box 19"/>
              <p:cNvSpPr/>
              <p:nvPr/>
            </p:nvSpPr>
            <p:spPr>
              <a:xfrm>
                <a:off x="6804000" y="4005000"/>
                <a:ext cx="531000" cy="422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Text Box 20"/>
              <p:cNvSpPr/>
              <p:nvPr/>
            </p:nvSpPr>
            <p:spPr>
              <a:xfrm>
                <a:off x="6804000" y="4437000"/>
                <a:ext cx="531000" cy="422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Text Box 21"/>
              <p:cNvSpPr/>
              <p:nvPr/>
            </p:nvSpPr>
            <p:spPr>
              <a:xfrm>
                <a:off x="6804000" y="4868640"/>
                <a:ext cx="531000" cy="422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Text Box 22"/>
              <p:cNvSpPr/>
              <p:nvPr/>
            </p:nvSpPr>
            <p:spPr>
              <a:xfrm>
                <a:off x="6804000" y="5302080"/>
                <a:ext cx="531000" cy="422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Text Box 23"/>
              <p:cNvSpPr/>
              <p:nvPr/>
            </p:nvSpPr>
            <p:spPr>
              <a:xfrm>
                <a:off x="7335000" y="3573360"/>
                <a:ext cx="531360" cy="422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Text Box 24"/>
              <p:cNvSpPr/>
              <p:nvPr/>
            </p:nvSpPr>
            <p:spPr>
              <a:xfrm>
                <a:off x="7866720" y="3573360"/>
                <a:ext cx="531360" cy="422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Text Box 25"/>
              <p:cNvSpPr/>
              <p:nvPr/>
            </p:nvSpPr>
            <p:spPr>
              <a:xfrm>
                <a:off x="7866720" y="4005000"/>
                <a:ext cx="531360" cy="422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Text Box 26"/>
              <p:cNvSpPr/>
              <p:nvPr/>
            </p:nvSpPr>
            <p:spPr>
              <a:xfrm>
                <a:off x="7866720" y="4437000"/>
                <a:ext cx="531360" cy="422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Text Box 27"/>
              <p:cNvSpPr/>
              <p:nvPr/>
            </p:nvSpPr>
            <p:spPr>
              <a:xfrm>
                <a:off x="7866720" y="4868640"/>
                <a:ext cx="531360" cy="422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Text Box 28"/>
              <p:cNvSpPr/>
              <p:nvPr/>
            </p:nvSpPr>
            <p:spPr>
              <a:xfrm>
                <a:off x="7866720" y="5302080"/>
                <a:ext cx="531360" cy="422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3" name="Text Box 29"/>
            <p:cNvSpPr/>
            <p:nvPr/>
          </p:nvSpPr>
          <p:spPr>
            <a:xfrm>
              <a:off x="8398440" y="2278080"/>
              <a:ext cx="531000" cy="42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Text Box 30"/>
            <p:cNvSpPr/>
            <p:nvPr/>
          </p:nvSpPr>
          <p:spPr>
            <a:xfrm>
              <a:off x="6870960" y="2349360"/>
              <a:ext cx="3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Text Box 31"/>
            <p:cNvSpPr/>
            <p:nvPr/>
          </p:nvSpPr>
          <p:spPr>
            <a:xfrm>
              <a:off x="7934040" y="1485720"/>
              <a:ext cx="3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7402680" y="981000"/>
              <a:ext cx="3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8531640" y="1917720"/>
              <a:ext cx="3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8" name="Text Box 32"/>
          <p:cNvSpPr/>
          <p:nvPr/>
        </p:nvSpPr>
        <p:spPr>
          <a:xfrm>
            <a:off x="6804000" y="2708280"/>
            <a:ext cx="432000" cy="3025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7380360" y="1413000"/>
            <a:ext cx="431640" cy="2584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Tahoma"/>
              </a:rPr>
              <a:t>Щ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Ё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7885080" y="1844640"/>
            <a:ext cx="432000" cy="390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Tahoma"/>
              </a:rPr>
              <a:t>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ahoma"/>
              </a:rPr>
              <a:t>Д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8459640" y="2276640"/>
            <a:ext cx="432000" cy="1263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Tahoma"/>
              </a:rPr>
              <a:t>П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36"/>
          <p:cNvSpPr/>
          <p:nvPr/>
        </p:nvSpPr>
        <p:spPr>
          <a:xfrm>
            <a:off x="8893080" y="2708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Кристалл ключевой воды.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859280" y="0"/>
            <a:ext cx="2124000" cy="1940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Вода, прослушавшая тяжёлый рок - вот её кристалл."/>
          <p:cNvPicPr/>
          <p:nvPr/>
        </p:nvPicPr>
        <p:blipFill>
          <a:blip r:embed="rId2"/>
          <a:stretch/>
        </p:blipFill>
        <p:spPr>
          <a:xfrm>
            <a:off x="4932360" y="2060640"/>
            <a:ext cx="2016000" cy="186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Вода после приказа «Сделать это»."/>
          <p:cNvPicPr/>
          <p:nvPr/>
        </p:nvPicPr>
        <p:blipFill>
          <a:blip r:embed="rId3"/>
          <a:stretch/>
        </p:blipFill>
        <p:spPr>
          <a:xfrm>
            <a:off x="684360" y="393372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Кристалл той же воды после молитвы буддистского первосвященника Като."/>
          <p:cNvPicPr/>
          <p:nvPr/>
        </p:nvPicPr>
        <p:blipFill>
          <a:blip r:embed="rId4"/>
          <a:stretch/>
        </p:blipFill>
        <p:spPr>
          <a:xfrm>
            <a:off x="3419640" y="4149720"/>
            <a:ext cx="2014200" cy="201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Слова «Любовь и благодарность», произнесенные на английском языке.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6084720" y="4076640"/>
            <a:ext cx="1946520" cy="201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Слова «Ты надоел мне, я убью тебя» (русский эквивалент: «Ты меня достал»)."/>
          <p:cNvPicPr/>
          <p:nvPr/>
        </p:nvPicPr>
        <p:blipFill>
          <a:blip r:embed="rId6"/>
          <a:stretch/>
        </p:blipFill>
        <p:spPr>
          <a:xfrm>
            <a:off x="1403280" y="1844640"/>
            <a:ext cx="2087640" cy="1871640"/>
          </a:xfrm>
          <a:prstGeom prst="rect">
            <a:avLst/>
          </a:prstGeom>
          <a:ln w="0">
            <a:noFill/>
          </a:ln>
        </p:spPr>
      </p:pic>
      <p:sp>
        <p:nvSpPr>
          <p:cNvPr id="149" name="Штриховая стрелка вправо 9"/>
          <p:cNvSpPr/>
          <p:nvPr/>
        </p:nvSpPr>
        <p:spPr>
          <a:xfrm>
            <a:off x="324000" y="0"/>
            <a:ext cx="4433760" cy="2060640"/>
          </a:xfrm>
          <a:prstGeom prst="pie">
            <a:avLst/>
          </a:prstGeom>
          <a:noFill/>
          <a:ln w="38160">
            <a:solidFill>
              <a:srgbClr val="385d8a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Кристалл ключевой 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3" descr="1117668414"/>
          <p:cNvPicPr/>
          <p:nvPr/>
        </p:nvPicPr>
        <p:blipFill>
          <a:blip r:embed="rId7"/>
          <a:stretch/>
        </p:blipFill>
        <p:spPr>
          <a:xfrm>
            <a:off x="755640" y="3141720"/>
            <a:ext cx="542880" cy="61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1117668415"/>
          <p:cNvPicPr/>
          <p:nvPr/>
        </p:nvPicPr>
        <p:blipFill>
          <a:blip r:embed="rId8"/>
          <a:stretch/>
        </p:blipFill>
        <p:spPr>
          <a:xfrm>
            <a:off x="4284720" y="3284640"/>
            <a:ext cx="59040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5" descr="1117668416"/>
          <p:cNvPicPr/>
          <p:nvPr/>
        </p:nvPicPr>
        <p:blipFill>
          <a:blip r:embed="rId9"/>
          <a:stretch/>
        </p:blipFill>
        <p:spPr>
          <a:xfrm>
            <a:off x="179280" y="5445000"/>
            <a:ext cx="48600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1117668417"/>
          <p:cNvPicPr/>
          <p:nvPr/>
        </p:nvPicPr>
        <p:blipFill>
          <a:blip r:embed="rId10"/>
          <a:stretch/>
        </p:blipFill>
        <p:spPr>
          <a:xfrm>
            <a:off x="2987640" y="5516640"/>
            <a:ext cx="42876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7" descr="1117668418"/>
          <p:cNvPicPr/>
          <p:nvPr/>
        </p:nvPicPr>
        <p:blipFill>
          <a:blip r:embed="rId11"/>
          <a:stretch/>
        </p:blipFill>
        <p:spPr>
          <a:xfrm>
            <a:off x="5651640" y="5516640"/>
            <a:ext cx="45720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К Элизе.mp3" descr=""/>
          <p:cNvPicPr/>
          <p:nvPr/>
        </p:nvPicPr>
        <p:blipFill>
          <a:blip r:embed="rId12"/>
          <a:stretch/>
        </p:blipFill>
        <p:spPr>
          <a:xfrm>
            <a:off x="8839080" y="571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6" name="любовь10.mp3" descr=""/>
          <p:cNvPicPr/>
          <p:nvPr/>
        </p:nvPicPr>
        <p:blipFill>
          <a:blip r:embed="rId13"/>
          <a:stretch/>
        </p:blipFill>
        <p:spPr>
          <a:xfrm>
            <a:off x="8832960" y="135252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157" name="рамштейн.mp3" descr=""/>
          <p:cNvPicPr/>
          <p:nvPr/>
        </p:nvPicPr>
        <p:blipFill>
          <a:blip r:embed="rId14"/>
          <a:stretch/>
        </p:blipFill>
        <p:spPr>
          <a:xfrm>
            <a:off x="8832960" y="2066760"/>
            <a:ext cx="317520" cy="3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1278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123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63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56800" y="1999800"/>
            <a:ext cx="2535480" cy="5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ариант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572080" y="1928880"/>
            <a:ext cx="19288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2786040" y="0"/>
            <a:ext cx="31431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Тест </a:t>
            </a:r>
            <a:endParaRPr b="1" lang="en-US" sz="1800" spc="1" strike="noStrike">
              <a:ln w="255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61" name="Picture 7" descr="21"/>
          <p:cNvPicPr/>
          <p:nvPr/>
        </p:nvPicPr>
        <p:blipFill>
          <a:blip r:embed="rId3"/>
          <a:stretch/>
        </p:blipFill>
        <p:spPr>
          <a:xfrm>
            <a:off x="1785960" y="785880"/>
            <a:ext cx="409680" cy="10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21"/>
          <p:cNvPicPr/>
          <p:nvPr/>
        </p:nvPicPr>
        <p:blipFill>
          <a:blip r:embed="rId4"/>
          <a:stretch/>
        </p:blipFill>
        <p:spPr>
          <a:xfrm>
            <a:off x="6572160" y="857160"/>
            <a:ext cx="362160" cy="908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21"/>
          <p:cNvPicPr/>
          <p:nvPr/>
        </p:nvPicPr>
        <p:blipFill>
          <a:blip r:embed="rId5"/>
          <a:stretch/>
        </p:blipFill>
        <p:spPr>
          <a:xfrm>
            <a:off x="6072120" y="857160"/>
            <a:ext cx="362160" cy="9082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1571760" y="2571840"/>
            <a:ext cx="1143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Прямоугольник 8"/>
          <p:cNvSpPr/>
          <p:nvPr/>
        </p:nvSpPr>
        <p:spPr>
          <a:xfrm>
            <a:off x="2908800" y="3571920"/>
            <a:ext cx="270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тветы:</a:t>
            </a: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000840" y="2571840"/>
            <a:ext cx="1143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2:14:54Z</dcterms:created>
  <dc:creator>я</dc:creator>
  <dc:description/>
  <dc:language>en-US</dc:language>
  <cp:lastModifiedBy>Гость</cp:lastModifiedBy>
  <dcterms:modified xsi:type="dcterms:W3CDTF">2010-12-21T06:32:13Z</dcterms:modified>
  <cp:revision>90</cp:revision>
  <dc:subject/>
  <dc:title>Тема урока: Оксид водорода - вода</dc:title>
</cp:coreProperties>
</file>