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3FC5D-467E-449F-B8A8-6A0E529C5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6AB11-3402-4188-8877-E5E7BC92A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7A573-C9DF-4AD8-A685-954687430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ADDCA-2677-46BB-A2DE-93469A7F3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719BC-6D53-4E9D-A1BF-76920A9F0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FE9C5-3D94-4495-8D60-CA077AEB9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957FE-FF3B-43B7-B03E-14B6979C6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72537-E7AF-47E0-834D-210A54B31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779E5-521B-41A2-BCE4-B4D79C30A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6B8CE-BCFB-415A-B142-BD0009655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B1586-CB01-4471-82D1-73F84AF61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3F6D0-60C1-41E9-A076-8AAD290E4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E15CE-F07F-462E-95A7-1D987A680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B90F4-6ED1-4B8F-A0DC-FA41EFC62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4CC36-FA64-4433-AC80-D9DF954DC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A22BB-D2C4-4694-B8BB-E3714D2A1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7D516-1ADE-40A7-8AA9-18F8D8856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60EA9-D1F4-4B85-B523-E98C515B4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88E1F-CBB4-41F6-9390-3FB2FB4CE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B1655-2A63-4A57-85D5-2CB76EA9B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53DBB-309A-4B65-86AA-092A5620F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93959-B1E9-4E0C-9B42-569AADCDA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6D55A-7CDF-43F9-8B81-2BBA216B9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C3D87-F9BD-4510-99A7-DFD5A2CD6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4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66006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33cc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33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33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33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99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D0763-EEF3-4A1B-8B99-7127A846657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4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4E5E8-8474-45A6-A7C6-CB8706545805}" type="slidenum">
              <a:rPr b="0" lang="ru-RU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66"/>
                </a:solidFill>
                <a:latin typeface="Verdana"/>
              </a:rPr>
              <a:t>Оснащение познавательного уголка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488680" y="4279680"/>
            <a:ext cx="6147000" cy="148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Verdana"/>
              </a:rPr>
              <a:t>В старшей группе №8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66"/>
                </a:solidFill>
                <a:latin typeface="Verdana"/>
              </a:rPr>
              <a:t>Математический уголок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70" name="Объект 3" descr=""/>
          <p:cNvPicPr/>
          <p:nvPr/>
        </p:nvPicPr>
        <p:blipFill>
          <a:blip r:embed="rId1"/>
          <a:stretch/>
        </p:blipFill>
        <p:spPr>
          <a:xfrm>
            <a:off x="826920" y="1652760"/>
            <a:ext cx="749016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66"/>
                </a:solidFill>
                <a:latin typeface="Verdana"/>
              </a:rPr>
              <a:t>Игры на развитие логического мышления. </a:t>
            </a: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7280" y="155736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73" name="Рисунок 5" descr=""/>
          <p:cNvPicPr/>
          <p:nvPr/>
        </p:nvPicPr>
        <p:blipFill>
          <a:blip r:embed="rId1"/>
          <a:stretch/>
        </p:blipFill>
        <p:spPr>
          <a:xfrm>
            <a:off x="1187280" y="1557360"/>
            <a:ext cx="7499520" cy="44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75" name="Объект 3" descr=""/>
          <p:cNvPicPr/>
          <p:nvPr/>
        </p:nvPicPr>
        <p:blipFill>
          <a:blip r:embed="rId1"/>
          <a:stretch/>
        </p:blipFill>
        <p:spPr>
          <a:xfrm>
            <a:off x="1601640" y="476280"/>
            <a:ext cx="7085160" cy="55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66"/>
                </a:solidFill>
                <a:latin typeface="Verdana"/>
              </a:rPr>
              <a:t>Игры на развитие памяти и внимания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77" name="Объект 3" descr=""/>
          <p:cNvPicPr/>
          <p:nvPr/>
        </p:nvPicPr>
        <p:blipFill>
          <a:blip r:embed="rId1"/>
          <a:stretch/>
        </p:blipFill>
        <p:spPr>
          <a:xfrm>
            <a:off x="442800" y="1652760"/>
            <a:ext cx="4129200" cy="4351320"/>
          </a:xfrm>
          <a:prstGeom prst="rect">
            <a:avLst/>
          </a:prstGeom>
          <a:ln w="0">
            <a:noFill/>
          </a:ln>
        </p:spPr>
      </p:pic>
      <p:pic>
        <p:nvPicPr>
          <p:cNvPr id="178" name="Объект 3" descr=""/>
          <p:cNvPicPr/>
          <p:nvPr/>
        </p:nvPicPr>
        <p:blipFill>
          <a:blip r:embed="rId2"/>
          <a:stretch/>
        </p:blipFill>
        <p:spPr>
          <a:xfrm>
            <a:off x="4716360" y="1652760"/>
            <a:ext cx="410364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66"/>
                </a:solidFill>
                <a:latin typeface="Verdana"/>
              </a:rPr>
              <a:t>Игры-конструкторы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80" name="Объект 3" descr=""/>
          <p:cNvPicPr/>
          <p:nvPr/>
        </p:nvPicPr>
        <p:blipFill>
          <a:blip r:embed="rId1"/>
          <a:stretch/>
        </p:blipFill>
        <p:spPr>
          <a:xfrm>
            <a:off x="250920" y="1600200"/>
            <a:ext cx="4321080" cy="4853160"/>
          </a:xfrm>
          <a:prstGeom prst="rect">
            <a:avLst/>
          </a:prstGeom>
          <a:ln w="0">
            <a:noFill/>
          </a:ln>
        </p:spPr>
      </p:pic>
      <p:pic>
        <p:nvPicPr>
          <p:cNvPr id="181" name="Рисунок 4" descr=""/>
          <p:cNvPicPr/>
          <p:nvPr/>
        </p:nvPicPr>
        <p:blipFill>
          <a:blip r:embed="rId2"/>
          <a:stretch/>
        </p:blipFill>
        <p:spPr>
          <a:xfrm>
            <a:off x="4716360" y="1600200"/>
            <a:ext cx="4248360" cy="485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9T09:23:57Z</dcterms:created>
  <dc:creator>Admin</dc:creator>
  <dc:description/>
  <dc:language>en-US</dc:language>
  <cp:lastModifiedBy>Худзик Ярослав</cp:lastModifiedBy>
  <dcterms:modified xsi:type="dcterms:W3CDTF">2018-01-08T20:23:29Z</dcterms:modified>
  <cp:revision>21</cp:revision>
  <dc:subject/>
  <dc:title>Дидактические игры по математике</dc:title>
</cp:coreProperties>
</file>