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B83-F84E-4F8C-AC93-65187B49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56C-327F-426B-B8E7-B831D1CB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9FE-E1F4-4B50-92E8-A8D9573A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C7A-C41E-4A57-B2FF-4C66C298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7133-961B-4829-81CE-1316CE83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C4D2-DA0E-4B22-8F72-95E6B0A3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F6F7-5737-4B35-92D1-B6100F13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7B7A-6104-40B1-894A-F973E3C8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14C6-C791-4004-B575-F09C6270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B7E9-9C9F-4C45-BDE5-9D0B69B1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339B-547E-44F2-B501-34D7BFB4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DAC-B337-4287-B440-BD100260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2357-68B0-4731-B8E7-E0692A08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CA88-D13F-439D-ABC2-52460D97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7626-0AC0-48CE-A79B-40985150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E30A-18B7-4ADD-BE9D-EBC4FC2B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8592-534F-43D9-A40A-EF9FFD36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7A875-3905-4A84-983A-77AEB420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EBC0C-0EB8-4A9C-9DC0-957FAEF9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7B02F-6567-40C5-9CD1-0EF14237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9C0F-D671-4CCD-A890-97393539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AF9E-60FC-4A66-BD29-0DAA2DDB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357-07D8-4715-A143-CEEEC78B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40641-05F8-4966-A596-8DBDD0A0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298C0-2F56-4F0F-A70E-D5D9604C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0DFD-1026-4C04-80D8-CB034D87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A53B-78FB-4AE1-A1C7-D559CCD4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600E-9C95-4552-9B6B-F4EB286B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C9BFB-19C6-4F79-8344-9CB0D7E2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4884A-3AF1-43AA-B50C-B29576B3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BBE65-BB4D-4784-8000-5B84D776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F8A7-E1C1-4E9E-A2D8-CA57C8A4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D5389-CD08-456E-86EF-748886F4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D62-ECC0-4AA6-BDAF-FF84CF28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7F0D-3A41-4190-8C77-1C8CBF19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7D916-6639-4076-BFDC-D05B880B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EE32-7DA9-4867-9F65-7469968A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FCD74-E444-4B7C-B07E-50741B15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B8CF6-AA8A-4A36-B8D1-B37447CA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A7EDE-D832-46FE-9E8E-B8FBC69C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759A-94ED-48E1-B209-6FAF485F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3ED5F-EA61-4C1D-8F47-6FCC39C4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EBD42-06F3-4E13-BF47-8F9A968F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6D402-B76D-4026-84D5-3C1ACC40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4CC-D2DD-4FA0-85C1-3FFB0BB4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21F4D-EB92-4CE6-ABA4-FB5DF36A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60BA-C522-4757-8033-853CB9AA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9E28A-8B3F-4F7C-A393-49201F3A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25AE5-03D3-4442-A710-EB316B0E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391D0-CF14-4C38-ACA2-0ED20996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1AE5B-B6E5-4113-99B9-E7AE3C18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98059-36F5-4FC5-BF03-ECBC00D8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178C2-D4F4-4C88-929E-186EE515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24F2-A67D-4F71-BC20-FE466D83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E296B-5377-40CD-A097-CB324590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EC1-CD76-4ECB-989C-0040A962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F9B47-DC07-45FD-A33B-C67982A7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8AC-E799-4D4B-ABAE-AA217607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E72-E5CF-4014-8F6D-C0353063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06D-07CE-4491-B048-84E8CB97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F987-0186-4AB1-97F8-249D942797B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AD25-3FFA-4022-A94D-0C175DEECF3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209C-9DE5-428B-95EF-A90CECC2F40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8182-6AAD-4FBA-A1D0-874DAEB19F6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F525-0D88-48D8-BF65-34DF61D1809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САРАТОВЦЫ – УЧАСТНИКИ ВЕЛИКОЙ ОТЕЧЕСТВЕННОЙ ВОЙНЫ 1941-1945 г.г.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4356000" y="3716280"/>
            <a:ext cx="46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дуллина В.Б., 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ОШ № 46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анова Т.А., учитель истории МОУ «СОШ № 57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нского района г. Сара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4" descr=""/>
          <p:cNvPicPr/>
          <p:nvPr/>
        </p:nvPicPr>
        <p:blipFill>
          <a:blip r:embed="rId1"/>
          <a:stretch/>
        </p:blipFill>
        <p:spPr>
          <a:xfrm rot="19920000">
            <a:off x="385920" y="4386240"/>
            <a:ext cx="3730320" cy="119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N:\ветераны\Ветераны\Линевский\Фото\Линевский Б.А..JPG"/>
          <p:cNvPicPr/>
          <p:nvPr/>
        </p:nvPicPr>
        <p:blipFill>
          <a:blip r:embed="rId1"/>
          <a:stretch/>
        </p:blipFill>
        <p:spPr>
          <a:xfrm>
            <a:off x="0" y="0"/>
            <a:ext cx="4702320" cy="5950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N:\ветераны\Ветераны\Линевский\Фото\DSCF0910.JPG"/>
          <p:cNvPicPr/>
          <p:nvPr/>
        </p:nvPicPr>
        <p:blipFill>
          <a:blip r:embed="rId2"/>
          <a:stretch/>
        </p:blipFill>
        <p:spPr>
          <a:xfrm>
            <a:off x="4572000" y="1197000"/>
            <a:ext cx="4572000" cy="56610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5219640" y="40464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2936"/>
                </a:solidFill>
                <a:latin typeface="Arial"/>
              </a:rPr>
              <a:t>Лин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f2936"/>
                </a:solidFill>
                <a:latin typeface="Arial"/>
              </a:rPr>
              <a:t>Богдан Алекс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907560"/>
            <a:ext cx="83293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ЗКИЙ ПОКЛОН, ВАМ ВЕТЕРАНЫ!</a:t>
            </a:r>
            <a:endParaRPr b="1" lang="en-US" sz="8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211280" y="530280"/>
            <a:ext cx="4932360" cy="369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6000"/>
          </a:bodyPr>
          <a:p>
            <a:pPr marL="227520" indent="-227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. Создание Книги Памяти Ленинского  района города Сарато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материала о военной биографии жителей Ленинского района города Сарато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овечивание и сохранение памяти  земляков-саратовцев – участников 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http://susanin.udm.ru/upload/iblock/8b3/10809d80-59a7-44c8-970c-8effa1ec17be.jpg"/>
          <p:cNvPicPr/>
          <p:nvPr/>
        </p:nvPicPr>
        <p:blipFill>
          <a:blip r:embed="rId1"/>
          <a:stretch/>
        </p:blipFill>
        <p:spPr>
          <a:xfrm>
            <a:off x="468360" y="836640"/>
            <a:ext cx="377964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260280"/>
            <a:ext cx="378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Костоусов Михаил Максимович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2" descr="N:\ветераны\Ветераны\Костоусов М. М\CIMG0408.JPG"/>
          <p:cNvPicPr/>
          <p:nvPr/>
        </p:nvPicPr>
        <p:blipFill>
          <a:blip r:embed="rId1"/>
          <a:stretch/>
        </p:blipFill>
        <p:spPr>
          <a:xfrm>
            <a:off x="539640" y="1574640"/>
            <a:ext cx="3853080" cy="4950000"/>
          </a:xfrm>
          <a:prstGeom prst="rect">
            <a:avLst/>
          </a:prstGeom>
          <a:ln w="9360">
            <a:solidFill>
              <a:srgbClr val="f07f09"/>
            </a:solidFill>
            <a:miter/>
          </a:ln>
        </p:spPr>
      </p:pic>
      <p:pic>
        <p:nvPicPr>
          <p:cNvPr id="227" name="Picture 3" descr="N:\ветераны\Ветераны\Костоусов М. М\CIMG0413.JPG"/>
          <p:cNvPicPr/>
          <p:nvPr/>
        </p:nvPicPr>
        <p:blipFill>
          <a:blip r:embed="rId2"/>
          <a:stretch/>
        </p:blipFill>
        <p:spPr>
          <a:xfrm>
            <a:off x="4356000" y="260280"/>
            <a:ext cx="4788000" cy="489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250920" y="73080"/>
            <a:ext cx="86421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Times New Roman"/>
                <a:ea typeface="Calibri"/>
              </a:rPr>
              <a:t>Костоусов Михаил Максим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Times New Roman"/>
                <a:ea typeface="Calibri"/>
              </a:rPr>
              <a:t>22.10.19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лся в деревне Смолино Курганской области, где учился в школе. Из родной деревни был призван на фронт 16.08.1942 года семнадцатилетним пареньком на 1-й Украинский фронт в 16 Гвардейскую механизированную бригаду в пехоту ряд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ранения воевал на 2-ом Белорусском фронте. Освобождал города  Смоленск, Львов, Зарау. Войну закончил в Германии, не дойдя до Берлина всего 9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ет боевую медаль «За отваг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войны попал в Киев, где до 1948 года работал телефонистом. Из Киева Михаила Максимовича отправили в Саратов. Здесь он работал на заводах «Серп и молот» и «СЭПО». Тут же, в Саратове, Михаил Максимович познакомился со своей будущей суп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2" descr="N:\ветераны\Ветераны\Костоусов М. М\CIMG0417.JPG"/>
          <p:cNvPicPr/>
          <p:nvPr/>
        </p:nvPicPr>
        <p:blipFill>
          <a:blip r:embed="rId1"/>
          <a:stretch/>
        </p:blipFill>
        <p:spPr>
          <a:xfrm>
            <a:off x="4148280" y="1628640"/>
            <a:ext cx="4716360" cy="5229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N:\ветераны\Ветераны\Костоусов М. М\CIMG0416.JPG"/>
          <p:cNvPicPr/>
          <p:nvPr/>
        </p:nvPicPr>
        <p:blipFill>
          <a:blip r:embed="rId2"/>
          <a:stretch/>
        </p:blipFill>
        <p:spPr>
          <a:xfrm>
            <a:off x="324000" y="692280"/>
            <a:ext cx="3814560" cy="43210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4859280" y="26028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Костоусов Михаил Максим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826920" y="476280"/>
            <a:ext cx="784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250920" y="-59040"/>
            <a:ext cx="864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2936"/>
                </a:solidFill>
                <a:latin typeface="Times New Roman"/>
                <a:ea typeface="Calibri"/>
              </a:rPr>
              <a:t>Неверов Александр Максим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2936"/>
                </a:solidFill>
                <a:latin typeface="Times New Roman"/>
                <a:ea typeface="Calibri"/>
              </a:rPr>
              <a:t>08.01.19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лся в селе Варварино Тамалинского района Пензенской области (до 1937 года село входило в состав Саратовской области). До 7 класса учился в школе родного села. На войну был призван 8 января 1943 года. Целый год, до января 1944 года, находился в учебных подразделениях, а 21 января 1944 года попал на 1-й Белорусский фронт в 89 Таманскую стрелковую армию младшим сержантом, командиром пулемётного расчёта «Максим». Принимал участие в освобождении города Керчи, дошёл до Севастополя. Имеет ра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Александра Максимовича множество наград боевых и юбилей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беду встретил в Ульяновском танковом училище, куда был отправлен для прохождения дальнейшей учёбы. После окончания училища Александр Максимович уехал служить в Германию, где прожил до 1949 года. После Германии – Белоруссия, откуда Александра Максимовича направили в Сара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аратове он продолжил службу заместителем командира танкового батальона по технической части, обучал солдат вождению танков. На одном из учений Александр Максимович сломал позвоночник, после чего в 1971 году был уволен по болезни в звании майора с правом ношения военной формы. А 27 апреля 2000 года Указом Президента РФ В.В. Путиным ему было присвоено звание подполковник. У Александра Максимовича 2 детей , 4 внуков, 5 правну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Picture 2" descr="N:\ветераны\Ветераны\Неверов А. М\CIMG0387.JPG"/>
          <p:cNvPicPr/>
          <p:nvPr/>
        </p:nvPicPr>
        <p:blipFill>
          <a:blip r:embed="rId1"/>
          <a:stretch/>
        </p:blipFill>
        <p:spPr>
          <a:xfrm>
            <a:off x="324000" y="1484280"/>
            <a:ext cx="4500360" cy="5113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N:\ветераны\Ветераны\Неверов А. М\CIMG0390.JPG"/>
          <p:cNvPicPr/>
          <p:nvPr/>
        </p:nvPicPr>
        <p:blipFill>
          <a:blip r:embed="rId2"/>
          <a:stretch/>
        </p:blipFill>
        <p:spPr>
          <a:xfrm>
            <a:off x="4859280" y="260280"/>
            <a:ext cx="4284720" cy="44640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"/>
          <p:cNvSpPr/>
          <p:nvPr/>
        </p:nvSpPr>
        <p:spPr>
          <a:xfrm>
            <a:off x="711000" y="549360"/>
            <a:ext cx="394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Неверов Александ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Максим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250920" y="87120"/>
            <a:ext cx="86421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2936"/>
                </a:solidFill>
                <a:latin typeface="Times New Roman"/>
                <a:ea typeface="Calibri"/>
              </a:rPr>
              <a:t>Утиркина  Антон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2936"/>
                </a:solidFill>
                <a:latin typeface="Times New Roman"/>
                <a:ea typeface="Calibri"/>
              </a:rPr>
              <a:t>26.06.19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лась в городе Саратове. Войну встретила в 17-летнем возраст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42 году в марте, прибавив себе год, пришла в райком записаться добровольцем на фронт, а 10 апреля уже была призвана  в арм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течение месяца проходила учение на территории Саратовской области в посёлке Увек. После прохождения учёбы попала в огневой взвод, в 89 зенитный батальон. Военную службу несла в Прибалтике, где и встретила Побе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время службы была и замполитом, и химинструктором.  Получила звание сержан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мобилизовалась из армии 23 июня 1945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рнувшись в родной Саратов, долгое время не могла устроиться на работу, так как не имела даже среднего образов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ла дочь, есть внуки и правну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1" name="Picture 2" descr="N:\ветераны\Ветераны\Утиркина А. Н\100_5436.JPG"/>
          <p:cNvPicPr/>
          <p:nvPr/>
        </p:nvPicPr>
        <p:blipFill>
          <a:blip r:embed="rId1"/>
          <a:stretch/>
        </p:blipFill>
        <p:spPr>
          <a:xfrm>
            <a:off x="4643280" y="1413000"/>
            <a:ext cx="4500720" cy="5445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N:\ветераны\Ветераны\Утиркина А. Н\100_5428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2215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7"/>
          <p:cNvSpPr/>
          <p:nvPr/>
        </p:nvSpPr>
        <p:spPr>
          <a:xfrm>
            <a:off x="4427640" y="0"/>
            <a:ext cx="47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Утирк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Антон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7:19:31Z</dcterms:created>
  <dc:creator>Татьяна</dc:creator>
  <dc:description/>
  <dc:language>en-US</dc:language>
  <cp:lastModifiedBy>1</cp:lastModifiedBy>
  <dcterms:modified xsi:type="dcterms:W3CDTF">2018-01-08T19:44:41Z</dcterms:modified>
  <cp:revision>41</cp:revision>
  <dc:subject/>
  <dc:title>Социально-значимый проект : Дело, которое изменит мир вокруг нас.</dc:title>
</cp:coreProperties>
</file>