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D2D8-1F77-4962-9446-CDEC78C4F1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BF56-FBFE-4786-B650-C804D5740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A257-10CF-4F5B-B328-1874B0D0E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EE7-2820-4772-B7B9-66A00A54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BB1-5A51-4186-BA27-54BAC98F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2FF-8D69-4323-9243-B973A3A9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D60-9A2B-40C5-8729-CA2C43BC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A4E-2A66-48F2-B690-8883E319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6E3-4D09-475D-BCA9-F3557730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81E-DF25-4BBF-9B51-EB779A78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4F7-BBC5-411D-A91C-DB3CDD6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0EE-9D9C-4E8A-940C-E9A755E4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C07-041C-4A7A-917D-51CF95A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862-3C23-450B-9FBA-BE60CCF3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894-D422-4453-8BB1-FBE4762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3D7-F07A-4880-9D1D-B2CE52640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anteleevatatyn.ucoz.ru/pisynki/80.gi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304920" y="228600"/>
            <a:ext cx="6248160" cy="8686800"/>
          </a:xfrm>
          <a:custGeom>
            <a:avLst/>
            <a:gdLst>
              <a:gd name="textAreaLeft" fmla="*/ 304920 w 6248160"/>
              <a:gd name="textAreaRight" fmla="*/ 5943240 w 6248160"/>
              <a:gd name="textAreaTop" fmla="*/ 304920 h 8686800"/>
              <a:gd name="textAreaBottom" fmla="*/ 8381880 h 8686800"/>
            </a:gdLst>
            <a:ahLst/>
            <a:rect l="textAreaLeft" t="textAreaTop" r="textAreaRight" b="textAreaBottom"/>
            <a:pathLst>
              <a:path w="21600" h="30030">
                <a:moveTo>
                  <a:pt x="3600" y="0"/>
                </a:moveTo>
                <a:arcTo wR="3600" hR="3600" stAng="16200000" swAng="-5400000"/>
                <a:lnTo>
                  <a:pt x="0" y="26430"/>
                </a:lnTo>
                <a:arcTo wR="3600" hR="3600" stAng="10800000" swAng="-5400000"/>
                <a:lnTo>
                  <a:pt x="18000" y="300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44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КНИГА"/>
          <p:cNvPicPr/>
          <p:nvPr/>
        </p:nvPicPr>
        <p:blipFill>
          <a:blip r:embed="rId1"/>
          <a:stretch/>
        </p:blipFill>
        <p:spPr>
          <a:xfrm>
            <a:off x="3276720" y="5181480"/>
            <a:ext cx="3800520" cy="3714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1143000" y="914400"/>
            <a:ext cx="4529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АБЛОН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762120" y="3124080"/>
            <a:ext cx="5181480" cy="19814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Сигналь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карто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для уро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русского язык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9"/>
          <p:cNvSpPr/>
          <p:nvPr/>
        </p:nvSpPr>
        <p:spPr>
          <a:xfrm>
            <a:off x="380880" y="5943600"/>
            <a:ext cx="327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ский рай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ола 5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х классов Смирнова Ольг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7"/>
          <p:cNvSpPr/>
          <p:nvPr/>
        </p:nvSpPr>
        <p:spPr>
          <a:xfrm>
            <a:off x="304920" y="228600"/>
            <a:ext cx="6248160" cy="8686800"/>
          </a:xfrm>
          <a:custGeom>
            <a:avLst/>
            <a:gdLst>
              <a:gd name="textAreaLeft" fmla="*/ 304920 w 6248160"/>
              <a:gd name="textAreaRight" fmla="*/ 5943240 w 6248160"/>
              <a:gd name="textAreaTop" fmla="*/ 304920 h 8686800"/>
              <a:gd name="textAreaBottom" fmla="*/ 8381880 h 8686800"/>
            </a:gdLst>
            <a:ahLst/>
            <a:rect l="textAreaLeft" t="textAreaTop" r="textAreaRight" b="textAreaBottom"/>
            <a:pathLst>
              <a:path w="21600" h="30030">
                <a:moveTo>
                  <a:pt x="3600" y="0"/>
                </a:moveTo>
                <a:arcTo wR="3600" hR="3600" stAng="16200000" swAng="-5400000"/>
                <a:lnTo>
                  <a:pt x="0" y="26430"/>
                </a:lnTo>
                <a:arcTo wR="3600" hR="3600" stAng="10800000" swAng="-5400000"/>
                <a:lnTo>
                  <a:pt x="18000" y="300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44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КНИГА"/>
          <p:cNvPicPr/>
          <p:nvPr/>
        </p:nvPicPr>
        <p:blipFill>
          <a:blip r:embed="rId1"/>
          <a:stretch/>
        </p:blipFill>
        <p:spPr>
          <a:xfrm>
            <a:off x="2743200" y="2819520"/>
            <a:ext cx="3800520" cy="3714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762120" y="2438280"/>
            <a:ext cx="518148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anteleevatatyn.ucoz.ru/pisynki/8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762120" y="647712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ский рай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ола 5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Смирнова Ольг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6000" y="106668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атериал для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981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ик-учитель(карти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WordArt 23"/>
          <p:cNvSpPr txBox="1"/>
          <p:nvPr/>
        </p:nvSpPr>
        <p:spPr>
          <a:xfrm>
            <a:off x="457200" y="380880"/>
            <a:ext cx="14479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24"/>
          <p:cNvSpPr txBox="1"/>
          <p:nvPr/>
        </p:nvSpPr>
        <p:spPr>
          <a:xfrm>
            <a:off x="2743200" y="380880"/>
            <a:ext cx="1523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WordArt 25"/>
          <p:cNvSpPr txBox="1"/>
          <p:nvPr/>
        </p:nvSpPr>
        <p:spPr>
          <a:xfrm>
            <a:off x="4876920" y="457200"/>
            <a:ext cx="159048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WordArt 26"/>
          <p:cNvSpPr txBox="1"/>
          <p:nvPr/>
        </p:nvSpPr>
        <p:spPr>
          <a:xfrm>
            <a:off x="380880" y="3505320"/>
            <a:ext cx="13716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WordArt 27"/>
          <p:cNvSpPr txBox="1"/>
          <p:nvPr/>
        </p:nvSpPr>
        <p:spPr>
          <a:xfrm>
            <a:off x="2590920" y="3429000"/>
            <a:ext cx="18907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ю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" name="WordArt 28"/>
          <p:cNvSpPr txBox="1"/>
          <p:nvPr/>
        </p:nvSpPr>
        <p:spPr>
          <a:xfrm>
            <a:off x="4952880" y="3200400"/>
            <a:ext cx="1405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0" name="WordArt 29"/>
          <p:cNvSpPr txBox="1"/>
          <p:nvPr/>
        </p:nvSpPr>
        <p:spPr>
          <a:xfrm>
            <a:off x="380880" y="6400800"/>
            <a:ext cx="152424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WordArt 30"/>
          <p:cNvSpPr txBox="1"/>
          <p:nvPr/>
        </p:nvSpPr>
        <p:spPr>
          <a:xfrm>
            <a:off x="2514600" y="6400800"/>
            <a:ext cx="1905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WordArt 31"/>
          <p:cNvSpPr txBox="1"/>
          <p:nvPr/>
        </p:nvSpPr>
        <p:spPr>
          <a:xfrm>
            <a:off x="4952880" y="6400800"/>
            <a:ext cx="1524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 txBox="1"/>
          <p:nvPr/>
        </p:nvSpPr>
        <p:spPr>
          <a:xfrm>
            <a:off x="457200" y="304920"/>
            <a:ext cx="1447920" cy="25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8100000"/>
                </a:gradFill>
                <a:latin typeface="Arial"/>
              </a:rPr>
              <a:t>б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90920" y="533520"/>
            <a:ext cx="15858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99cc00"/>
                    </a:gs>
                  </a:gsLst>
                  <a:lin ang="10800000"/>
                </a:gradFill>
                <a:latin typeface="Arial"/>
              </a:rPr>
              <a:t>д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99cc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05520" y="482760"/>
            <a:ext cx="137160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8100000"/>
                </a:gradFill>
                <a:latin typeface="Arial"/>
              </a:rPr>
              <a:t>з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505320"/>
            <a:ext cx="12952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"/>
              </a:rPr>
              <a:t>п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19520" y="3581280"/>
            <a:ext cx="1371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"/>
              </a:rPr>
              <a:t>т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05520" y="3581280"/>
            <a:ext cx="1298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8100000"/>
                </a:gradFill>
                <a:latin typeface="Arial"/>
              </a:rPr>
              <a:t>с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6477120"/>
            <a:ext cx="137160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"/>
              </a:rPr>
              <a:t>в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14600" y="6064200"/>
            <a:ext cx="1884240" cy="30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6553080"/>
            <a:ext cx="990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13500000"/>
                </a:gradFill>
                <a:latin typeface="Arial"/>
              </a:rPr>
              <a:t>г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 txBox="1"/>
          <p:nvPr/>
        </p:nvSpPr>
        <p:spPr>
          <a:xfrm>
            <a:off x="533520" y="457200"/>
            <a:ext cx="1295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333399"/>
                    </a:gs>
                    <a:gs pos="100000">
                      <a:srgbClr val="99cc00"/>
                    </a:gs>
                  </a:gsLst>
                  <a:lin ang="8100000"/>
                </a:gradFill>
                <a:latin typeface="Arial"/>
              </a:rPr>
              <a:t>к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333399"/>
                  </a:gs>
                  <a:gs pos="100000">
                    <a:srgbClr val="99cc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457200"/>
            <a:ext cx="19814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00600" y="4572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ш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6781680"/>
            <a:ext cx="1600200" cy="762120"/>
            <a:chOff x="228600" y="6781680"/>
            <a:chExt cx="1600200" cy="762120"/>
          </a:xfrm>
        </p:grpSpPr>
        <p:sp>
          <p:nvSpPr>
            <p:cNvPr id="78" name=""/>
            <p:cNvSpPr/>
            <p:nvPr/>
          </p:nvSpPr>
          <p:spPr>
            <a:xfrm>
              <a:off x="228600" y="6934320"/>
              <a:ext cx="1600200" cy="0"/>
            </a:xfrm>
            <a:prstGeom prst="line">
              <a:avLst/>
            </a:prstGeom>
            <a:ln w="254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6520" y="6934320"/>
              <a:ext cx="0" cy="609480"/>
            </a:xfrm>
            <a:prstGeom prst="line">
              <a:avLst/>
            </a:prstGeom>
            <a:ln w="254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28800" y="6781680"/>
              <a:ext cx="0" cy="7621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6781680"/>
              <a:ext cx="16002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00240" y="6400440"/>
            <a:ext cx="1523880" cy="1449000"/>
            <a:chOff x="4800240" y="6400440"/>
            <a:chExt cx="1523880" cy="1449000"/>
          </a:xfrm>
        </p:grpSpPr>
        <p:grpSp>
          <p:nvGrpSpPr>
            <p:cNvPr id="83" name=""/>
            <p:cNvGrpSpPr/>
            <p:nvPr/>
          </p:nvGrpSpPr>
          <p:grpSpPr>
            <a:xfrm>
              <a:off x="4876920" y="6400440"/>
              <a:ext cx="1447200" cy="1449000"/>
              <a:chOff x="4876920" y="6400440"/>
              <a:chExt cx="1447200" cy="144900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4876920" y="6491520"/>
                <a:ext cx="768600" cy="1296360"/>
              </a:xfrm>
              <a:prstGeom prst="line">
                <a:avLst/>
              </a:prstGeom>
              <a:ln w="254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5555160" y="6400440"/>
                <a:ext cx="768960" cy="1449000"/>
              </a:xfrm>
              <a:prstGeom prst="line">
                <a:avLst/>
              </a:prstGeom>
              <a:ln w="254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4800240" y="6477120"/>
              <a:ext cx="685800" cy="12189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533520" y="3505320"/>
            <a:ext cx="1371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ь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3505320"/>
            <a:ext cx="1905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ъ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29200" y="3581280"/>
            <a:ext cx="14479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</a:t>
            </a:r>
            <a:endParaRPr b="1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/>
          <p:nvPr/>
        </p:nvSpPr>
        <p:spPr>
          <a:xfrm rot="18933600">
            <a:off x="2462760" y="6606000"/>
            <a:ext cx="1895400" cy="193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4" y="3574"/>
                </a:moveTo>
                <a:arcTo wR="10800" hR="10800" stAng="-8280146" swAng="11265408"/>
                <a:lnTo>
                  <a:pt x="10800" y="10800"/>
                </a:lnTo>
                <a:close/>
              </a:path>
              <a:path fill="none" w="21600" h="21600">
                <a:moveTo>
                  <a:pt x="2774" y="3574"/>
                </a:moveTo>
                <a:arcTo wR="10800" hR="10800" stAng="-8280146" swAng="11265408"/>
              </a:path>
            </a:pathLst>
          </a:custGeom>
          <a:noFill/>
          <a:ln w="254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" name="Group 23"/>
          <p:cNvGrpSpPr/>
          <p:nvPr/>
        </p:nvGrpSpPr>
        <p:grpSpPr>
          <a:xfrm>
            <a:off x="228600" y="6781680"/>
            <a:ext cx="1600200" cy="762120"/>
            <a:chOff x="228600" y="6781680"/>
            <a:chExt cx="1600200" cy="762120"/>
          </a:xfrm>
        </p:grpSpPr>
        <p:sp>
          <p:nvSpPr>
            <p:cNvPr id="93" name="Line 24"/>
            <p:cNvSpPr/>
            <p:nvPr/>
          </p:nvSpPr>
          <p:spPr>
            <a:xfrm>
              <a:off x="228600" y="6934320"/>
              <a:ext cx="1600200" cy="0"/>
            </a:xfrm>
            <a:prstGeom prst="line">
              <a:avLst/>
            </a:prstGeom>
            <a:ln w="254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1676520" y="6934320"/>
              <a:ext cx="0" cy="609480"/>
            </a:xfrm>
            <a:prstGeom prst="line">
              <a:avLst/>
            </a:prstGeom>
            <a:ln w="254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1828800" y="6781680"/>
              <a:ext cx="0" cy="7621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>
              <a:off x="228600" y="6781680"/>
              <a:ext cx="16002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8"/>
          <p:cNvGrpSpPr/>
          <p:nvPr/>
        </p:nvGrpSpPr>
        <p:grpSpPr>
          <a:xfrm>
            <a:off x="2590920" y="6781680"/>
            <a:ext cx="1600200" cy="762120"/>
            <a:chOff x="2590920" y="6781680"/>
            <a:chExt cx="1600200" cy="762120"/>
          </a:xfrm>
        </p:grpSpPr>
        <p:sp>
          <p:nvSpPr>
            <p:cNvPr id="98" name="Line 29"/>
            <p:cNvSpPr/>
            <p:nvPr/>
          </p:nvSpPr>
          <p:spPr>
            <a:xfrm>
              <a:off x="2590920" y="6934320"/>
              <a:ext cx="1600200" cy="0"/>
            </a:xfrm>
            <a:prstGeom prst="line">
              <a:avLst/>
            </a:prstGeom>
            <a:ln w="254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4038840" y="6934320"/>
              <a:ext cx="0" cy="609480"/>
            </a:xfrm>
            <a:prstGeom prst="line">
              <a:avLst/>
            </a:prstGeom>
            <a:ln w="254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4191120" y="6781680"/>
              <a:ext cx="0" cy="7621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2"/>
            <p:cNvSpPr/>
            <p:nvPr/>
          </p:nvSpPr>
          <p:spPr>
            <a:xfrm>
              <a:off x="2590920" y="6781680"/>
              <a:ext cx="16002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rc 33"/>
          <p:cNvSpPr/>
          <p:nvPr/>
        </p:nvSpPr>
        <p:spPr>
          <a:xfrm rot="18933600">
            <a:off x="328680" y="601560"/>
            <a:ext cx="1652400" cy="1703520"/>
          </a:xfrm>
          <a:custGeom>
            <a:avLst/>
            <a:gdLst>
              <a:gd name="textAreaLeft" fmla="*/ 0 w 1652400"/>
              <a:gd name="textAreaRight" fmla="*/ 1652760 w 1652400"/>
              <a:gd name="textAreaTop" fmla="*/ 0 h 1703520"/>
              <a:gd name="textAreaBottom" fmla="*/ 1703880 h 1703520"/>
            </a:gdLst>
            <a:ahLst/>
            <a:rect l="textAreaLeft" t="textAreaTop" r="textAreaRight" b="textAreaBottom"/>
            <a:pathLst>
              <a:path fill="none" w="37653" h="38087">
                <a:moveTo>
                  <a:pt x="0" y="7147"/>
                </a:moveTo>
                <a:cubicBezTo>
                  <a:pt x="4096" y="2597"/>
                  <a:pt x="9931" y="-1"/>
                  <a:pt x="16053" y="0"/>
                </a:cubicBezTo>
                <a:cubicBezTo>
                  <a:pt x="27982" y="0"/>
                  <a:pt x="37653" y="9670"/>
                  <a:pt x="37653" y="21600"/>
                </a:cubicBezTo>
                <a:cubicBezTo>
                  <a:pt x="37653" y="27952"/>
                  <a:pt x="34856" y="33982"/>
                  <a:pt x="30007" y="38086"/>
                </a:cubicBezTo>
              </a:path>
              <a:path stroke="0" w="37653" h="38087">
                <a:moveTo>
                  <a:pt x="0" y="7147"/>
                </a:moveTo>
                <a:cubicBezTo>
                  <a:pt x="4096" y="2597"/>
                  <a:pt x="9931" y="-1"/>
                  <a:pt x="16053" y="0"/>
                </a:cubicBezTo>
                <a:cubicBezTo>
                  <a:pt x="27982" y="0"/>
                  <a:pt x="37653" y="9670"/>
                  <a:pt x="37653" y="21600"/>
                </a:cubicBezTo>
                <a:cubicBezTo>
                  <a:pt x="37653" y="27952"/>
                  <a:pt x="34856" y="33982"/>
                  <a:pt x="30007" y="38086"/>
                </a:cubicBezTo>
                <a:lnTo>
                  <a:pt x="16053" y="21600"/>
                </a:lnTo>
                <a:close/>
              </a:path>
            </a:pathLst>
          </a:custGeom>
          <a:noFill/>
          <a:ln w="254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34"/>
          <p:cNvSpPr/>
          <p:nvPr/>
        </p:nvSpPr>
        <p:spPr>
          <a:xfrm rot="18933600">
            <a:off x="2590560" y="685800"/>
            <a:ext cx="1652400" cy="1706400"/>
          </a:xfrm>
          <a:custGeom>
            <a:avLst/>
            <a:gdLst>
              <a:gd name="textAreaLeft" fmla="*/ 0 w 1652400"/>
              <a:gd name="textAreaRight" fmla="*/ 1652760 w 1652400"/>
              <a:gd name="textAreaTop" fmla="*/ 0 h 1706400"/>
              <a:gd name="textAreaBottom" fmla="*/ 1706760 h 1706400"/>
            </a:gdLst>
            <a:ahLst/>
            <a:rect l="textAreaLeft" t="textAreaTop" r="textAreaRight" b="textAreaBottom"/>
            <a:pathLst>
              <a:path fill="none" w="37653" h="38087">
                <a:moveTo>
                  <a:pt x="0" y="7147"/>
                </a:moveTo>
                <a:cubicBezTo>
                  <a:pt x="4096" y="2597"/>
                  <a:pt x="9931" y="-1"/>
                  <a:pt x="16053" y="0"/>
                </a:cubicBezTo>
                <a:cubicBezTo>
                  <a:pt x="27982" y="0"/>
                  <a:pt x="37653" y="9670"/>
                  <a:pt x="37653" y="21600"/>
                </a:cubicBezTo>
                <a:cubicBezTo>
                  <a:pt x="37653" y="27952"/>
                  <a:pt x="34856" y="33982"/>
                  <a:pt x="30007" y="38086"/>
                </a:cubicBezTo>
              </a:path>
              <a:path stroke="0" w="37653" h="38087">
                <a:moveTo>
                  <a:pt x="0" y="7147"/>
                </a:moveTo>
                <a:cubicBezTo>
                  <a:pt x="4096" y="2597"/>
                  <a:pt x="9931" y="-1"/>
                  <a:pt x="16053" y="0"/>
                </a:cubicBezTo>
                <a:cubicBezTo>
                  <a:pt x="27982" y="0"/>
                  <a:pt x="37653" y="9670"/>
                  <a:pt x="37653" y="21600"/>
                </a:cubicBezTo>
                <a:cubicBezTo>
                  <a:pt x="37653" y="27952"/>
                  <a:pt x="34856" y="33982"/>
                  <a:pt x="30007" y="38086"/>
                </a:cubicBezTo>
                <a:lnTo>
                  <a:pt x="16053" y="21600"/>
                </a:lnTo>
                <a:close/>
              </a:path>
            </a:pathLst>
          </a:custGeom>
          <a:noFill/>
          <a:ln w="254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380880" y="3657600"/>
            <a:ext cx="1524240" cy="1608120"/>
          </a:xfrm>
          <a:prstGeom prst="rect">
            <a:avLst/>
          </a:prstGeom>
          <a:noFill/>
          <a:ln w="254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2666880" y="3657600"/>
            <a:ext cx="1524240" cy="1608120"/>
          </a:xfrm>
          <a:prstGeom prst="rect">
            <a:avLst/>
          </a:prstGeom>
          <a:noFill/>
          <a:ln w="254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8"/>
          <p:cNvSpPr/>
          <p:nvPr/>
        </p:nvSpPr>
        <p:spPr>
          <a:xfrm>
            <a:off x="5029200" y="3657600"/>
            <a:ext cx="1523880" cy="1608120"/>
          </a:xfrm>
          <a:prstGeom prst="rect">
            <a:avLst/>
          </a:prstGeom>
          <a:noFill/>
          <a:ln w="254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9"/>
          <p:cNvGrpSpPr/>
          <p:nvPr/>
        </p:nvGrpSpPr>
        <p:grpSpPr>
          <a:xfrm>
            <a:off x="4800240" y="6400440"/>
            <a:ext cx="1523880" cy="1449000"/>
            <a:chOff x="4800240" y="6400440"/>
            <a:chExt cx="1523880" cy="1449000"/>
          </a:xfrm>
        </p:grpSpPr>
        <p:grpSp>
          <p:nvGrpSpPr>
            <p:cNvPr id="108" name="Group 40"/>
            <p:cNvGrpSpPr/>
            <p:nvPr/>
          </p:nvGrpSpPr>
          <p:grpSpPr>
            <a:xfrm>
              <a:off x="4876920" y="6400440"/>
              <a:ext cx="1447200" cy="1449000"/>
              <a:chOff x="4876920" y="6400440"/>
              <a:chExt cx="1447200" cy="1449000"/>
            </a:xfrm>
          </p:grpSpPr>
          <p:sp>
            <p:nvSpPr>
              <p:cNvPr id="109" name="Line 41"/>
              <p:cNvSpPr/>
              <p:nvPr/>
            </p:nvSpPr>
            <p:spPr>
              <a:xfrm flipV="1">
                <a:off x="4876920" y="6491520"/>
                <a:ext cx="768600" cy="1296360"/>
              </a:xfrm>
              <a:prstGeom prst="line">
                <a:avLst/>
              </a:prstGeom>
              <a:ln w="254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2"/>
              <p:cNvSpPr/>
              <p:nvPr/>
            </p:nvSpPr>
            <p:spPr>
              <a:xfrm flipH="1" flipV="1">
                <a:off x="5555160" y="6400440"/>
                <a:ext cx="768960" cy="1449000"/>
              </a:xfrm>
              <a:prstGeom prst="line">
                <a:avLst/>
              </a:prstGeom>
              <a:ln w="254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43"/>
            <p:cNvSpPr/>
            <p:nvPr/>
          </p:nvSpPr>
          <p:spPr>
            <a:xfrm flipH="1">
              <a:off x="4800240" y="6477120"/>
              <a:ext cx="685800" cy="12189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4"/>
          <p:cNvGrpSpPr/>
          <p:nvPr/>
        </p:nvGrpSpPr>
        <p:grpSpPr>
          <a:xfrm>
            <a:off x="4876560" y="609120"/>
            <a:ext cx="1523880" cy="1449000"/>
            <a:chOff x="4876560" y="609120"/>
            <a:chExt cx="1523880" cy="1449000"/>
          </a:xfrm>
        </p:grpSpPr>
        <p:grpSp>
          <p:nvGrpSpPr>
            <p:cNvPr id="113" name="Group 45"/>
            <p:cNvGrpSpPr/>
            <p:nvPr/>
          </p:nvGrpSpPr>
          <p:grpSpPr>
            <a:xfrm>
              <a:off x="4953240" y="609120"/>
              <a:ext cx="1447200" cy="1449000"/>
              <a:chOff x="4953240" y="609120"/>
              <a:chExt cx="1447200" cy="1449000"/>
            </a:xfrm>
          </p:grpSpPr>
          <p:sp>
            <p:nvSpPr>
              <p:cNvPr id="114" name="Line 46"/>
              <p:cNvSpPr/>
              <p:nvPr/>
            </p:nvSpPr>
            <p:spPr>
              <a:xfrm flipV="1">
                <a:off x="4953240" y="700200"/>
                <a:ext cx="768600" cy="1296360"/>
              </a:xfrm>
              <a:prstGeom prst="line">
                <a:avLst/>
              </a:prstGeom>
              <a:ln w="254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7"/>
              <p:cNvSpPr/>
              <p:nvPr/>
            </p:nvSpPr>
            <p:spPr>
              <a:xfrm flipH="1" flipV="1">
                <a:off x="5631480" y="609120"/>
                <a:ext cx="768960" cy="1449000"/>
              </a:xfrm>
              <a:prstGeom prst="line">
                <a:avLst/>
              </a:prstGeom>
              <a:ln w="254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48"/>
            <p:cNvSpPr/>
            <p:nvPr/>
          </p:nvSpPr>
          <p:spPr>
            <a:xfrm flipH="1">
              <a:off x="4876560" y="685800"/>
              <a:ext cx="685800" cy="12189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41400" y="0"/>
            <a:ext cx="245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280960" y="0"/>
            <a:ext cx="23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492080" y="0"/>
            <a:ext cx="244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Д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-23760" y="4610160"/>
            <a:ext cx="246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2433960" y="4602240"/>
            <a:ext cx="221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4705200" y="4659480"/>
            <a:ext cx="245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30760" y="2743200"/>
            <a:ext cx="204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2440800" y="2743200"/>
            <a:ext cx="204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809240" y="2743200"/>
            <a:ext cx="204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30760" y="7238880"/>
            <a:ext cx="204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440800" y="7238880"/>
            <a:ext cx="204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809240" y="7238880"/>
            <a:ext cx="204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6"/>
          <p:cNvSpPr/>
          <p:nvPr/>
        </p:nvSpPr>
        <p:spPr>
          <a:xfrm>
            <a:off x="5533920" y="33274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292560" y="79246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610240" y="79246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1066680" y="990720"/>
            <a:ext cx="22320" cy="1966680"/>
          </a:xfrm>
          <a:prstGeom prst="line">
            <a:avLst/>
          </a:prstGeom>
          <a:ln w="30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380880" y="3429000"/>
            <a:ext cx="1492200" cy="0"/>
          </a:xfrm>
          <a:prstGeom prst="line">
            <a:avLst/>
          </a:prstGeom>
          <a:ln w="30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407880" y="647640"/>
            <a:ext cx="1492200" cy="0"/>
          </a:xfrm>
          <a:prstGeom prst="line">
            <a:avLst/>
          </a:prstGeom>
          <a:ln w="30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 flipH="1">
            <a:off x="3123720" y="1066680"/>
            <a:ext cx="27000" cy="1900440"/>
          </a:xfrm>
          <a:prstGeom prst="line">
            <a:avLst/>
          </a:prstGeom>
          <a:ln w="30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 flipH="1">
            <a:off x="3733560" y="1087560"/>
            <a:ext cx="6120" cy="1879560"/>
          </a:xfrm>
          <a:prstGeom prst="line">
            <a:avLst/>
          </a:prstGeom>
          <a:ln w="30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2700360" y="615960"/>
            <a:ext cx="1492200" cy="0"/>
          </a:xfrm>
          <a:prstGeom prst="line">
            <a:avLst/>
          </a:prstGeom>
          <a:ln w="30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666880" y="3505320"/>
            <a:ext cx="1524240" cy="0"/>
          </a:xfrm>
          <a:prstGeom prst="line">
            <a:avLst/>
          </a:prstGeom>
          <a:ln w="30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0"/>
          <p:cNvGrpSpPr/>
          <p:nvPr/>
        </p:nvGrpSpPr>
        <p:grpSpPr>
          <a:xfrm>
            <a:off x="228600" y="5638680"/>
            <a:ext cx="1914480" cy="3147840"/>
            <a:chOff x="228600" y="5638680"/>
            <a:chExt cx="1914480" cy="3147840"/>
          </a:xfrm>
        </p:grpSpPr>
        <p:sp>
          <p:nvSpPr>
            <p:cNvPr id="142" name="Oval 31"/>
            <p:cNvSpPr/>
            <p:nvPr/>
          </p:nvSpPr>
          <p:spPr>
            <a:xfrm>
              <a:off x="228600" y="5638680"/>
              <a:ext cx="1914480" cy="2209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2"/>
            <p:cNvSpPr/>
            <p:nvPr/>
          </p:nvSpPr>
          <p:spPr>
            <a:xfrm>
              <a:off x="795960" y="7819560"/>
              <a:ext cx="744480" cy="966960"/>
            </a:xfrm>
            <a:custGeom>
              <a:avLst/>
              <a:gdLst>
                <a:gd name="textAreaLeft" fmla="*/ 36360 w 744480"/>
                <a:gd name="textAreaRight" fmla="*/ 708120 w 744480"/>
                <a:gd name="textAreaTop" fmla="*/ 36360 h 966960"/>
                <a:gd name="textAreaBottom" fmla="*/ 930600 h 966960"/>
              </a:gdLst>
              <a:ahLst/>
              <a:rect l="textAreaLeft" t="textAreaTop" r="textAreaRight" b="textAreaBottom"/>
              <a:pathLst>
                <a:path w="21600" h="28052">
                  <a:moveTo>
                    <a:pt x="3600" y="0"/>
                  </a:moveTo>
                  <a:arcTo wR="3600" hR="3600" stAng="16200000" swAng="-5400000"/>
                  <a:lnTo>
                    <a:pt x="0" y="24452"/>
                  </a:lnTo>
                  <a:arcTo wR="3600" hR="3600" stAng="10800000" swAng="-5400000"/>
                  <a:lnTo>
                    <a:pt x="18000" y="28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5"/>
          <p:cNvGrpSpPr/>
          <p:nvPr/>
        </p:nvGrpSpPr>
        <p:grpSpPr>
          <a:xfrm>
            <a:off x="2595600" y="5715000"/>
            <a:ext cx="1823760" cy="3176280"/>
            <a:chOff x="2595600" y="5715000"/>
            <a:chExt cx="1823760" cy="3176280"/>
          </a:xfrm>
        </p:grpSpPr>
        <p:sp>
          <p:nvSpPr>
            <p:cNvPr id="145" name="Oval 28"/>
            <p:cNvSpPr/>
            <p:nvPr/>
          </p:nvSpPr>
          <p:spPr>
            <a:xfrm>
              <a:off x="2595600" y="5715000"/>
              <a:ext cx="1823760" cy="2252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3"/>
            <p:cNvSpPr/>
            <p:nvPr/>
          </p:nvSpPr>
          <p:spPr>
            <a:xfrm>
              <a:off x="3079800" y="7905240"/>
              <a:ext cx="709200" cy="986040"/>
            </a:xfrm>
            <a:custGeom>
              <a:avLst/>
              <a:gdLst>
                <a:gd name="textAreaLeft" fmla="*/ 34560 w 709200"/>
                <a:gd name="textAreaRight" fmla="*/ 674640 w 709200"/>
                <a:gd name="textAreaTop" fmla="*/ 34560 h 986040"/>
                <a:gd name="textAreaBottom" fmla="*/ 951480 h 986040"/>
              </a:gdLst>
              <a:ahLst/>
              <a:rect l="textAreaLeft" t="textAreaTop" r="textAreaRight" b="textAreaBottom"/>
              <a:pathLst>
                <a:path w="21600" h="30027">
                  <a:moveTo>
                    <a:pt x="3600" y="0"/>
                  </a:moveTo>
                  <a:arcTo wR="3600" hR="3600" stAng="16200000" swAng="-5400000"/>
                  <a:lnTo>
                    <a:pt x="0" y="26427"/>
                  </a:lnTo>
                  <a:arcTo wR="3600" hR="3600" stAng="10800000" swAng="-5400000"/>
                  <a:lnTo>
                    <a:pt x="18000" y="300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46"/>
          <p:cNvGrpSpPr/>
          <p:nvPr/>
        </p:nvGrpSpPr>
        <p:grpSpPr>
          <a:xfrm>
            <a:off x="4800600" y="5715000"/>
            <a:ext cx="1828440" cy="3093840"/>
            <a:chOff x="4800600" y="5715000"/>
            <a:chExt cx="1828440" cy="3093840"/>
          </a:xfrm>
        </p:grpSpPr>
        <p:sp>
          <p:nvSpPr>
            <p:cNvPr id="148" name="Oval 29"/>
            <p:cNvSpPr/>
            <p:nvPr/>
          </p:nvSpPr>
          <p:spPr>
            <a:xfrm>
              <a:off x="4800600" y="5715000"/>
              <a:ext cx="1828440" cy="2193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5389920" y="7848360"/>
              <a:ext cx="711000" cy="960480"/>
            </a:xfrm>
            <a:custGeom>
              <a:avLst/>
              <a:gdLst>
                <a:gd name="textAreaLeft" fmla="*/ 34560 w 711000"/>
                <a:gd name="textAreaRight" fmla="*/ 676440 w 711000"/>
                <a:gd name="textAreaTop" fmla="*/ 34560 h 960480"/>
                <a:gd name="textAreaBottom" fmla="*/ 925920 h 960480"/>
              </a:gdLst>
              <a:ahLst/>
              <a:rect l="textAreaLeft" t="textAreaTop" r="textAreaRight" b="textAreaBottom"/>
              <a:pathLst>
                <a:path w="21600" h="29175">
                  <a:moveTo>
                    <a:pt x="3600" y="0"/>
                  </a:moveTo>
                  <a:arcTo wR="3600" hR="3600" stAng="16200000" swAng="-5400000"/>
                  <a:lnTo>
                    <a:pt x="0" y="25575"/>
                  </a:lnTo>
                  <a:arcTo wR="3600" hR="3600" stAng="10800000" swAng="-5400000"/>
                  <a:lnTo>
                    <a:pt x="18000" y="291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4674240" y="418680"/>
            <a:ext cx="1929240" cy="3028320"/>
            <a:chOff x="4674240" y="418680"/>
            <a:chExt cx="1929240" cy="3028320"/>
          </a:xfrm>
        </p:grpSpPr>
        <p:sp>
          <p:nvSpPr>
            <p:cNvPr id="151" name="AutoShape 51"/>
            <p:cNvSpPr/>
            <p:nvPr/>
          </p:nvSpPr>
          <p:spPr>
            <a:xfrm rot="21558000">
              <a:off x="5333760" y="2426040"/>
              <a:ext cx="660600" cy="1016640"/>
            </a:xfrm>
            <a:custGeom>
              <a:avLst/>
              <a:gdLst>
                <a:gd name="textAreaLeft" fmla="*/ 32040 w 660600"/>
                <a:gd name="textAreaRight" fmla="*/ 628560 w 660600"/>
                <a:gd name="textAreaTop" fmla="*/ 32040 h 1016640"/>
                <a:gd name="textAreaBottom" fmla="*/ 984600 h 1016640"/>
              </a:gdLst>
              <a:ahLst/>
              <a:rect l="textAreaLeft" t="textAreaTop" r="textAreaRight" b="textAreaBottom"/>
              <a:pathLst>
                <a:path w="21600" h="33235">
                  <a:moveTo>
                    <a:pt x="3600" y="0"/>
                  </a:moveTo>
                  <a:arcTo wR="3600" hR="3600" stAng="16200000" swAng="-5400000"/>
                  <a:lnTo>
                    <a:pt x="0" y="29635"/>
                  </a:lnTo>
                  <a:arcTo wR="3600" hR="3600" stAng="10800000" swAng="-5400000"/>
                  <a:lnTo>
                    <a:pt x="18000" y="332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2"/>
            <p:cNvSpPr/>
            <p:nvPr/>
          </p:nvSpPr>
          <p:spPr>
            <a:xfrm rot="5250600">
              <a:off x="4462560" y="718920"/>
              <a:ext cx="2352240" cy="1828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Group 50" descr=""/>
          <p:cNvPicPr/>
          <p:nvPr/>
        </p:nvPicPr>
        <p:blipFill>
          <a:blip r:embed="rId1"/>
          <a:stretch/>
        </p:blipFill>
        <p:spPr>
          <a:xfrm>
            <a:off x="4479840" y="219240"/>
            <a:ext cx="1854360" cy="3011400"/>
          </a:xfrm>
          <a:prstGeom prst="rect">
            <a:avLst/>
          </a:prstGeom>
          <a:ln w="0">
            <a:noFill/>
          </a:ln>
        </p:spPr>
      </p:pic>
      <p:pic>
        <p:nvPicPr>
          <p:cNvPr id="154" name="Group 50" descr=""/>
          <p:cNvPicPr/>
          <p:nvPr/>
        </p:nvPicPr>
        <p:blipFill>
          <a:blip r:embed="rId2"/>
          <a:stretch/>
        </p:blipFill>
        <p:spPr>
          <a:xfrm>
            <a:off x="2346480" y="219240"/>
            <a:ext cx="1854000" cy="3011400"/>
          </a:xfrm>
          <a:prstGeom prst="rect">
            <a:avLst/>
          </a:prstGeom>
          <a:ln w="0">
            <a:noFill/>
          </a:ln>
        </p:spPr>
      </p:pic>
      <p:pic>
        <p:nvPicPr>
          <p:cNvPr id="155" name="Group 50" descr=""/>
          <p:cNvPicPr/>
          <p:nvPr/>
        </p:nvPicPr>
        <p:blipFill>
          <a:blip r:embed="rId3"/>
          <a:stretch/>
        </p:blipFill>
        <p:spPr>
          <a:xfrm>
            <a:off x="365040" y="219240"/>
            <a:ext cx="1854360" cy="30114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50" descr=""/>
          <p:cNvPicPr/>
          <p:nvPr/>
        </p:nvPicPr>
        <p:blipFill>
          <a:blip r:embed="rId4"/>
          <a:stretch/>
        </p:blipFill>
        <p:spPr>
          <a:xfrm>
            <a:off x="4175280" y="3267000"/>
            <a:ext cx="1854000" cy="30114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50" descr=""/>
          <p:cNvPicPr/>
          <p:nvPr/>
        </p:nvPicPr>
        <p:blipFill>
          <a:blip r:embed="rId5"/>
          <a:stretch/>
        </p:blipFill>
        <p:spPr>
          <a:xfrm>
            <a:off x="2193840" y="3267000"/>
            <a:ext cx="1854360" cy="3011400"/>
          </a:xfrm>
          <a:prstGeom prst="rect">
            <a:avLst/>
          </a:prstGeom>
          <a:ln w="0">
            <a:noFill/>
          </a:ln>
        </p:spPr>
      </p:pic>
      <p:pic>
        <p:nvPicPr>
          <p:cNvPr id="158" name="Group 50" descr=""/>
          <p:cNvPicPr/>
          <p:nvPr/>
        </p:nvPicPr>
        <p:blipFill>
          <a:blip r:embed="rId6"/>
          <a:stretch/>
        </p:blipFill>
        <p:spPr>
          <a:xfrm>
            <a:off x="212760" y="3267000"/>
            <a:ext cx="1854000" cy="3011400"/>
          </a:xfrm>
          <a:prstGeom prst="rect">
            <a:avLst/>
          </a:prstGeom>
          <a:ln w="0">
            <a:noFill/>
          </a:ln>
        </p:spPr>
      </p:pic>
      <p:pic>
        <p:nvPicPr>
          <p:cNvPr id="159" name="Group 50" descr=""/>
          <p:cNvPicPr/>
          <p:nvPr/>
        </p:nvPicPr>
        <p:blipFill>
          <a:blip r:embed="rId7"/>
          <a:stretch/>
        </p:blipFill>
        <p:spPr>
          <a:xfrm>
            <a:off x="2971800" y="6138720"/>
            <a:ext cx="1854360" cy="3005280"/>
          </a:xfrm>
          <a:prstGeom prst="rect">
            <a:avLst/>
          </a:prstGeom>
          <a:ln w="0">
            <a:noFill/>
          </a:ln>
        </p:spPr>
      </p:pic>
      <p:pic>
        <p:nvPicPr>
          <p:cNvPr id="160" name="Group 50" descr=""/>
          <p:cNvPicPr/>
          <p:nvPr/>
        </p:nvPicPr>
        <p:blipFill>
          <a:blip r:embed="rId8"/>
          <a:stretch/>
        </p:blipFill>
        <p:spPr>
          <a:xfrm>
            <a:off x="1066680" y="6138720"/>
            <a:ext cx="185436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50"/>
          <p:cNvGrpSpPr/>
          <p:nvPr/>
        </p:nvGrpSpPr>
        <p:grpSpPr>
          <a:xfrm>
            <a:off x="4979160" y="6119280"/>
            <a:ext cx="1929240" cy="3028320"/>
            <a:chOff x="4979160" y="6119280"/>
            <a:chExt cx="1929240" cy="3028320"/>
          </a:xfrm>
        </p:grpSpPr>
        <p:sp>
          <p:nvSpPr>
            <p:cNvPr id="162" name="AutoShape 51"/>
            <p:cNvSpPr/>
            <p:nvPr/>
          </p:nvSpPr>
          <p:spPr>
            <a:xfrm rot="21558000">
              <a:off x="5638680" y="8126640"/>
              <a:ext cx="660600" cy="1016640"/>
            </a:xfrm>
            <a:custGeom>
              <a:avLst/>
              <a:gdLst>
                <a:gd name="textAreaLeft" fmla="*/ 32040 w 660600"/>
                <a:gd name="textAreaRight" fmla="*/ 628560 w 660600"/>
                <a:gd name="textAreaTop" fmla="*/ 32040 h 1016640"/>
                <a:gd name="textAreaBottom" fmla="*/ 984600 h 1016640"/>
              </a:gdLst>
              <a:ahLst/>
              <a:rect l="textAreaLeft" t="textAreaTop" r="textAreaRight" b="textAreaBottom"/>
              <a:pathLst>
                <a:path w="21600" h="33235">
                  <a:moveTo>
                    <a:pt x="3600" y="0"/>
                  </a:moveTo>
                  <a:arcTo wR="3600" hR="3600" stAng="16200000" swAng="-5400000"/>
                  <a:lnTo>
                    <a:pt x="0" y="29635"/>
                  </a:lnTo>
                  <a:arcTo wR="3600" hR="3600" stAng="10800000" swAng="-5400000"/>
                  <a:lnTo>
                    <a:pt x="18000" y="332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2"/>
            <p:cNvSpPr/>
            <p:nvPr/>
          </p:nvSpPr>
          <p:spPr>
            <a:xfrm rot="5250600">
              <a:off x="4767480" y="6419520"/>
              <a:ext cx="2352240" cy="18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200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Line 39"/>
          <p:cNvSpPr/>
          <p:nvPr/>
        </p:nvSpPr>
        <p:spPr>
          <a:xfrm>
            <a:off x="1905120" y="5029200"/>
            <a:ext cx="0" cy="3733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1828800" y="533520"/>
            <a:ext cx="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4114800" y="3808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2"/>
          <p:cNvSpPr/>
          <p:nvPr/>
        </p:nvSpPr>
        <p:spPr>
          <a:xfrm>
            <a:off x="4114800" y="3808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>
            <a:off x="6095880" y="45720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4191120" y="365760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6172200" y="373392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7"/>
          <p:cNvSpPr/>
          <p:nvPr/>
        </p:nvSpPr>
        <p:spPr>
          <a:xfrm>
            <a:off x="4191120" y="67057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8"/>
          <p:cNvSpPr/>
          <p:nvPr/>
        </p:nvSpPr>
        <p:spPr>
          <a:xfrm>
            <a:off x="6095880" y="662940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3-08-22T20:22:0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