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744-4CCA-49F8-9E79-1D61B9E1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B9E-A8EE-4FB5-94B0-04718D1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076-7059-45AF-8170-AF21FE66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2A7-6B98-4803-B33E-5DDCF80F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3D6-6432-47F5-9C37-5DA9BD27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18F-3989-411D-87A7-DC8F361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AEB-3CA9-4ECB-9D77-62DB8ED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ADE-8B6D-4C5B-992A-D8192D0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98E1-6B34-4923-AA18-85A19CD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5710-D97B-4C12-B45D-9F0FB926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486-D8EE-47B2-BE3B-43E49C4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21A-963F-4C3C-9740-28A551D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000-8F79-4851-A1D2-EF455D9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816E-3AB3-4FF5-9480-9C41F03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3F0-9EEE-4D7A-B684-57FBB51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61E-4D1C-4DE8-920A-9979E6C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8AF-ECF4-4363-A23A-D019A28A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CDDF-484A-479B-9FF1-638C7855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1C65-5354-4B5F-8A1E-8ED2283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8ECD-529B-4417-BBC8-A1FFC8B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FFE5-148B-4EA9-B09A-701D6FCD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B6F3-DB51-4E20-A49B-B664188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3E8-F859-4670-8DD8-9EB66B9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C915-033F-48ED-B6C9-FADF559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532F-6F8D-48AB-B6D7-29A385DE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621D-EA66-4669-8B2D-7C83A5F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2067-71D4-4201-9516-CE51582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0C94-EBC8-429C-AD6F-5B20EAF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E74D-52E2-452D-BD77-D2ABCEB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EE19-BCC9-4D7B-8ADF-F2CBE588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7EFC-F830-4258-AF2C-1022E9A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2C50-0495-4F6A-85E4-2408CC9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CABD-3493-4D10-946B-20C271AE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918-5F74-4A09-AFE1-FDCD22DB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0889-2735-4B9E-BE93-9B7FAA48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215B-342C-46BD-98D3-E3520624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1524-0E4C-42DA-ABCD-E3EB41C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0B60-6438-4352-BB02-0737268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A3AB-0EB5-45EE-90F6-D30BB04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DD6D-E9D3-408D-9B87-4634CA7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DC7E-4793-4547-8317-B912C22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4F06-221B-4F8C-81F2-F7C3C783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C00E-206F-4EBB-8AD0-8D6864DD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8E9-FB29-4B42-8572-E0A938B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CF0-50B3-422F-B94E-7A7E721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C45-6CC1-452C-8083-2B0D6FF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1A1-3FC5-49A9-9F02-174EC1A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893-612E-4F05-97FB-21207BE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86F5A-4B45-4A34-8D63-0645917318B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C72C8-6510-42F7-889E-297A746A009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D96E2-0EBE-42AD-8CC5-F0447A1D397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7BDE5-161F-4962-8E26-941CE8066A6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Сочинение-рассуждение «Береги и охраняй родную природу»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979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rebuchet MS"/>
              </a:rPr>
              <a:t>Природа всё учла и взвесила -</a:t>
            </a:r>
            <a:br>
              <a:rPr sz="2000"/>
            </a:br>
            <a:r>
              <a:rPr b="0" i="1" lang="ru-RU" sz="2000" spc="-1" strike="noStrike">
                <a:solidFill>
                  <a:srgbClr val="ffff00"/>
                </a:solidFill>
                <a:latin typeface="Trebuchet MS"/>
              </a:rPr>
              <a:t>Не нарушайте равновесия! (В.Шефнер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rebuchet MS"/>
              </a:rPr>
              <a:t>Составим схему сочинени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Рисунок 4" descr="ручей.gif"/>
          <p:cNvPicPr/>
          <p:nvPr/>
        </p:nvPicPr>
        <p:blipFill>
          <a:blip r:embed="rId1"/>
          <a:stretch/>
        </p:blipFill>
        <p:spPr>
          <a:xfrm>
            <a:off x="2857680" y="2571840"/>
            <a:ext cx="29494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Вступл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6760" y="121392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 чём можно написать во вступлении? Как подойти к тезис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О природе и человеке, об экологической обстановк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Каков будет наш тезис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Сейчас особенно необходимо беречь и охранять родную приро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Содержимое 4" descr="жёлтые деревья.jpg"/>
          <p:cNvPicPr/>
          <p:nvPr/>
        </p:nvPicPr>
        <p:blipFill>
          <a:blip r:embed="rId1"/>
          <a:stretch/>
        </p:blipFill>
        <p:spPr>
          <a:xfrm>
            <a:off x="4786200" y="1357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914400" y="22788720"/>
          <a:ext cx="8229600" cy="8808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бота над содержанием соч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 Вступл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тези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разить своё отношение к природе; привлечь внимание к экологической проблеме. В начале сочинения могут употребляться обращ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ие ребята! Человек! Люди! Россияне! Дорогие радиослушатели! Жители Москвы! Москвичи! Дорогие школьники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юбишь ли ты...? Знаешь ли ты, как..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мотри, как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еловек - это часть природ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еловек и природа – это единое целое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последнее время много говорят об охране прир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оставим в наследство будущим потомкам?...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 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ожительные изменения, которые произошли за последние годы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цательные изменения, которые произошли за последние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) Заклю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214200"/>
          <a:ext cx="8479080" cy="5029200"/>
        </p:xfrm>
        <a:graphic>
          <a:graphicData uri="http://schemas.openxmlformats.org/drawingml/2006/table">
            <a:tbl>
              <a:tblPr/>
              <a:tblGrid>
                <a:gridCol w="1800360"/>
                <a:gridCol w="3852720"/>
                <a:gridCol w="282600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ступ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) прекрасная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) природа и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) состояние природы сего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разить своё отношение к природе; привлечь внимание к экологической проблеме. В начале сочинения могут употребляться обращ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рогие ребята! Человек! Люди!  Дорогие школьники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Любишь ли ты...? Знаешь ли ты, как..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смотри, как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еловек - это часть природ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еловек и природа – это единое целое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последнее время много говорят об охране прир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то оставим в наследство будущим потомкам? ...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Вот почему необходимо беречь и охранять родную при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</a:tbl>
          </a:graphicData>
        </a:graphic>
      </p:graphicFrame>
      <p:pic>
        <p:nvPicPr>
          <p:cNvPr id="256" name="Picture 2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2500200" y="2714760"/>
            <a:ext cx="2698920" cy="23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rebuchet MS"/>
              </a:rPr>
              <a:t>Важно логично переходить от части к ча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8" name="Рисунок 4" descr="ручей.gif"/>
          <p:cNvPicPr/>
          <p:nvPr/>
        </p:nvPicPr>
        <p:blipFill>
          <a:blip r:embed="rId1"/>
          <a:stretch/>
        </p:blipFill>
        <p:spPr>
          <a:xfrm>
            <a:off x="2857680" y="2571840"/>
            <a:ext cx="29494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14200" y="357120"/>
          <a:ext cx="8715600" cy="3932280"/>
        </p:xfrm>
        <a:graphic>
          <a:graphicData uri="http://schemas.openxmlformats.org/drawingml/2006/table">
            <a:tbl>
              <a:tblPr/>
              <a:tblGrid>
                <a:gridCol w="2178000"/>
                <a:gridCol w="4222800"/>
                <a:gridCol w="2314800"/>
              </a:tblGrid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еход от тезиса к доказатель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рассуждении часто используется вопрос почему?, частица ведь или такие предложения, как: И вот почему. Это можно доказать так (следующим образом). Докажем это. В этом легко убедиться. Это объясняется следующим…и т.п. 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 что даёт нам природа? Почему её надо охраня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нов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гументы, факты, доказатель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1. Природа даёт нам солнце, воздух и воду, без которых нам не обойт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даёт нам природа для здоровь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чему так важно пить чистую воду, дышать чистым воздух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ы дышим чистым воздухом, мы хотим пить чистую воду. Они нам жизненно необходимы. Без них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0e8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3500280" y="4572000"/>
            <a:ext cx="2303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57200" y="428760"/>
          <a:ext cx="8229600" cy="584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2. Природа кормит и одевает н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то мы берём от природ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то мы едим? Что мы пьё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чему природная пища более качественная и полезна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кой природный материал мы используем для одежд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оме того, природы кормит и одевает нас. Она, как заботливая мать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  <a:tr h="246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3: От природы мы получаем вдохновение и умир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ое состояние приходит к нам на лоне природ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ими картинами мы любуем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 сколько вдохновения и умиротворения мы получаем от природы! Зайди в лес, и ты увидишь… Выйди на косогор, и ты почувствуешь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357120" y="214200"/>
          <a:ext cx="8229600" cy="6278760"/>
        </p:xfrm>
        <a:graphic>
          <a:graphicData uri="http://schemas.openxmlformats.org/drawingml/2006/table">
            <a:tbl>
              <a:tblPr/>
              <a:tblGrid>
                <a:gridCol w="2428920"/>
                <a:gridCol w="3057480"/>
                <a:gridCol w="2743200"/>
              </a:tblGrid>
              <a:tr h="301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ех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-Но… -Однако наблюдается и другая картина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–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о так ли всё хорош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-Но всё ли, действительно, хорошо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-Но волнует то, что наравне с этим ещё встречаются и отрицательные явления…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  <a:tr h="422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цательные изменения, которые произошли за последние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волнует, вызывает протест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сор; вытоптанная тра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рые деревь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манные кустарни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корчеванные деревь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ие асфальтированные площад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манные скамей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йка машин у водоём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газованно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хождение скверов недалеко от трассы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500040" y="214200"/>
          <a:ext cx="8229600" cy="5546880"/>
        </p:xfrm>
        <a:graphic>
          <a:graphicData uri="http://schemas.openxmlformats.org/drawingml/2006/table">
            <a:tbl>
              <a:tblPr/>
              <a:tblGrid>
                <a:gridCol w="1928880"/>
                <a:gridCol w="3557520"/>
                <a:gridCol w="2743200"/>
              </a:tblGrid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еход от доказательств к выв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вод связывается чаще всего с доказательствами посредством вводных слов итак, таким образом и др., слов и сочетаний поэтому, вот почему; предложений типа Обобщим всё сказанное выше. Подведём итоги. Из всего сказанного выше следует, что…Сделаем вывод… и т.д. [2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a021"/>
                    </a:solidFill>
                  </a:tcPr>
                </a:tc>
              </a:tr>
              <a:tr h="301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клю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можно и нужно сделать во имя охраны природы? (Побудительные предложения, призыв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нь другом и защитником природы! Прояви чувство ответственности во взаимоотношениях с природой, и тогда планета будет жить! Береги и охраняй природу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менно от нас зависит, какой будет природа завтра…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1258920" y="836640"/>
            <a:ext cx="633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екрасен этот 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Природы затаенное дыханье…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Неуловимой осени приход…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И красок ослепительных сиянье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На мир в тиши минутной снизойд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(Людмила Осокина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07(73) Vremena Goda. LAutumne Allegr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9640" y="1071720"/>
            <a:ext cx="767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42f1a"/>
                </a:solidFill>
                <a:latin typeface="Arial"/>
              </a:rPr>
              <a:t>И весел звучный лес, и ветер меж берёз</a:t>
            </a:r>
            <a:br>
              <a:rPr sz="2800"/>
            </a:br>
            <a:r>
              <a:rPr b="1" i="1" lang="ru-RU" sz="2800" spc="-1" strike="noStrike">
                <a:solidFill>
                  <a:srgbClr val="c42f1a"/>
                </a:solidFill>
                <a:latin typeface="Arial"/>
              </a:rPr>
              <a:t>Уж веет ласково, а белые берёзы</a:t>
            </a:r>
            <a:br>
              <a:rPr sz="2800"/>
            </a:br>
            <a:r>
              <a:rPr b="1" i="1" lang="ru-RU" sz="2800" spc="-1" strike="noStrike">
                <a:solidFill>
                  <a:srgbClr val="c42f1a"/>
                </a:solidFill>
                <a:latin typeface="Arial"/>
              </a:rPr>
              <a:t>Роняют тихий дождь своих алмазных слёз</a:t>
            </a:r>
            <a:br>
              <a:rPr sz="2800"/>
            </a:br>
            <a:r>
              <a:rPr b="1" i="1" lang="ru-RU" sz="2800" spc="-1" strike="noStrike">
                <a:solidFill>
                  <a:srgbClr val="c42f1a"/>
                </a:solidFill>
                <a:latin typeface="Arial"/>
              </a:rPr>
              <a:t>И улыбаются сквозь слёзы. (И.Бунин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Повторим теор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13413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Чем сочинение отличается от изложения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 сочинении мы всё сочиняем от себя, а в изложении пересказываем предложенный текс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Что такое текс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Это группа предложений, объединённых по смыслу и грамматически. У текста есть тема, идея, он членим, то есть разделён на абзац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Какие типы текста вы знает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Повествование, описание, рассужд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егодня мы будем писать рассуждение. Чем рассуждение отличается от других типов текс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3"/>
          <p:cNvSpPr/>
          <p:nvPr/>
        </p:nvSpPr>
        <p:spPr>
          <a:xfrm>
            <a:off x="2357280" y="357120"/>
            <a:ext cx="4286520" cy="114300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Тезис – то, что нужно доказ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ая соединительная линия 5"/>
          <p:cNvSpPr/>
          <p:nvPr/>
        </p:nvSpPr>
        <p:spPr>
          <a:xfrm flipH="1">
            <a:off x="4498560" y="1500120"/>
            <a:ext cx="1800" cy="78588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ая соединительная линия 7"/>
          <p:cNvSpPr/>
          <p:nvPr/>
        </p:nvSpPr>
        <p:spPr>
          <a:xfrm>
            <a:off x="1928880" y="2286000"/>
            <a:ext cx="5072040" cy="14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 flipH="1">
            <a:off x="1926720" y="2286000"/>
            <a:ext cx="180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7000920" y="2286000"/>
            <a:ext cx="144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Рамка 11"/>
          <p:cNvSpPr/>
          <p:nvPr/>
        </p:nvSpPr>
        <p:spPr>
          <a:xfrm>
            <a:off x="1500120" y="3000240"/>
            <a:ext cx="928800" cy="85752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Рамка 12"/>
          <p:cNvSpPr/>
          <p:nvPr/>
        </p:nvSpPr>
        <p:spPr>
          <a:xfrm>
            <a:off x="4071960" y="3000240"/>
            <a:ext cx="928800" cy="85752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ая соединительная линия 13"/>
          <p:cNvSpPr/>
          <p:nvPr/>
        </p:nvSpPr>
        <p:spPr>
          <a:xfrm flipH="1">
            <a:off x="4500720" y="2286000"/>
            <a:ext cx="144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Рамка 14"/>
          <p:cNvSpPr/>
          <p:nvPr/>
        </p:nvSpPr>
        <p:spPr>
          <a:xfrm>
            <a:off x="6572160" y="3000240"/>
            <a:ext cx="928800" cy="85752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ая соединительная линия 15"/>
          <p:cNvSpPr/>
          <p:nvPr/>
        </p:nvSpPr>
        <p:spPr>
          <a:xfrm flipH="1">
            <a:off x="1999800" y="3857760"/>
            <a:ext cx="180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Рамка 16"/>
          <p:cNvSpPr/>
          <p:nvPr/>
        </p:nvSpPr>
        <p:spPr>
          <a:xfrm>
            <a:off x="1571760" y="4572000"/>
            <a:ext cx="928440" cy="85716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ая соединительная линия 17"/>
          <p:cNvSpPr/>
          <p:nvPr/>
        </p:nvSpPr>
        <p:spPr>
          <a:xfrm flipH="1">
            <a:off x="4500720" y="3857760"/>
            <a:ext cx="144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Рамка 18"/>
          <p:cNvSpPr/>
          <p:nvPr/>
        </p:nvSpPr>
        <p:spPr>
          <a:xfrm>
            <a:off x="4071960" y="4572000"/>
            <a:ext cx="928800" cy="85716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ая соединительная линия 19"/>
          <p:cNvSpPr/>
          <p:nvPr/>
        </p:nvSpPr>
        <p:spPr>
          <a:xfrm flipH="1">
            <a:off x="7000920" y="3857760"/>
            <a:ext cx="1440" cy="7142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Рамка 20"/>
          <p:cNvSpPr/>
          <p:nvPr/>
        </p:nvSpPr>
        <p:spPr>
          <a:xfrm>
            <a:off x="6572160" y="4572000"/>
            <a:ext cx="928800" cy="85716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авая фигурная скобка 21"/>
          <p:cNvSpPr/>
          <p:nvPr/>
        </p:nvSpPr>
        <p:spPr>
          <a:xfrm rot="5400000">
            <a:off x="4143240" y="342900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102600 h 4929120"/>
              <a:gd name="textAreaBottom" fmla="*/ 482652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0"/>
                  <a:pt x="10800" y="1440"/>
                </a:cubicBezTo>
                <a:lnTo>
                  <a:pt x="10800" y="9297"/>
                </a:lnTo>
                <a:cubicBezTo>
                  <a:pt x="10800" y="10017"/>
                  <a:pt x="16200" y="10737"/>
                  <a:pt x="21600" y="10737"/>
                </a:cubicBezTo>
                <a:cubicBezTo>
                  <a:pt x="16200" y="10737"/>
                  <a:pt x="10800" y="11457"/>
                  <a:pt x="10800" y="12177"/>
                </a:cubicBezTo>
                <a:lnTo>
                  <a:pt x="10800" y="20160"/>
                </a:lnTo>
                <a:cubicBezTo>
                  <a:pt x="10800" y="2088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4535640" y="5429160"/>
            <a:ext cx="15840" cy="85752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Рамка 24"/>
          <p:cNvSpPr/>
          <p:nvPr/>
        </p:nvSpPr>
        <p:spPr>
          <a:xfrm>
            <a:off x="4071960" y="6000840"/>
            <a:ext cx="928800" cy="857160"/>
          </a:xfrm>
          <a:prstGeom prst="pi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акую роль играет природа в жизни человек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Что нам даёт природа для жизн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акие писатели, художники, поэты, композиторы воспевали родную природу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 каком состоянии находится окружающая среда в наши дн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Что загрязняет атмосферу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Что загрязняет водоёмы, воду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 каком состоянии находятся флора и фаун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акие растения и животные  занесены в Красную книгу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акие примеры вандализма, негативного отношения к природе вы знает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Почему, как вы думаете, человек нарушает природный баланс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Что может делать государство для охраны окружающей среды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Что может делать каждый человек для охраны природы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00080" y="214200"/>
            <a:ext cx="7143840" cy="1000080"/>
          </a:xfrm>
          <a:prstGeom prst="rect">
            <a:avLst/>
          </a:prstGeom>
          <a:solidFill>
            <a:srgbClr val="ff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Тезис: Необходимо беречь и охранять родную прир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214200" y="2143080"/>
            <a:ext cx="3714840" cy="8571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1: Природа даёт нам солнце, воздух и в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2571840" y="1428840"/>
            <a:ext cx="3714840" cy="8571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2:Природа кормит и одевает на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5214960" y="2143080"/>
            <a:ext cx="3714840" cy="85716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3: От природы мы получаем вдохновение и умиротвор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000080" y="5357880"/>
            <a:ext cx="7143840" cy="1000080"/>
          </a:xfrm>
          <a:prstGeom prst="rect">
            <a:avLst/>
          </a:prstGeom>
          <a:solidFill>
            <a:srgbClr val="ff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ывод: Береги и охраняй родную прир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14200" y="4286160"/>
            <a:ext cx="3714840" cy="85752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1: Развитие мысли: мы дышим чистым воздухом, мы хотим пить чистую вод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2786040" y="3286080"/>
            <a:ext cx="3714840" cy="85716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2: Развитие мысли: из природы мы берём пищу, необходимую н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5214960" y="4286160"/>
            <a:ext cx="3714840" cy="85752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3: Композиторы, поэты, писате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3:52:47Z</dcterms:created>
  <dc:creator>Voron</dc:creator>
  <dc:description/>
  <dc:language>en-US</dc:language>
  <cp:lastModifiedBy>Дмитрий Бордиян</cp:lastModifiedBy>
  <dcterms:modified xsi:type="dcterms:W3CDTF">2018-01-08T16:17:13Z</dcterms:modified>
  <cp:revision>37</cp:revision>
  <dc:subject/>
  <dc:title>Сочинение-рассуждение «Береги и охраняй родную природу»</dc:title>
</cp:coreProperties>
</file>