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AE30-1FF1-400C-AA95-8CDD68EC8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068-513F-4739-9C0F-1B1C497DE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CAB4-9C61-438D-B3B5-240BBC5A3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A40-6F89-4CCD-A24C-D381BBCF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280-0D89-42C1-B582-9ED7E28F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6F6-C15E-4D28-820F-09F6709D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D53-AEB5-402F-8E00-6132B08F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650-0005-409C-B244-020F0A59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BD6-2EC2-4959-9B9D-62B5001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FBB-27E0-49CD-9D37-76F9BB3D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233-278B-4181-9C65-B858F550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605-2928-4F1D-8749-2F050649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A39-E7A9-4BDC-B4B6-4C90A3E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13A-1877-4F03-97FD-7E1B39AC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21D-7C1C-4CC1-9635-AC5713E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DA13-35A7-419F-8DD2-1D6D6B0B6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403848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ёд и его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ассказова Д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ца 1 «Б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ый руководитель: Рязанова Надежд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6" descr="6588b.jpg"/>
          <p:cNvPicPr/>
          <p:nvPr/>
        </p:nvPicPr>
        <p:blipFill>
          <a:blip r:embed="rId1"/>
          <a:stretch/>
        </p:blipFill>
        <p:spPr>
          <a:xfrm>
            <a:off x="5181480" y="228600"/>
            <a:ext cx="3810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рта мё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999800"/>
            <a:ext cx="73724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чишный  мё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Текст 8"/>
          <p:cNvSpPr/>
          <p:nvPr/>
        </p:nvSpPr>
        <p:spPr>
          <a:xfrm>
            <a:off x="4786200" y="457200"/>
            <a:ext cx="357192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mbria"/>
              </a:rPr>
              <a:t>Гречишный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мёд  тёмно – коричневого цвет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Вкус острый, резкий. От него першит в  гор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Новый рисунок (9)"/>
          <p:cNvPicPr/>
          <p:nvPr/>
        </p:nvPicPr>
        <p:blipFill>
          <a:blip r:embed="rId1"/>
          <a:stretch/>
        </p:blipFill>
        <p:spPr>
          <a:xfrm>
            <a:off x="1343160" y="2655720"/>
            <a:ext cx="294300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е главное, чтобы мед был зрел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cheli_kovcheg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релым медом считают тот, который запечатан пчел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00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486400" y="533520"/>
            <a:ext cx="3216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д откры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озрел и лечебные свойства его низ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1.bmp"/>
          <p:cNvPicPr/>
          <p:nvPr/>
        </p:nvPicPr>
        <p:blipFill>
          <a:blip r:embed="rId1"/>
          <a:srcRect l="0" t="3584" r="0" b="3584"/>
          <a:stretch/>
        </p:blipFill>
        <p:spPr>
          <a:xfrm>
            <a:off x="380880" y="68580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>
            <a:off x="428760" y="4809960"/>
            <a:ext cx="2286000" cy="2048040"/>
          </a:xfrm>
          <a:prstGeom prst="rect">
            <a:avLst/>
          </a:prstGeom>
          <a:ln w="0">
            <a:noFill/>
          </a:ln>
        </p:spPr>
      </p:pic>
      <p:sp>
        <p:nvSpPr>
          <p:cNvPr id="96" name="Выноска-облако 4"/>
          <p:cNvSpPr/>
          <p:nvPr/>
        </p:nvSpPr>
        <p:spPr>
          <a:xfrm>
            <a:off x="142920" y="152280"/>
            <a:ext cx="8858160" cy="4419720"/>
          </a:xfrm>
          <a:prstGeom prst="cloudCallout">
            <a:avLst>
              <a:gd name="adj1" fmla="val -19814"/>
              <a:gd name="adj2" fmla="val 10653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агаю вам попробовать несколько видов меда и определить какой мед куплен в магазине, а какой собран с нашей пасе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Картинка 92 из 148833"/>
          <p:cNvPicPr/>
          <p:nvPr/>
        </p:nvPicPr>
        <p:blipFill>
          <a:blip r:embed="rId2"/>
          <a:stretch/>
        </p:blipFill>
        <p:spPr>
          <a:xfrm>
            <a:off x="5214960" y="3571920"/>
            <a:ext cx="368604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7(2)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09735cdfd1f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4678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и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276720" y="5084640"/>
            <a:ext cx="2158920" cy="161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7380360" y="1557360"/>
            <a:ext cx="1057320" cy="142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10920" y="126792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Если пчелы сильно летят к своим ульям - быть скоро дожд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Становятся злее, чаще жалят - будет засу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Сидят на стенках улья - к сильной жа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1571760" y="333360"/>
            <a:ext cx="936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179280" y="189000"/>
            <a:ext cx="89647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туральный мед имеет определенные признаки, по которым можно определить его качество, отличить от некачественного м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продукты жизнедеятельности пчел человек использует с большой польз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чёлы - самые полезные для человека насекомые из всех насекомых земного ш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6372360" y="5805360"/>
            <a:ext cx="10080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Фотографии пчёл. Высокое качество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5057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У нас на даче есть своя небольшая пасека. Пасека – это место, где расположены ул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6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 них живут пчелы, которые работают круглосуточно, чтобы получился вкусный м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10" descr=""/>
          <p:cNvPicPr/>
          <p:nvPr/>
        </p:nvPicPr>
        <p:blipFill>
          <a:blip r:embed="rId1"/>
          <a:stretch/>
        </p:blipFill>
        <p:spPr>
          <a:xfrm>
            <a:off x="4343400" y="91440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нипух поет: «Лучший подарок по-моему мед. Даже немножечко, чайная ложечка это уже хорош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333680" cy="316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 rot="1204800">
            <a:off x="5649480" y="3144960"/>
            <a:ext cx="2381400" cy="30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 rot="20813400">
            <a:off x="1476360" y="4365360"/>
            <a:ext cx="259236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148360" y="1052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11200"/>
            <a:ext cx="410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 действительно, мед очень полезен. Его можно назвать природным лекар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1661.jpg"/>
          <p:cNvPicPr/>
          <p:nvPr/>
        </p:nvPicPr>
        <p:blipFill>
          <a:blip r:embed="rId2"/>
          <a:stretch/>
        </p:blipFill>
        <p:spPr>
          <a:xfrm>
            <a:off x="495360" y="146376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755f6848286f55eeb3d9f69b7f09c38d.jpg.jpg"/>
          <p:cNvPicPr/>
          <p:nvPr/>
        </p:nvPicPr>
        <p:blipFill>
          <a:blip r:embed="rId3"/>
          <a:stretch/>
        </p:blipFill>
        <p:spPr>
          <a:xfrm>
            <a:off x="5105520" y="1477800"/>
            <a:ext cx="3429000" cy="3059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shmel20050807_002.jpg"/>
          <p:cNvPicPr/>
          <p:nvPr/>
        </p:nvPicPr>
        <p:blipFill>
          <a:blip r:embed="rId4"/>
          <a:stretch/>
        </p:blipFill>
        <p:spPr>
          <a:xfrm>
            <a:off x="2209680" y="4267080"/>
            <a:ext cx="3733920" cy="2367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762120" y="4572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 получает название в зависимости от растений, с которых пчелы собирают нек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 убивает микро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 усваивается организмом человека на 100%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ывает противовосполительное действ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 дает силы орган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ме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685800" y="228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ем регионе основные виды меда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Картинка 20 из 290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105520" y="3809880"/>
            <a:ext cx="38098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6" descr="Картинка 64 из 531"/>
          <p:cNvPicPr/>
          <p:nvPr/>
        </p:nvPicPr>
        <p:blipFill>
          <a:blip r:embed="rId2"/>
          <a:stretch/>
        </p:blipFill>
        <p:spPr>
          <a:xfrm>
            <a:off x="4714920" y="857160"/>
            <a:ext cx="38098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8" descr="Картинка 12 из 226"/>
          <p:cNvPicPr/>
          <p:nvPr/>
        </p:nvPicPr>
        <p:blipFill>
          <a:blip r:embed="rId3"/>
          <a:stretch/>
        </p:blipFill>
        <p:spPr>
          <a:xfrm>
            <a:off x="785880" y="3857760"/>
            <a:ext cx="380988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10" descr="Картинка 11 из 154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428760" y="857160"/>
            <a:ext cx="38098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Облако 10"/>
          <p:cNvSpPr/>
          <p:nvPr/>
        </p:nvSpPr>
        <p:spPr>
          <a:xfrm>
            <a:off x="457200" y="2857680"/>
            <a:ext cx="3686040" cy="785520"/>
          </a:xfrm>
          <a:prstGeom prst="pie">
            <a:avLst/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блако 11"/>
          <p:cNvSpPr/>
          <p:nvPr/>
        </p:nvSpPr>
        <p:spPr>
          <a:xfrm>
            <a:off x="896760" y="5857920"/>
            <a:ext cx="3587760" cy="785880"/>
          </a:xfrm>
          <a:prstGeom prst="pie">
            <a:avLst/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олне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блако 12"/>
          <p:cNvSpPr/>
          <p:nvPr/>
        </p:nvSpPr>
        <p:spPr>
          <a:xfrm>
            <a:off x="5105520" y="2857680"/>
            <a:ext cx="3324240" cy="785520"/>
          </a:xfrm>
          <a:prstGeom prst="pie">
            <a:avLst/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п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13"/>
          <p:cNvSpPr/>
          <p:nvPr/>
        </p:nvSpPr>
        <p:spPr>
          <a:xfrm>
            <a:off x="5334120" y="5857920"/>
            <a:ext cx="3452760" cy="785880"/>
          </a:xfrm>
          <a:prstGeom prst="pie">
            <a:avLst/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ечиш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рта мё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999800"/>
            <a:ext cx="73724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повый мё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Текст 8"/>
          <p:cNvSpPr/>
          <p:nvPr/>
        </p:nvSpPr>
        <p:spPr>
          <a:xfrm>
            <a:off x="4786200" y="838080"/>
            <a:ext cx="357192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Липовый</a:t>
            </a: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мёд  очень ароматный, прозрачный, белого цве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Вкус очень слад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Новый рисунок (8)"/>
          <p:cNvPicPr/>
          <p:nvPr/>
        </p:nvPicPr>
        <p:blipFill>
          <a:blip r:embed="rId1"/>
          <a:stretch/>
        </p:blipFill>
        <p:spPr>
          <a:xfrm>
            <a:off x="1143000" y="2500200"/>
            <a:ext cx="3357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Admin</cp:lastModifiedBy>
  <dcterms:modified xsi:type="dcterms:W3CDTF">2018-01-08T15:03:5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