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8987-40AE-49ED-A438-E73DE01DC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7C35-19B8-4BB4-BB63-70B89463A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0FF2-F336-4901-B634-EB324FDCF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730C-A302-4FEE-BAE4-6893B1C38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EAF3-6683-4670-A290-363956632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ACBF-D6D3-4A15-876A-18CE5DBD6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8671-E306-4486-B0AE-F08E6D753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9C6C-6F8B-4A5C-9350-D7DF07F70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D6B6-5783-407A-A605-4F3258B6D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9324-4548-489F-8CC8-31217938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8D7B-9C62-455C-B779-40DD14D6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BB8F-548C-4C37-8F7D-795C1A71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A1D2D-AC80-4BBE-9933-0917B93F3F4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дготовка  к  </a:t>
            </a:r>
            <a:br>
              <a:rPr sz="4000"/>
            </a:br>
            <a:r>
              <a:rPr b="0" lang="ru-RU" sz="5400" spc="-1" strike="noStrike">
                <a:solidFill>
                  <a:srgbClr val="c00000"/>
                </a:solidFill>
                <a:latin typeface="Calibri"/>
              </a:rPr>
              <a:t>В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сероссийской</a:t>
            </a:r>
            <a:br>
              <a:rPr sz="5400"/>
            </a:br>
            <a:r>
              <a:rPr b="0" lang="ru-RU" sz="5400" spc="-1" strike="noStrike">
                <a:solidFill>
                  <a:srgbClr val="c00000"/>
                </a:solidFill>
                <a:latin typeface="Calibri"/>
              </a:rPr>
              <a:t>П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роверочной</a:t>
            </a:r>
            <a:br>
              <a:rPr sz="5400"/>
            </a:br>
            <a:r>
              <a:rPr b="0" lang="ru-RU" sz="5400" spc="-1" strike="noStrike">
                <a:solidFill>
                  <a:srgbClr val="c00000"/>
                </a:solidFill>
                <a:latin typeface="Calibri"/>
              </a:rPr>
              <a:t>Р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аботе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 русскому языку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43280" y="3886200"/>
            <a:ext cx="3857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Учитель 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I</a:t>
            </a: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 к.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Денисова Татьяна Владимир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Алфави́ т, докуме́нт, звони́ шь, свёкла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4. Над каждым словом напишите, какой частью речи оно является. Запишите, какие из  известных вам частей речи отсутствуют в предложени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 давних времён Русь славилась хвойными и лиственными лесами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бозначение частей речи в предложении:</a:t>
            </a:r>
            <a:br>
              <a:rPr sz="3000"/>
            </a:b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пр.   прил.      сущ.  сущ.     глаг.             прил. союз    прил.             сущ.</a:t>
            </a:r>
            <a:br>
              <a:rPr sz="2000"/>
            </a:b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С   давних времён Русь славилась хвойными и лиственными  лесам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бязательное указание отсутствующих в предложении частей речи:</a:t>
            </a:r>
            <a:br>
              <a:rPr sz="3000"/>
            </a:br>
            <a:r>
              <a:rPr b="0" lang="ru-RU" sz="3000" spc="-1" strike="noStrike">
                <a:solidFill>
                  <a:srgbClr val="f20ec1"/>
                </a:solidFill>
                <a:latin typeface="Calibri"/>
              </a:rPr>
              <a:t>местоимение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(ИЛИ личное местоимение), </a:t>
            </a:r>
            <a:r>
              <a:rPr b="0" lang="ru-RU" sz="3000" spc="-1" strike="noStrike">
                <a:solidFill>
                  <a:srgbClr val="f20ec1"/>
                </a:solidFill>
                <a:latin typeface="Calibri"/>
              </a:rPr>
              <a:t>частица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. Возможное, но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еобязательное указание: </a:t>
            </a:r>
            <a:r>
              <a:rPr b="0" lang="ru-RU" sz="3000" spc="-1" strike="noStrike">
                <a:solidFill>
                  <a:srgbClr val="f20ec1"/>
                </a:solidFill>
                <a:latin typeface="Calibri"/>
              </a:rPr>
              <a:t>наречие, имя числительное, междометие</a:t>
            </a:r>
            <a:br>
              <a:rPr sz="3000"/>
            </a:br>
            <a:br>
              <a:rPr sz="3000"/>
            </a:br>
            <a:r>
              <a:rPr b="0" lang="ru-RU" sz="3000" spc="-1" strike="noStrike">
                <a:solidFill>
                  <a:srgbClr val="f20ec1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5. Выпишите предложение с прямой речью. (Знаки препинания не расставлены.) Расставьте необходимые знаки препинания. Составьте схему предлож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По словам Маши почти каждое растение содержит в себе целебные сок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Маша ответила что морские водоросли содержат много минералов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 Дмитрий Сергеевич объявил Маша подготовила сообщение о морских растениях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) Маша в чём польза морских водорослей для человека </a:t>
            </a:r>
            <a:br>
              <a:rPr sz="3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авильный ответ должен содержать следующие элементы: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1) распознавание предложения и расстановка знаков препинания:</a:t>
            </a:r>
            <a:br>
              <a:rPr sz="3000"/>
            </a:br>
            <a:r>
              <a:rPr b="0" i="1" lang="ru-RU" sz="3000" spc="-1" strike="noStrike">
                <a:solidFill>
                  <a:srgbClr val="ff0000"/>
                </a:solidFill>
                <a:latin typeface="Calibri"/>
              </a:rPr>
              <a:t>Дмитрий Сергеевич объявил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0000"/>
                </a:solidFill>
                <a:latin typeface="Calibri"/>
              </a:rPr>
              <a:t>«Маша подготовила сообщение о морских</a:t>
            </a:r>
            <a:br>
              <a:rPr sz="3000"/>
            </a:br>
            <a:r>
              <a:rPr b="0" i="1" lang="ru-RU" sz="3000" spc="-1" strike="noStrike">
                <a:solidFill>
                  <a:srgbClr val="ff0000"/>
                </a:solidFill>
                <a:latin typeface="Calibri"/>
              </a:rPr>
              <a:t>растениях».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2) составление схемы предложения: </a:t>
            </a: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А: «П»</a:t>
            </a:r>
            <a:br>
              <a:rPr sz="3000"/>
            </a:b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6. Выпишите предложение, в котором необходимо поставить запятую/запятые. (Знаки  препинания внутри предложений не расставлены.) Напишите, на каком основании вы  сделали свой выбо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1) Давайте разучим к конкурсу бальных танцев венский вальс!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2) Ты Олег теперь будешь танцевать в паре с Таней.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3) Шагни вперёд с левой ноги и сделай поворот!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4) Олег занимается бальными танцами уже два года. </a:t>
            </a:r>
            <a:br>
              <a:rPr sz="3000"/>
            </a:b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вильный ответ должен содержать следующие элемент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1) распознавание предложения и расстановка знаков препинания: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0" i="1" lang="ru-RU" sz="3300" spc="-1" strike="noStrike">
                <a:solidFill>
                  <a:srgbClr val="ff0000"/>
                </a:solidFill>
                <a:latin typeface="Calibri"/>
              </a:rPr>
              <a:t>Ты, </a:t>
            </a:r>
            <a:r>
              <a:rPr b="1" i="1" lang="ru-RU" sz="3300" spc="-1" strike="noStrike" u="sng">
                <a:solidFill>
                  <a:srgbClr val="7030a0"/>
                </a:solidFill>
                <a:uFillTx/>
                <a:latin typeface="Calibri"/>
              </a:rPr>
              <a:t>Олег</a:t>
            </a:r>
            <a:r>
              <a:rPr b="0" i="1" lang="ru-RU" sz="3300" spc="-1" strike="noStrike">
                <a:solidFill>
                  <a:srgbClr val="ff0000"/>
                </a:solidFill>
                <a:latin typeface="Calibri"/>
              </a:rPr>
              <a:t>, теперь будешь танцевать в паре с Таней.</a:t>
            </a:r>
            <a:br>
              <a:rPr sz="2500"/>
            </a:b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2) объяснение основания выбора предложения: это предложение с обращением.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ИЛИ Обращение. ИЛИ Обращение внутри предложения.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бъяснение выбора может быть сформулировано иначе</a:t>
            </a: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7. Выпишите предложение, в котором необходимо поставить запятую. (Знаки препинания  внутри предложений не расставлены.) Напишите, на каком основании вы сделали свой выбо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Друзья познаются в беде и об этом все знают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Друг всегда поможет в трудную минуту и выручит тебя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 Настоящая дружба растёт и крепнет год от год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) Друг поймёт тебя с полуслова и даже без слов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авильный ответ должен содержать следующие элемент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) распознавание предложения и постановка знака препинания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Друзья познаются в беде, и об этом все знаю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) объяснение основания выбора предложения, например: это сложное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едложение. ИЛИ В предложении две грамматические основы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бъяснение выбора может быть сформулировано иначе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В московском зоопарке на одной из просторных, огороженных полян жила вместе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большая компания зверей. (2)Компания довольно необычная: два волка, бурый медведь, три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барсука, шесть уссурийских енотов и столько же лисиц. (3)Поселили их вместе в пору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ранней звериной юности. (4)«Что вы делаете! – говорили некоторые посетители. – Подрастут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ваши звери, и обязательно природа своё возьмёт!»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(5)Прошло два года, звери выросли, а природа никак «своего не брала». (6)По какомуто молчаливому соглашению вся компания подчинялась строгой и «распорядительной»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волчице по кличке Дикта. (7)Но забот у неё было немного: мир нарушался редко. (8)Вся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компания одновременно получала общий корм, но даже во время трапезы всё обходилось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благополучно. (9)Напрасно любители сильных ощущений часами простаивали у поляны,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ожидая, не начнётся ли всеобщая потасовка: «разноплеменные» обитатели поляны ни разу не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переходили на «военное положение».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(10)Звери с раннего возраста привыкли друг к другу. (11)У каждого из них ещё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с юности выработался ряд условных рефлексов, не допускающих перехода тех границ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в отношениях животных, за которыми могут последовать серьёзные ссоры. (12)Лисица,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например, выросшая с волчатами, никогда не посмотрит на мясо, которое ест волк.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(13)Проходя мимо, она всегда отвернётся. (14)Этот опыт совместного воспитания животных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наглядно показывает: природное поведение зверей может меняться под влиянием человека.</a:t>
            </a:r>
            <a:br>
              <a:rPr sz="1500"/>
            </a:br>
            <a:r>
              <a:rPr b="0" i="1" lang="ru-RU" sz="1500" spc="-1" strike="noStrike">
                <a:solidFill>
                  <a:srgbClr val="000000"/>
                </a:solidFill>
                <a:latin typeface="Calibri"/>
              </a:rPr>
              <a:t>(По П. Мантейфелю)</a:t>
            </a:r>
            <a:br>
              <a:rPr sz="1000"/>
            </a:b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0000"/>
                </a:solidFill>
                <a:latin typeface="Calibri"/>
              </a:rPr>
              <a:t>8. Определите и запишите основную мысль текста. </a:t>
            </a: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1. Перепишите текст 1, раскрывая скобки, вставляя, где это необходимо, пропущенные буквы и знаки препина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кст 1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Я отправился за горо(д/т) в лес погл..деть, заметно ли там прибл..жение в..сны. День был яс..ный, солнеч..ный. Х..р..шо в л..су в эту предв..сенн.. пору. В..сна чу..ствует..ся только в воздух.. . Со..нце сл..пит глаза. Небо по-в..сеннему голубе..т плывут лё..кие белые обл..к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..мля ещё покрыта льдом и снегом д..рев..я тоже укрыва..т сне(г/к)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Я шёл по л..сной тр..пинк.. и гл..дел по ст..р..нам.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(4)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т и ш..рокая п..лян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(1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где кажд.. в..сну токуют тетерева. Я зам..р от уд..вления: сколько на ней заяч..их сл..дов! Теперь зайц.. нере(д/т)ко разгулива..т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(2)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нём: выб..гут на п..лянку и гре..т..ся на ласковом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(3)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лнышк.. .</a:t>
            </a:r>
            <a:br>
              <a:rPr sz="2000"/>
            </a:b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новная мысль текста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7030a0"/>
                </a:solidFill>
                <a:latin typeface="Calibri"/>
              </a:rPr>
              <a:t>Природное поведение зверей может меняться под влиянием человека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9. Какой факт, по мнению автора текста, свидетельствует о том, что звери благополучно жили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вместе большой компанией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Запишите ответ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вет может быть сформулирован так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Calibri"/>
              </a:rPr>
              <a:t>Вся компания одновременно получала общий корм, но даже во время трапезы</a:t>
            </a:r>
            <a:br>
              <a:rPr sz="3200"/>
            </a:br>
            <a:r>
              <a:rPr b="0" i="1" lang="ru-RU" sz="3200" spc="-1" strike="noStrike">
                <a:solidFill>
                  <a:srgbClr val="7030a0"/>
                </a:solidFill>
                <a:latin typeface="Calibri"/>
              </a:rPr>
              <a:t>всё обходилось благополучно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0. Определите, какой тип речи представлен в предложениях 5-8 текста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пишите ответ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1. В предложениях 10-12 найдите слово со значением «количество прожитых лет, период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жизни человека, животного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пишите это слово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2. В предложениях 1-3 найдите антоним к слову «поздняя» и выпишите его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Отметка по пятибалльной шкале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100" spc="-1" strike="noStrike">
                <a:solidFill>
                  <a:srgbClr val="000000"/>
                </a:solidFill>
                <a:latin typeface="Calibri"/>
              </a:rPr>
              <a:t>«2» - </a:t>
            </a:r>
            <a:r>
              <a:rPr b="0" lang="ru-RU" sz="41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1" lang="ru-RU" sz="41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41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100" spc="-1" strike="noStrike">
                <a:solidFill>
                  <a:srgbClr val="000000"/>
                </a:solidFill>
                <a:latin typeface="Calibri"/>
              </a:rPr>
              <a:t>«3» - </a:t>
            </a:r>
            <a:r>
              <a:rPr b="0" lang="ru-RU" sz="4100" spc="-1" strike="noStrike">
                <a:solidFill>
                  <a:srgbClr val="000000"/>
                </a:solidFill>
                <a:latin typeface="Calibri"/>
              </a:rPr>
              <a:t>18</a:t>
            </a:r>
            <a:r>
              <a:rPr b="1" lang="ru-RU" sz="41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4100" spc="-1" strike="noStrike">
                <a:solidFill>
                  <a:srgbClr val="000000"/>
                </a:solidFill>
                <a:latin typeface="Calibri"/>
              </a:rPr>
              <a:t>28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100" spc="-1" strike="noStrike">
                <a:solidFill>
                  <a:srgbClr val="000000"/>
                </a:solidFill>
                <a:latin typeface="Calibri"/>
              </a:rPr>
              <a:t>«4» - </a:t>
            </a:r>
            <a:r>
              <a:rPr b="0" lang="ru-RU" sz="4100" spc="-1" strike="noStrike">
                <a:solidFill>
                  <a:srgbClr val="000000"/>
                </a:solidFill>
                <a:latin typeface="Calibri"/>
              </a:rPr>
              <a:t>29–38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100" spc="-1" strike="noStrike">
                <a:solidFill>
                  <a:srgbClr val="000000"/>
                </a:solidFill>
                <a:latin typeface="Calibri"/>
              </a:rPr>
              <a:t>«5» - </a:t>
            </a:r>
            <a:r>
              <a:rPr b="0" lang="ru-RU" sz="4100" spc="-1" strike="noStrike">
                <a:solidFill>
                  <a:srgbClr val="000000"/>
                </a:solidFill>
                <a:latin typeface="Calibri"/>
              </a:rPr>
              <a:t>39–45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УСПЕХОВ!!!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Я отправился за город в лес поглядеть, заметно ли там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иближение весны. День был ясный, солнечный. Хорошо в лесу в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эту предвесеннюю пору. Весна чувствуется только в воздухе. Солнце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лепит глаза. Небо по-весеннему голубеет, плывут лёгкие белые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блака. Земля ещё покрыта льдом и снегом, деревья тоже укрывает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нег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Я шёл по лесной тропинке и глядел по сторонам.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(4)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от и широкая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ляна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(1)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где каждую весну токуют тетерева. Я замер от удивления: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колько на ней заячьих следов! Теперь зайцы нередко разгуливают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(2)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нём: выбегут на полянку и греются на ласковом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(3)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лнышке.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2. Выполните обозначенные цифрами в тексте к заданию 1 языковые разборы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(1) – фонетический разбор;</a:t>
            </a:r>
            <a:br>
              <a:rPr sz="3000"/>
            </a:b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(2) – морфемный разбор;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(3) – морфологический разбор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(4) – синтаксический разбор предложения.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Фонетический разб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ляна(1)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 - [п] - согласный, глухой, твёрдый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 - [а] - гласный, безударный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 - [л’] - согласный, звонкий, мягкий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 - [а́] - гласный, ударный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 - [н] - согласный, звонкий, твёрдый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– [а] – гласный, безударный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 букв, 6 звуков, 3 слога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Морфемный разб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згуливают(2) / разгуливают / разгуливают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- – приставк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гул- – корень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ива- - суффикс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ют – окончание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Calibri"/>
              </a:rPr>
              <a:t>Морфологический разбор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(на)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ласковом(3)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(солнышке)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1) (на) ласковом (солнышке) – имя прилагательное, обозначает признак предмета;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 солнышке (каком?) ласковом;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2) начальная форма – ласковый; в единственном числе, в среднем роде, в предложном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адеже;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3) в предложении является определением.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Синтаксический разбор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Я шёл по лесной тропинке и глядел по сторонам.(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ru-RU" sz="2700" spc="-1" strike="noStrike">
                <a:solidFill>
                  <a:srgbClr val="7030a0"/>
                </a:solidFill>
                <a:latin typeface="Calibri"/>
              </a:rPr>
              <a:t>(Предложение повествовательное, невосклицательное, простое, распространённое).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Грамматическая основа: </a:t>
            </a:r>
            <a:r>
              <a:rPr b="1" lang="ru-RU" sz="2700" spc="-1" strike="noStrike">
                <a:solidFill>
                  <a:srgbClr val="ff0000"/>
                </a:solidFill>
                <a:latin typeface="Calibri"/>
              </a:rPr>
              <a:t>я (подлежащее)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Calibri"/>
              </a:rPr>
              <a:t>шёл и глядел (однородные сказуемые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торостепенные члены предложения: </a:t>
            </a:r>
            <a:r>
              <a:rPr b="0" lang="ru-RU" sz="2700" spc="-1" strike="noStrike">
                <a:solidFill>
                  <a:srgbClr val="e46c0a"/>
                </a:solidFill>
                <a:latin typeface="Calibri"/>
              </a:rPr>
              <a:t>(шёл) по тропинке - обстоятельство,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17375e"/>
                </a:solidFill>
                <a:latin typeface="Calibri"/>
              </a:rPr>
              <a:t>допустимо –</a:t>
            </a:r>
            <a:br>
              <a:rPr sz="2700"/>
            </a:br>
            <a:r>
              <a:rPr b="0" lang="ru-RU" sz="2700" spc="-1" strike="noStrike">
                <a:solidFill>
                  <a:srgbClr val="17375e"/>
                </a:solidFill>
                <a:latin typeface="Calibri"/>
              </a:rPr>
              <a:t>дополнение;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2700" spc="-1" strike="noStrike">
                <a:solidFill>
                  <a:srgbClr val="ffc000"/>
                </a:solidFill>
                <a:latin typeface="Calibri"/>
              </a:rPr>
              <a:t>глядел) по сторонам – обстоятельство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; (по тропинке) </a:t>
            </a:r>
            <a:r>
              <a:rPr b="0" lang="ru-RU" sz="2700" spc="-1" strike="noStrike">
                <a:solidFill>
                  <a:srgbClr val="f20ec1"/>
                </a:solidFill>
                <a:latin typeface="Calibri"/>
              </a:rPr>
              <a:t>лесной –определение. 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3. Поставьте знак ударения в следующих словах.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Алфавит, документ, звонишь, свекла.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рина</dc:creator>
  <dc:description/>
  <dc:language>en-US</dc:language>
  <cp:lastModifiedBy>Математика</cp:lastModifiedBy>
  <dcterms:modified xsi:type="dcterms:W3CDTF">2017-12-23T04:40:30Z</dcterms:modified>
  <cp:revision>55</cp:revision>
  <dc:subject/>
  <dc:title>Слайд 1</dc:title>
</cp:coreProperties>
</file>