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3D8-DBEC-4C53-9C0B-77925B81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5D2-EC50-4827-BE61-3CFA80A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AFD-E5BF-4A91-9572-239841E5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804-0E6B-460A-8350-D6A073A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F46-114D-475E-81A7-06DDDE1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BBD-589B-47C8-B3E3-258C4D2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577-C94B-4B8F-A85D-EFA245E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F488-B838-4EAC-A8D4-60FBBFC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FF7-EF90-4FAD-8AC9-AE406AE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DB6-6E1C-4A22-9257-31D5D860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7B10-54F0-4694-9421-B6B756A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7BD-9E18-45E4-8CA1-5E3F4D8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936-C57E-4F48-A0DA-C645BFF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CF5-BC58-46DB-BA11-EFB7B61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153A-BA40-4B6B-86C3-BC0E144F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E0E-1A5D-4DD2-85A8-09653C40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962-9997-48EA-96F6-89E85ED4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36F-AA3F-49E7-B22D-14C76141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635-3ACF-4B8C-94C9-BD25AFA0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3CC-255C-4408-BA1F-C6315AEC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0CA-545F-413C-9C09-BA92087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4C6-7085-4673-89AC-68707B2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92A-D7AA-436B-AE48-EF997B6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D73-3234-4456-9867-7B7768B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A7C-8029-45EC-BCCA-F7B8D9B311C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4BC-598B-44A4-940B-9FA30AB1043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«Взаимодействие  с семьями детей по реализации основной образовательной программы дошкольного образова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360" y="4652640"/>
            <a:ext cx="352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 заместитель заведующего по ВМР МБДОУ №19 «Терем-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влова Светлана Давыд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155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ктуально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68360" y="907560"/>
            <a:ext cx="64008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В условиях, когда большинство семей озабочено решением проблем экономического, а порой физического выживания, усилилась тенденция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самоустранения многих родителей от решения вопросов воспитания и личностного развития ребёнка. Родители, не владея в достаточной мере знанием возрастных и индивидуальных особенностей развития ребёнка, порой осуществляют воспитание вслепую, интуитивно. Всё это, как правило, не приносит позитивных результа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Не случайно в последние годы начала развиваться и  внедряться новая философия взаимодействия семьи и дошкольного учреждения. В основе ее лежит идея о том, что за воспитание детей несут ответственность родители, а все остальные социальные институты призваны поддерживать и дополнять их воспит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ея взаимосвязи общественного и семейного воспитания нашла своё отражение в ряде нормативно-правовых докумен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07180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е «Об образовании»  от 29.12.2012 № 273-ФЗ "Об образовании в Российской Федерации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ГОС утвержден приказом Министерства образования и науки РФ №1155 от 17.10.2013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е дошкольное образовательное учреждение в проводит планомерную работу с родителям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пределить роль  и место взаимодействия ДОУ и семьи в условиях реализации образовательной программы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овать литературу и рассмотреть проблему взаимодействия ДОУ и семьи в современных условиях реализации программы 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основные формы и методы взаимодействия ДОУ и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с семьёй идёт в трёх направления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кетирование, мониторин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ое просвещение родителей, информир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влечение в образовательный проце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ерез принципы: целенаправленность, систематичность, плановость, доброжелательность, открыт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557360"/>
          <a:ext cx="8229600" cy="280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одительские собрания, конференции, уголки для родителей, праздники, консультац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ни открытых дверей, кружки, КВН, викторины, семейные конкурсы, выставки работ, выпуск газет, сайт ДОУ, экскурсии, оформление групп, благоустройство д/сада, соревнов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Прямоугольник 2"/>
          <p:cNvSpPr/>
          <p:nvPr/>
        </p:nvSpPr>
        <p:spPr>
          <a:xfrm>
            <a:off x="395280" y="321300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, все шире используются новые, активные формы работы с родителями, позволяющие вовлечь их в процесс обучения, развития и познания собственн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 взаимодействия ДОУ и семей воспитанников в условиях реализации ООП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68280"/>
            <a:ext cx="81471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коллективом ДОУ по организации взаимодействия с семьей, ознакомление педагогов с системой новых форм работы с родителями;                                       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педагогической культуры родите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влечение родителей в деятельность ДОУ, совместная работа по обмену опы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 своей работы мы видим в следующе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ть партнерские отношения с семьей каждого воспита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динить усилия для развития и воспитания де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атмосферу взаимопонимания, общности интересов, эмоциональной взаимо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и обогащать воспитательные умения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ыступления сотрудников ДОУ на групповых родительских собра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Users\User\Desktop\IMG_1044.JPG"/>
          <p:cNvPicPr/>
          <p:nvPr/>
        </p:nvPicPr>
        <p:blipFill>
          <a:blip r:embed="rId2"/>
          <a:stretch/>
        </p:blipFill>
        <p:spPr>
          <a:xfrm>
            <a:off x="237960" y="1413000"/>
            <a:ext cx="4356360" cy="24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\Desktop\IMG_1052.JPG"/>
          <p:cNvPicPr/>
          <p:nvPr/>
        </p:nvPicPr>
        <p:blipFill>
          <a:blip r:embed="rId3"/>
          <a:stretch/>
        </p:blipFill>
        <p:spPr>
          <a:xfrm>
            <a:off x="2390760" y="3940200"/>
            <a:ext cx="448488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user\Desktop\ГМО Павлова С.Д. 17.12.2015 г\Родительское собрание о ФГОС\IMG_1227.JPG"/>
          <p:cNvPicPr/>
          <p:nvPr/>
        </p:nvPicPr>
        <p:blipFill>
          <a:blip r:embed="rId4"/>
          <a:stretch/>
        </p:blipFill>
        <p:spPr>
          <a:xfrm>
            <a:off x="-15773400" y="-1013472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user\Desktop\ГМО Павлова С.Д. 17.12.2015 г\Родительское собрание о ФГОС\IMG_1227.JPG"/>
          <p:cNvPicPr/>
          <p:nvPr/>
        </p:nvPicPr>
        <p:blipFill>
          <a:blip r:embed="rId5"/>
          <a:stretch/>
        </p:blipFill>
        <p:spPr>
          <a:xfrm>
            <a:off x="5003640" y="1444680"/>
            <a:ext cx="37213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Вовлечение родителей в совместную с детьми  деятельность на утренниках, развлеч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I:\На сайт фото\IMG_1543.JPG"/>
          <p:cNvPicPr/>
          <p:nvPr/>
        </p:nvPicPr>
        <p:blipFill>
          <a:blip r:embed="rId2"/>
          <a:stretch/>
        </p:blipFill>
        <p:spPr>
          <a:xfrm>
            <a:off x="5508720" y="1797120"/>
            <a:ext cx="2879640" cy="2160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4" name="Picture 6" descr="C:\Users\user\Desktop\ГМО Павлова С.Д. 17.12.2015 г\День семьи 2 мл. и ср. гр\IMG_2892.JPG"/>
          <p:cNvPicPr/>
          <p:nvPr/>
        </p:nvPicPr>
        <p:blipFill>
          <a:blip r:embed="rId3"/>
          <a:stretch/>
        </p:blipFill>
        <p:spPr>
          <a:xfrm>
            <a:off x="1305000" y="1797120"/>
            <a:ext cx="3178080" cy="21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user\Desktop\ГМО Павлова С.Д. 17.12.2015 г\День семьи 2 мл. и ср. гр\IMG_2896.JPG"/>
          <p:cNvPicPr/>
          <p:nvPr/>
        </p:nvPicPr>
        <p:blipFill>
          <a:blip r:embed="rId4"/>
          <a:stretch/>
        </p:blipFill>
        <p:spPr>
          <a:xfrm>
            <a:off x="3035160" y="4149720"/>
            <a:ext cx="3241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2:26Z</dcterms:created>
  <dc:creator>ppsworld.ru</dc:creator>
  <dc:description/>
  <dc:language>en-US</dc:language>
  <cp:lastModifiedBy>user</cp:lastModifiedBy>
  <cp:lastPrinted>2015-12-17T06:26:16Z</cp:lastPrinted>
  <dcterms:modified xsi:type="dcterms:W3CDTF">2016-01-20T11:30:02Z</dcterms:modified>
  <cp:revision>60</cp:revision>
  <dc:subject/>
  <dc:title>PRESENTATION  NAME</dc:title>
</cp:coreProperties>
</file>