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88F1-6A52-404E-9063-8A9F61E556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оо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DAA-0F91-462B-A170-E68094E8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43E-491F-4ACC-A639-ACAEECF9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A83-1ECA-46A8-AC8B-12D6C7CC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07C-9EF8-40A0-BB52-C1DA9064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5F5A-4365-44C7-9F35-B29C1980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D195-8EC3-4840-8C01-53A0F605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165F-96E3-42AE-9D3D-F66DA0BB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9358-8216-48BD-B1C1-DD657123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E65D-32D5-47C6-A73D-D1DA21B0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5431-17B3-4F93-995A-E3A1FD59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4C46-92CA-4C2A-957D-5E2FF8A4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A22-51B8-4076-97B1-8A1BB783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1A15-EED6-4965-8660-9309CE5D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2C82-270E-4B26-83FC-3828CAAE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5302-FC8A-4A34-AB84-8E81C4CB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6EC6-B142-42B3-8A82-B3594670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E9AA-E113-4D2A-8443-0E04437B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503-6530-43D7-9673-481E27D2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08E-1E88-49EB-BDC6-A486F1DD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FEF-018E-47C3-969A-64EE769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232-B0B2-43BF-8ED4-CA3424F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B8E-B6F9-40ED-ACA6-F2CE3087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418-BA84-4C59-B1D4-5DD8C7AE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ABC-AE1A-4E5D-9A49-414884D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AA00-A648-42A7-A377-1A98D7E1C29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7D3A-3C14-46EC-B9B9-F76EF3960341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8243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00ff00"/>
                </a:solidFill>
                <a:latin typeface="Arial Black"/>
              </a:rPr>
              <a:t>My town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737712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nap ITC"/>
              </a:rPr>
              <a:t>Fazilova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nap ITC"/>
              </a:rPr>
              <a:t>Regi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nap ITC"/>
              </a:rPr>
              <a:t>9 “a”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76108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Yugorsk is the town where  the representatives of many nations live together. They communicate, work, rest without any problems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392720" cy="5445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4208400" cy="4608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-712800" y="549360"/>
            <a:ext cx="38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4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400"/>
                            </p:stCondLst>
                            <p:childTnLst>
                              <p:par>
                                <p:cTn id="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1f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91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arly all the children consider Yugorsk the best place to live in . They greet each other with sunny smiles when they meet each other in the morning to school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3564000" cy="3645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4248360" cy="2349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82436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57680" cy="3429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361332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One of the main sights is the church of Sergiy Radonezhski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651640" cy="2232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580000" y="2276640"/>
            <a:ext cx="3564000" cy="4581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561672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Yugorsk is a comfortable town to live in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643280" y="4076640"/>
            <a:ext cx="4500720" cy="2781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4572000" cy="2781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91440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40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40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 was born in Yugorsk. I love my town greatly.  And I believe it will become  the most beautiful town in Siberia. You are welcome to Yugorsk!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338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1601640"/>
            <a:ext cx="450072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200"/>
                            </p:stCondLst>
                            <p:childTnLst>
                              <p:par>
                                <p:cTn id="1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2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1:36:38Z</dcterms:created>
  <dc:creator>Юля</dc:creator>
  <dc:description/>
  <dc:language>en-US</dc:language>
  <cp:lastModifiedBy>*</cp:lastModifiedBy>
  <dcterms:modified xsi:type="dcterms:W3CDTF">2017-02-05T16:14:49Z</dcterms:modified>
  <cp:revision>15</cp:revision>
  <dc:subject/>
  <dc:title>Nature of my town </dc:title>
</cp:coreProperties>
</file>