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7.gif" ContentType="image/gif"/>
  <Override PartName="/ppt/media/image13.png" ContentType="image/png"/>
  <Override PartName="/ppt/media/image8.wmf" ContentType="image/x-wmf"/>
  <Override PartName="/ppt/media/image6.jpeg" ContentType="image/jpeg"/>
  <Override PartName="/ppt/media/image10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1D3-0D39-4E87-B7C4-2EACF6E6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CA2-869E-4061-98F6-6289AAB2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35A-567D-413D-9DD9-AB6F6E50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07F-421B-4E74-920A-0B0643E4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FCEB-71DB-4A7E-8282-92C05A98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E3A9-5B6F-4A02-B030-9ED84E1E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95C3-794F-42AA-A509-0055DB7C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A598-3841-4E15-82B4-779C9EC6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19DF-06D3-45B4-B3A4-191057C2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A016-E724-40BD-B24A-5C22A528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CAA0-2ED6-4D8E-BAA1-AF6DD63A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DA4-82F0-43DD-8A8A-C4F57FAD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5E22-24A8-451B-906B-885D3435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87DE-E2CC-4EBF-BB7D-3093C9A7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F66E-2C71-4193-B52F-D38B79EC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7EA8-04DE-43CF-AAE2-3205ADF5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4EA8-F064-4DB9-A2E3-B9C4CF44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E4FF-BB7C-46B3-8568-B2150D28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4ADA-02BA-483E-BFD1-77B949D3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26CC-BC47-441E-92AD-3777E584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7E1C-6A03-4676-BD51-297871A7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38492-273C-490E-B460-05EE0DA9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196-DCE7-467D-AEAF-0F8E7F1B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332C-6CF2-45D0-8E69-46E0530A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1E04-ADEC-4DF8-9170-FD46D82C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A9B8-CAB8-4DB7-931B-05D3498D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3E71-50CF-4560-B5D7-0ED031B2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6C461-627E-470B-B683-86F93D20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4B80-E6B5-4DB7-A61F-5773A746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4A76D-EFBB-443A-91A9-DCC76CBC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2BA-6F30-4291-A235-E3C386AE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41C-60CC-4F04-A78D-277D05ED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F81-4C57-4642-B591-D17DE96B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919-1322-48FC-885E-2FF59DE4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9AB-633C-41A7-ACFA-203E78E7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960-2B9C-4477-9DFF-3D3D2257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25C7-169D-4482-9E57-E240AD1E24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A326-E588-4B23-AE45-4A274843F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0B99-74DE-447B-A0ED-6A99BC50957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1599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авление твердых тел. Единицы давления.</a:t>
            </a:r>
            <a:br>
              <a:rPr sz="40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752480" y="35568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352320" y="3809520"/>
            <a:ext cx="54104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505320" y="533412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            </a:t>
            </a:r>
            <a:br>
              <a:rPr sz="14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Скругленный прямоугольник 5">
            <a:hlinkClick r:id="rId1"/>
          </p:cNvPr>
          <p:cNvSpPr/>
          <p:nvPr/>
        </p:nvSpPr>
        <p:spPr>
          <a:xfrm>
            <a:off x="408924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5C18-862F-4762-A14F-A83648D0D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6"/>
          <p:cNvSpPr/>
          <p:nvPr/>
        </p:nvSpPr>
        <p:spPr>
          <a:xfrm>
            <a:off x="762120" y="1219320"/>
            <a:ext cx="3429000" cy="14475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ак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величить давление?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5029200" y="3657600"/>
            <a:ext cx="3429000" cy="14479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ак уменьшить давление?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4267080" y="1219320"/>
            <a:ext cx="2667240" cy="609480"/>
          </a:xfrm>
          <a:custGeom>
            <a:avLst/>
            <a:gdLst>
              <a:gd name="textAreaLeft" fmla="*/ 333360 w 2667240"/>
              <a:gd name="textAreaRight" fmla="*/ 2333880 w 26672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величить силу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4038480" y="2133720"/>
            <a:ext cx="3048120" cy="685800"/>
          </a:xfrm>
          <a:custGeom>
            <a:avLst/>
            <a:gdLst>
              <a:gd name="textAreaLeft" fmla="*/ 380880 w 3048120"/>
              <a:gd name="textAreaRight" fmla="*/ 2667240 w 3048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меньшить площадь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utoShape 11"/>
          <p:cNvSpPr/>
          <p:nvPr/>
        </p:nvSpPr>
        <p:spPr>
          <a:xfrm flipH="1" rot="21592200">
            <a:off x="2514600" y="3580920"/>
            <a:ext cx="2819520" cy="609840"/>
          </a:xfrm>
          <a:custGeom>
            <a:avLst/>
            <a:gdLst>
              <a:gd name="textAreaLeft" fmla="*/ 352440 w 2819520"/>
              <a:gd name="textAreaRight" fmla="*/ 2467080 w 28195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меньшить силу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AutoShape 12"/>
          <p:cNvSpPr/>
          <p:nvPr/>
        </p:nvSpPr>
        <p:spPr>
          <a:xfrm flipH="1" rot="21544200">
            <a:off x="2209320" y="4572000"/>
            <a:ext cx="2819520" cy="609480"/>
          </a:xfrm>
          <a:custGeom>
            <a:avLst/>
            <a:gdLst>
              <a:gd name="textAreaLeft" fmla="*/ 352440 w 2819520"/>
              <a:gd name="textAreaRight" fmla="*/ 2467080 w 2819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величить площадь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66cc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121D-DA03-4659-AC4A-B51FD53DF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4" descr="7b3"/>
          <p:cNvPicPr/>
          <p:nvPr/>
        </p:nvPicPr>
        <p:blipFill>
          <a:blip r:embed="rId1"/>
          <a:stretch/>
        </p:blipFill>
        <p:spPr>
          <a:xfrm>
            <a:off x="6781680" y="472428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7b3"/>
          <p:cNvPicPr/>
          <p:nvPr/>
        </p:nvPicPr>
        <p:blipFill>
          <a:blip r:embed="rId2"/>
          <a:stretch/>
        </p:blipFill>
        <p:spPr>
          <a:xfrm>
            <a:off x="1523880" y="60948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7b3"/>
          <p:cNvPicPr/>
          <p:nvPr/>
        </p:nvPicPr>
        <p:blipFill>
          <a:blip r:embed="rId3"/>
          <a:stretch/>
        </p:blipFill>
        <p:spPr>
          <a:xfrm>
            <a:off x="6477120" y="76212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7b3"/>
          <p:cNvPicPr/>
          <p:nvPr/>
        </p:nvPicPr>
        <p:blipFill>
          <a:blip r:embed="rId4"/>
          <a:stretch/>
        </p:blipFill>
        <p:spPr>
          <a:xfrm>
            <a:off x="457200" y="472428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7b3"/>
          <p:cNvPicPr/>
          <p:nvPr/>
        </p:nvPicPr>
        <p:blipFill>
          <a:blip r:embed="rId5"/>
          <a:stretch/>
        </p:blipFill>
        <p:spPr>
          <a:xfrm>
            <a:off x="3581280" y="2666880"/>
            <a:ext cx="1820880" cy="1820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2666880" y="3124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Tahoma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00cc00"/>
                </a:solidFill>
                <a:latin typeface="Tahoma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Л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Н</a:t>
            </a:r>
            <a:r>
              <a:rPr b="1" lang="ru-RU" sz="3600" spc="-1" strike="noStrike">
                <a:solidFill>
                  <a:srgbClr val="2a9703"/>
                </a:solidFill>
                <a:latin typeface="Tahoma"/>
              </a:rPr>
              <a:t>И</a:t>
            </a:r>
            <a:r>
              <a:rPr b="1" lang="ru-RU" sz="3600" spc="-1" strike="noStrike">
                <a:solidFill>
                  <a:srgbClr val="6600ff"/>
                </a:solidFill>
                <a:latin typeface="Tahoma"/>
              </a:rPr>
              <a:t>Е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0415-F8E6-40DD-B549-F9955E36440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-2289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кспериментально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69880" y="2155320"/>
            <a:ext cx="7197840" cy="11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 давление, который оказывает деревянный брусок на поверхность сто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66680" y="3048120"/>
            <a:ext cx="6324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План выполнения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 помощью динамометра измерим вес бруска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Измерим линейкой длину и ширину бруска. Вычислим площадь грани. Выразим ее в квадратных метрах. </a:t>
            </a:r>
            <a:br>
              <a:rPr sz="1800"/>
            </a:b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1 см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= 0,0001 м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Вычислим давление бруска на поверхность стола по формуле            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97180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352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276720" y="5638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3352680" y="56386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cc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7413-2B1A-4306-BB0B-A179D102854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 эксперимен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2133720"/>
          <a:ext cx="7772400" cy="3848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 ря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 ря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 ря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Text Box 35"/>
          <p:cNvSpPr/>
          <p:nvPr/>
        </p:nvSpPr>
        <p:spPr>
          <a:xfrm>
            <a:off x="838080" y="3276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ес бруска, Н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38"/>
          <p:cNvSpPr/>
          <p:nvPr/>
        </p:nvSpPr>
        <p:spPr>
          <a:xfrm>
            <a:off x="914400" y="4114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лощадь грани, м</a:t>
            </a:r>
            <a:r>
              <a:rPr b="1" lang="ru-RU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9"/>
          <p:cNvSpPr/>
          <p:nvPr/>
        </p:nvSpPr>
        <p:spPr>
          <a:xfrm>
            <a:off x="914400" y="5105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авление,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40"/>
          <p:cNvSpPr/>
          <p:nvPr/>
        </p:nvSpPr>
        <p:spPr>
          <a:xfrm>
            <a:off x="838080" y="6172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B960-F306-461F-A7B3-7FA88D926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4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ФИЗ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914400" y="1143000"/>
          <a:ext cx="7620120" cy="556272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4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Picture 25" descr="j0293844"/>
          <p:cNvPicPr/>
          <p:nvPr/>
        </p:nvPicPr>
        <p:blipFill>
          <a:blip r:embed="rId1"/>
          <a:stretch/>
        </p:blipFill>
        <p:spPr>
          <a:xfrm>
            <a:off x="1523880" y="1219320"/>
            <a:ext cx="1231920" cy="1295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6" descr=""/>
          <p:cNvPicPr/>
          <p:nvPr/>
        </p:nvPicPr>
        <p:blipFill>
          <a:blip r:embed="rId2"/>
          <a:stretch/>
        </p:blipFill>
        <p:spPr>
          <a:xfrm>
            <a:off x="4038480" y="1219320"/>
            <a:ext cx="1295640" cy="1163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7" descr=""/>
          <p:cNvPicPr/>
          <p:nvPr/>
        </p:nvPicPr>
        <p:blipFill>
          <a:blip r:embed="rId3"/>
          <a:stretch/>
        </p:blipFill>
        <p:spPr>
          <a:xfrm>
            <a:off x="6477120" y="1371600"/>
            <a:ext cx="1419120" cy="106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8" descr=""/>
          <p:cNvPicPr/>
          <p:nvPr/>
        </p:nvPicPr>
        <p:blipFill>
          <a:blip r:embed="rId4"/>
          <a:stretch/>
        </p:blipFill>
        <p:spPr>
          <a:xfrm>
            <a:off x="1447920" y="2895480"/>
            <a:ext cx="1752480" cy="893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9" descr=""/>
          <p:cNvPicPr/>
          <p:nvPr/>
        </p:nvPicPr>
        <p:blipFill>
          <a:blip r:embed="rId5"/>
          <a:stretch/>
        </p:blipFill>
        <p:spPr>
          <a:xfrm>
            <a:off x="4267080" y="2743200"/>
            <a:ext cx="824040" cy="1219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0" descr=""/>
          <p:cNvPicPr/>
          <p:nvPr/>
        </p:nvPicPr>
        <p:blipFill>
          <a:blip r:embed="rId6"/>
          <a:stretch/>
        </p:blipFill>
        <p:spPr>
          <a:xfrm>
            <a:off x="6400800" y="2743200"/>
            <a:ext cx="1600200" cy="1125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1" descr=""/>
          <p:cNvPicPr/>
          <p:nvPr/>
        </p:nvPicPr>
        <p:blipFill>
          <a:blip r:embed="rId7"/>
          <a:stretch/>
        </p:blipFill>
        <p:spPr>
          <a:xfrm>
            <a:off x="1600200" y="4114800"/>
            <a:ext cx="1371600" cy="1031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"/>
          <p:cNvPicPr/>
          <p:nvPr/>
        </p:nvPicPr>
        <p:blipFill>
          <a:blip r:embed="rId8"/>
          <a:stretch/>
        </p:blipFill>
        <p:spPr>
          <a:xfrm>
            <a:off x="3962520" y="4191120"/>
            <a:ext cx="1676160" cy="1000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4" descr=""/>
          <p:cNvPicPr/>
          <p:nvPr/>
        </p:nvPicPr>
        <p:blipFill>
          <a:blip r:embed="rId9"/>
          <a:stretch/>
        </p:blipFill>
        <p:spPr>
          <a:xfrm>
            <a:off x="1447920" y="5410080"/>
            <a:ext cx="1523880" cy="1068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5" descr=""/>
          <p:cNvPicPr/>
          <p:nvPr/>
        </p:nvPicPr>
        <p:blipFill>
          <a:blip r:embed="rId10"/>
          <a:stretch/>
        </p:blipFill>
        <p:spPr>
          <a:xfrm>
            <a:off x="4191120" y="5486400"/>
            <a:ext cx="77472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6" descr=""/>
          <p:cNvPicPr/>
          <p:nvPr/>
        </p:nvPicPr>
        <p:blipFill>
          <a:blip r:embed="rId11"/>
          <a:stretch/>
        </p:blipFill>
        <p:spPr>
          <a:xfrm>
            <a:off x="6553080" y="548640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7" descr=""/>
          <p:cNvPicPr/>
          <p:nvPr/>
        </p:nvPicPr>
        <p:blipFill>
          <a:blip r:embed="rId12"/>
          <a:stretch/>
        </p:blipFill>
        <p:spPr>
          <a:xfrm>
            <a:off x="6705720" y="4038480"/>
            <a:ext cx="1000080" cy="1209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cc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8806-8AA9-46C3-AE3B-599A18F0CCE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676404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§§ 33, 34, письменно упр. 12 №1, </a:t>
            </a: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1523880" y="4648320"/>
            <a:ext cx="1295640" cy="1295280"/>
          </a:xfrm>
          <a:prstGeom prst="smileyFace">
            <a:avLst>
              <a:gd name="adj" fmla="val -465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3276720" y="4648320"/>
            <a:ext cx="1295280" cy="1295280"/>
          </a:xfrm>
          <a:prstGeom prst="smileyFace">
            <a:avLst>
              <a:gd name="adj" fmla="val 92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5334120" y="4648320"/>
            <a:ext cx="129528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6019920" y="5029200"/>
            <a:ext cx="152280" cy="152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5638680" y="5029200"/>
            <a:ext cx="152640" cy="152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5715000" y="5562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1828800" y="37339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Оцени свою работу на урок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905120" y="6172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809880" y="6095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5791320" y="6095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B1CC-4C50-4577-AFA9-A94F8639A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505320" y="2362320"/>
            <a:ext cx="2057400" cy="1371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Давление</a:t>
            </a:r>
            <a:br>
              <a:rPr sz="2000"/>
            </a:b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 твердых </a:t>
            </a:r>
            <a:br>
              <a:rPr sz="2000"/>
            </a:b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тел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5"/>
          <p:cNvSpPr/>
          <p:nvPr/>
        </p:nvSpPr>
        <p:spPr>
          <a:xfrm flipH="1">
            <a:off x="380880" y="3429000"/>
            <a:ext cx="3276720" cy="31240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5410080" y="3429000"/>
            <a:ext cx="3353040" cy="320040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7"/>
          <p:cNvSpPr/>
          <p:nvPr/>
        </p:nvSpPr>
        <p:spPr>
          <a:xfrm flipH="1">
            <a:off x="4419360" y="3733920"/>
            <a:ext cx="75960" cy="274320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4495680" y="380880"/>
            <a:ext cx="0" cy="198144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9"/>
          <p:cNvSpPr/>
          <p:nvPr/>
        </p:nvSpPr>
        <p:spPr>
          <a:xfrm flipV="1">
            <a:off x="5410080" y="304560"/>
            <a:ext cx="3276720" cy="236196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5562720" y="3048120"/>
            <a:ext cx="304776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1"/>
          <p:cNvSpPr/>
          <p:nvPr/>
        </p:nvSpPr>
        <p:spPr>
          <a:xfrm flipH="1">
            <a:off x="304920" y="2971800"/>
            <a:ext cx="320040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12"/>
          <p:cNvSpPr/>
          <p:nvPr/>
        </p:nvSpPr>
        <p:spPr>
          <a:xfrm flipH="1" flipV="1">
            <a:off x="456840" y="380520"/>
            <a:ext cx="3429000" cy="213372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152280" y="6553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14"/>
          <p:cNvSpPr/>
          <p:nvPr/>
        </p:nvSpPr>
        <p:spPr>
          <a:xfrm>
            <a:off x="0" y="2895480"/>
            <a:ext cx="304920" cy="306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152280" y="152280"/>
            <a:ext cx="304920" cy="306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4343400" y="0"/>
            <a:ext cx="304920" cy="306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686800" y="152280"/>
            <a:ext cx="304920" cy="306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Oval 18"/>
          <p:cNvSpPr/>
          <p:nvPr/>
        </p:nvSpPr>
        <p:spPr>
          <a:xfrm>
            <a:off x="8610480" y="2895480"/>
            <a:ext cx="304920" cy="306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19"/>
          <p:cNvSpPr/>
          <p:nvPr/>
        </p:nvSpPr>
        <p:spPr>
          <a:xfrm>
            <a:off x="4267080" y="6477120"/>
            <a:ext cx="306360" cy="306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8839080" y="6551640"/>
            <a:ext cx="304920" cy="306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Oval 25"/>
          <p:cNvSpPr/>
          <p:nvPr/>
        </p:nvSpPr>
        <p:spPr>
          <a:xfrm>
            <a:off x="228600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Oval 26"/>
          <p:cNvSpPr/>
          <p:nvPr/>
        </p:nvSpPr>
        <p:spPr>
          <a:xfrm>
            <a:off x="16765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27"/>
          <p:cNvSpPr/>
          <p:nvPr/>
        </p:nvSpPr>
        <p:spPr>
          <a:xfrm>
            <a:off x="12193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Oval 28"/>
          <p:cNvSpPr/>
          <p:nvPr/>
        </p:nvSpPr>
        <p:spPr>
          <a:xfrm>
            <a:off x="2743200" y="2895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val 29"/>
          <p:cNvSpPr/>
          <p:nvPr/>
        </p:nvSpPr>
        <p:spPr>
          <a:xfrm>
            <a:off x="2666880" y="4343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30"/>
          <p:cNvSpPr/>
          <p:nvPr/>
        </p:nvSpPr>
        <p:spPr>
          <a:xfrm>
            <a:off x="1676520" y="2971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Oval 31"/>
          <p:cNvSpPr/>
          <p:nvPr/>
        </p:nvSpPr>
        <p:spPr>
          <a:xfrm>
            <a:off x="3276720" y="3733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Oval 32"/>
          <p:cNvSpPr/>
          <p:nvPr/>
        </p:nvSpPr>
        <p:spPr>
          <a:xfrm>
            <a:off x="5791320" y="2971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33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34"/>
          <p:cNvSpPr/>
          <p:nvPr/>
        </p:nvSpPr>
        <p:spPr>
          <a:xfrm>
            <a:off x="685800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7924680" y="5791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37"/>
          <p:cNvSpPr/>
          <p:nvPr/>
        </p:nvSpPr>
        <p:spPr>
          <a:xfrm>
            <a:off x="4495680" y="1523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38"/>
          <p:cNvSpPr/>
          <p:nvPr/>
        </p:nvSpPr>
        <p:spPr>
          <a:xfrm>
            <a:off x="7467480" y="2971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Oval 39"/>
          <p:cNvSpPr/>
          <p:nvPr/>
        </p:nvSpPr>
        <p:spPr>
          <a:xfrm>
            <a:off x="8305920" y="2971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Oval 40"/>
          <p:cNvSpPr/>
          <p:nvPr/>
        </p:nvSpPr>
        <p:spPr>
          <a:xfrm>
            <a:off x="6629400" y="2971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Oval 41"/>
          <p:cNvSpPr/>
          <p:nvPr/>
        </p:nvSpPr>
        <p:spPr>
          <a:xfrm>
            <a:off x="2514600" y="1676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42"/>
          <p:cNvSpPr/>
          <p:nvPr/>
        </p:nvSpPr>
        <p:spPr>
          <a:xfrm>
            <a:off x="4648320" y="649116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99"/>
                </a:solidFill>
                <a:uFillTx/>
                <a:latin typeface="Comic Sans MS"/>
              </a:rPr>
              <a:t>Домашнее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990099"/>
                </a:solidFill>
                <a:uFillTx/>
                <a:latin typeface="Comic Sans MS"/>
              </a:rPr>
              <a:t>зада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43"/>
          <p:cNvSpPr/>
          <p:nvPr/>
        </p:nvSpPr>
        <p:spPr>
          <a:xfrm>
            <a:off x="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Comic Sans MS"/>
              </a:rPr>
              <a:t>Цели и задач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44"/>
          <p:cNvSpPr/>
          <p:nvPr/>
        </p:nvSpPr>
        <p:spPr>
          <a:xfrm>
            <a:off x="228600" y="3124080"/>
            <a:ext cx="11430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99"/>
                </a:solidFill>
                <a:uFillTx/>
                <a:latin typeface="Comic Sans MS"/>
              </a:rPr>
              <a:t>Знать</a:t>
            </a:r>
            <a:br>
              <a:rPr sz="1800"/>
            </a:b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смысл физических величин: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45"/>
          <p:cNvSpPr/>
          <p:nvPr/>
        </p:nvSpPr>
        <p:spPr>
          <a:xfrm>
            <a:off x="990720" y="2286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99"/>
                </a:solidFill>
                <a:uFillTx/>
                <a:latin typeface="Comic Sans MS"/>
              </a:rPr>
              <a:t>Уметь применять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46"/>
          <p:cNvSpPr/>
          <p:nvPr/>
        </p:nvSpPr>
        <p:spPr>
          <a:xfrm>
            <a:off x="4724280" y="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99"/>
                </a:solidFill>
                <a:uFillTx/>
                <a:latin typeface="Comic Sans MS"/>
              </a:rPr>
              <a:t>Оборудова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7"/>
          <p:cNvSpPr/>
          <p:nvPr/>
        </p:nvSpPr>
        <p:spPr>
          <a:xfrm>
            <a:off x="6553080" y="15228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Comic Sans MS"/>
              </a:rPr>
              <a:t>Этапы урока для </a:t>
            </a:r>
            <a:br>
              <a:rPr sz="1600"/>
            </a:br>
            <a:r>
              <a:rPr b="1" lang="ru-RU" sz="1600" spc="-1" strike="noStrike" u="sng">
                <a:solidFill>
                  <a:srgbClr val="990099"/>
                </a:solidFill>
                <a:uFillTx/>
                <a:latin typeface="Comic Sans MS"/>
              </a:rPr>
              <a:t>самооценк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48"/>
          <p:cNvSpPr/>
          <p:nvPr/>
        </p:nvSpPr>
        <p:spPr>
          <a:xfrm>
            <a:off x="7696080" y="3124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99"/>
                </a:solidFill>
                <a:uFillTx/>
                <a:latin typeface="Comic Sans MS"/>
              </a:rPr>
              <a:t>Методы и технологи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49"/>
          <p:cNvSpPr/>
          <p:nvPr/>
        </p:nvSpPr>
        <p:spPr>
          <a:xfrm>
            <a:off x="7543800" y="4876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99"/>
                </a:solidFill>
                <a:uFillTx/>
                <a:latin typeface="Comic Sans MS"/>
              </a:rPr>
              <a:t>Виды работ обучающихс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50"/>
          <p:cNvSpPr/>
          <p:nvPr/>
        </p:nvSpPr>
        <p:spPr>
          <a:xfrm>
            <a:off x="5715000" y="2666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ИКТ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51"/>
          <p:cNvSpPr/>
          <p:nvPr/>
        </p:nvSpPr>
        <p:spPr>
          <a:xfrm>
            <a:off x="6172200" y="31240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объяснительно - иллюстрированный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52"/>
          <p:cNvSpPr/>
          <p:nvPr/>
        </p:nvSpPr>
        <p:spPr>
          <a:xfrm>
            <a:off x="7696080" y="2590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творческий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53"/>
          <p:cNvSpPr/>
          <p:nvPr/>
        </p:nvSpPr>
        <p:spPr>
          <a:xfrm>
            <a:off x="6248520" y="26668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проблемный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54"/>
          <p:cNvSpPr/>
          <p:nvPr/>
        </p:nvSpPr>
        <p:spPr>
          <a:xfrm>
            <a:off x="5334120" y="41148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решение проблемной задачи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55"/>
          <p:cNvSpPr/>
          <p:nvPr/>
        </p:nvSpPr>
        <p:spPr>
          <a:xfrm>
            <a:off x="5486400" y="50292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экспериментальное определение зависимости давления от силы и площади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56"/>
          <p:cNvSpPr/>
          <p:nvPr/>
        </p:nvSpPr>
        <p:spPr>
          <a:xfrm>
            <a:off x="7162920" y="603576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установление способов изменение давления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Oval 57"/>
          <p:cNvSpPr/>
          <p:nvPr/>
        </p:nvSpPr>
        <p:spPr>
          <a:xfrm>
            <a:off x="6019920" y="2133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Oval 58"/>
          <p:cNvSpPr/>
          <p:nvPr/>
        </p:nvSpPr>
        <p:spPr>
          <a:xfrm>
            <a:off x="7315200" y="1295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Oval 59"/>
          <p:cNvSpPr/>
          <p:nvPr/>
        </p:nvSpPr>
        <p:spPr>
          <a:xfrm>
            <a:off x="6553080" y="1828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Oval 60"/>
          <p:cNvSpPr/>
          <p:nvPr/>
        </p:nvSpPr>
        <p:spPr>
          <a:xfrm>
            <a:off x="7848720" y="838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Oval 61"/>
          <p:cNvSpPr/>
          <p:nvPr/>
        </p:nvSpPr>
        <p:spPr>
          <a:xfrm>
            <a:off x="4495680" y="914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Oval 62"/>
          <p:cNvSpPr/>
          <p:nvPr/>
        </p:nvSpPr>
        <p:spPr>
          <a:xfrm>
            <a:off x="4419720" y="5715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3"/>
          <p:cNvSpPr/>
          <p:nvPr/>
        </p:nvSpPr>
        <p:spPr>
          <a:xfrm>
            <a:off x="8153280" y="838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рефлексия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4"/>
          <p:cNvSpPr/>
          <p:nvPr/>
        </p:nvSpPr>
        <p:spPr>
          <a:xfrm>
            <a:off x="7467480" y="1219320"/>
            <a:ext cx="1143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ученический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эксперимент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65"/>
          <p:cNvSpPr/>
          <p:nvPr/>
        </p:nvSpPr>
        <p:spPr>
          <a:xfrm>
            <a:off x="6858000" y="18288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объяснение нового материала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66"/>
          <p:cNvSpPr/>
          <p:nvPr/>
        </p:nvSpPr>
        <p:spPr>
          <a:xfrm>
            <a:off x="5715000" y="121932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создание проблемной ситуации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Oval 67"/>
          <p:cNvSpPr/>
          <p:nvPr/>
        </p:nvSpPr>
        <p:spPr>
          <a:xfrm>
            <a:off x="4495680" y="1981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Oval 69"/>
          <p:cNvSpPr/>
          <p:nvPr/>
        </p:nvSpPr>
        <p:spPr>
          <a:xfrm>
            <a:off x="1295280" y="914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Oval 70"/>
          <p:cNvSpPr/>
          <p:nvPr/>
        </p:nvSpPr>
        <p:spPr>
          <a:xfrm>
            <a:off x="4495680" y="609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val 71"/>
          <p:cNvSpPr/>
          <p:nvPr/>
        </p:nvSpPr>
        <p:spPr>
          <a:xfrm>
            <a:off x="4419720" y="4267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val 72"/>
          <p:cNvSpPr/>
          <p:nvPr/>
        </p:nvSpPr>
        <p:spPr>
          <a:xfrm>
            <a:off x="44197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73"/>
          <p:cNvSpPr/>
          <p:nvPr/>
        </p:nvSpPr>
        <p:spPr>
          <a:xfrm>
            <a:off x="4572000" y="18288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тетрадь учащегося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74"/>
          <p:cNvSpPr/>
          <p:nvPr/>
        </p:nvSpPr>
        <p:spPr>
          <a:xfrm>
            <a:off x="4648320" y="8380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компьютер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75"/>
          <p:cNvSpPr/>
          <p:nvPr/>
        </p:nvSpPr>
        <p:spPr>
          <a:xfrm>
            <a:off x="4648320" y="3808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компьютерная презентация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76"/>
          <p:cNvSpPr/>
          <p:nvPr/>
        </p:nvSpPr>
        <p:spPr>
          <a:xfrm>
            <a:off x="4572000" y="114300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деревянный 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брусок, 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динамометр,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 линейка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77"/>
          <p:cNvSpPr/>
          <p:nvPr/>
        </p:nvSpPr>
        <p:spPr>
          <a:xfrm>
            <a:off x="3429000" y="37339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Times New Roman"/>
              </a:rPr>
              <a:t>введение понятия о давлении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78"/>
          <p:cNvSpPr/>
          <p:nvPr/>
        </p:nvSpPr>
        <p:spPr>
          <a:xfrm>
            <a:off x="2743200" y="4343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повторить «Сила»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79"/>
          <p:cNvSpPr/>
          <p:nvPr/>
        </p:nvSpPr>
        <p:spPr>
          <a:xfrm>
            <a:off x="2514600" y="457200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выяснить зависимость результата действия силы от 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 и 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80"/>
          <p:cNvSpPr/>
          <p:nvPr/>
        </p:nvSpPr>
        <p:spPr>
          <a:xfrm>
            <a:off x="1752480" y="54100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научиться вычислять давление тела на опору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81"/>
          <p:cNvSpPr/>
          <p:nvPr/>
        </p:nvSpPr>
        <p:spPr>
          <a:xfrm>
            <a:off x="914400" y="603576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установить, как можно изменять давление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84"/>
          <p:cNvSpPr/>
          <p:nvPr/>
        </p:nvSpPr>
        <p:spPr>
          <a:xfrm>
            <a:off x="1523880" y="3124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давление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86"/>
          <p:cNvSpPr/>
          <p:nvPr/>
        </p:nvSpPr>
        <p:spPr>
          <a:xfrm>
            <a:off x="2743200" y="3048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сила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87"/>
          <p:cNvSpPr/>
          <p:nvPr/>
        </p:nvSpPr>
        <p:spPr>
          <a:xfrm>
            <a:off x="1295280" y="1905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выражать результаты измерений и расчетов в единицах Международной системы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88"/>
          <p:cNvSpPr/>
          <p:nvPr/>
        </p:nvSpPr>
        <p:spPr>
          <a:xfrm>
            <a:off x="228600" y="990720"/>
            <a:ext cx="1371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Times New Roman"/>
              </a:rPr>
              <a:t>приводить примеры практического использования физических знаний о механических явлениях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utoShape 89"/>
          <p:cNvSpPr/>
          <p:nvPr/>
        </p:nvSpPr>
        <p:spPr>
          <a:xfrm>
            <a:off x="4572000" y="4191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90"/>
          <p:cNvSpPr/>
          <p:nvPr/>
        </p:nvSpPr>
        <p:spPr>
          <a:xfrm>
            <a:off x="4572000" y="4876920"/>
            <a:ext cx="2286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Oval 92"/>
          <p:cNvSpPr/>
          <p:nvPr/>
        </p:nvSpPr>
        <p:spPr>
          <a:xfrm>
            <a:off x="4572000" y="5638680"/>
            <a:ext cx="22860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251C-5DD5-4271-913A-DEF5EA00C52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6705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Информационные источники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Лукашик В. И. , Иванова Е. В. Сборник задач по физике. 7-9 кл. (ко всем параллельным учебникам). – М.: Просвещение, </a:t>
            </a:r>
            <a:br>
              <a:rPr sz="1800"/>
            </a:b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2002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Марон А. Е. Физика . 7 класс: учебно-методическое пособие/ А. Е. Марон, Е. А. Марон. -3 изд., стереотип. – М.: Дрофа, 2005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Книга для чтения по физике для учащихся 7-8 классов.- / Авт.-сост.- И. С. Кириллова).-  М.: Просвещение, 1980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Перельман Я. И. Занимательная физика - кн. 1,2, изд. 18, -М.: Наука, 1972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Перышкин А. В.  Физика 7 класс -4-е изд. -М.:  Дрофа, 2006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Энциклопедический словарь юного физика. / Сост. Чуянов В. А.  - М.: Педагогика, 1984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http://www.school.edu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http://ruscore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http://zfmschool.netschool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3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7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5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9" dur="1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3" dur="1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7" dur="10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1" dur="1000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66cc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1E1A-0BCB-4E5C-B008-A8F7E90F7A6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533520"/>
            <a:ext cx="58676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«Природа так обо всем позаботилась,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что повсюду ты находишь, чему учиться»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952880" y="19810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Леонардо да Винч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6933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Вышел слон на лесную дорожку, наступил муравью он на ножку.</a:t>
            </a:r>
            <a:br>
              <a:rPr sz="2800"/>
            </a:b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И вежливо очень сказал муравью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«Можешь и ты наступить на мою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ELES"/>
          <p:cNvPicPr/>
          <p:nvPr/>
        </p:nvPicPr>
        <p:blipFill>
          <a:blip r:embed="rId1"/>
          <a:stretch/>
        </p:blipFill>
        <p:spPr>
          <a:xfrm>
            <a:off x="3276720" y="4648320"/>
            <a:ext cx="2324160" cy="196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BBS"/>
          <p:cNvPicPr/>
          <p:nvPr/>
        </p:nvPicPr>
        <p:blipFill>
          <a:blip r:embed="rId2"/>
          <a:stretch/>
        </p:blipFill>
        <p:spPr>
          <a:xfrm>
            <a:off x="6172200" y="5562720"/>
            <a:ext cx="914400" cy="828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6AE3-59A0-48CA-9850-14C2AFD92B7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440" y="2209320"/>
            <a:ext cx="5257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Для оценки результата действия силы нужно ввести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Tahoma"/>
              </a:rPr>
              <a:t>величину</a:t>
            </a: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, которая показывает, какая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Tahoma"/>
              </a:rPr>
              <a:t>сила действует на единицу площади поверхности</a:t>
            </a: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9" descr="Drawing5"/>
          <p:cNvPicPr/>
          <p:nvPr/>
        </p:nvPicPr>
        <p:blipFill>
          <a:blip r:embed="rId1"/>
          <a:stretch/>
        </p:blipFill>
        <p:spPr>
          <a:xfrm>
            <a:off x="6148440" y="2639880"/>
            <a:ext cx="2212920" cy="186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a7d9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7E52-B979-45CA-9DB6-95432C213F1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: «Давлени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85800" y="2666880"/>
            <a:ext cx="8001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990099"/>
                </a:solidFill>
                <a:latin typeface="Tahoma"/>
              </a:rPr>
              <a:t>Цель урока</a:t>
            </a: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вести понятие  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давлении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, как одной из характеристик взаимодействи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B676-8000-4D16-9EF1-98E4C1B69B3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4343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дачи урока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повторить тему «Сила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ввести понятие «давление», как физической величины, которая показывает , какая сила действует на единицу площади поверх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показать решение задачи на вычисление давления твердого тела на опор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экспериментально определить зависимость давления от силы и площади поверхности, перпендикулярно которой она действуе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выяснить, от чего зависит давление, и как его можно измени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cc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1812-CA21-4ECF-84B6-D097DF758EE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371240" y="4568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Давлени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еличина, равная отношению силы, действующей перпендикулярно поверхности, к площади этой поверхност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048120" y="4267080"/>
                <a:ext cx="19047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Text Box 10"/>
          <p:cNvSpPr/>
          <p:nvPr/>
        </p:nvSpPr>
        <p:spPr>
          <a:xfrm>
            <a:off x="6094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2362320" y="28954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25146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л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2209680" y="2971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ощадь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4800600" y="2666880"/>
            <a:ext cx="4038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означен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давлени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сил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площад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cc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D68E-83A0-48F6-97DD-FA0A9375663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2017440"/>
            <a:ext cx="822960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единицу давлени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инимается давление, производимое силой в 1 Н на поверхность площадью 1 м</a:t>
            </a:r>
            <a:r>
              <a:rPr b="1" lang="ru-RU" sz="24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, перпендикулярно этой поверхности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Эт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единица называетс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аскал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1739880" y="4226040"/>
                <a:ext cx="1548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П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9"/>
          <p:cNvSpPr/>
          <p:nvPr/>
        </p:nvSpPr>
        <p:spPr>
          <a:xfrm>
            <a:off x="4114800" y="411480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гПа =100 Па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кПа =1 000П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МПа =1 000 000 П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124080" y="5867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значит давление равно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500 П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11" descr="quest"/>
          <p:cNvPicPr/>
          <p:nvPr/>
        </p:nvPicPr>
        <p:blipFill>
          <a:blip r:embed="rId1"/>
          <a:stretch/>
        </p:blipFill>
        <p:spPr>
          <a:xfrm>
            <a:off x="1981080" y="55627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picture"/>
          <p:cNvPicPr/>
          <p:nvPr/>
        </p:nvPicPr>
        <p:blipFill>
          <a:blip r:embed="rId2"/>
          <a:stretch/>
        </p:blipFill>
        <p:spPr>
          <a:xfrm>
            <a:off x="7086600" y="2971800"/>
            <a:ext cx="1179360" cy="1428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77" name="Text Box 13"/>
          <p:cNvSpPr/>
          <p:nvPr/>
        </p:nvSpPr>
        <p:spPr>
          <a:xfrm>
            <a:off x="2133720" y="990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ahoma"/>
              </a:rPr>
              <a:t>Единицы давлени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1F3A-BA7F-4673-9ED6-F816A585A5C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дача: 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Какое давление на пол оказывает ученица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7 класса массой 60 кг , стоя на полу, если площадь поверхности ее подошв составляет 400 см</a:t>
            </a:r>
            <a:r>
              <a:rPr b="1" lang="ru-RU" sz="20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143000" y="2133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990720" y="2666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60 кг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990720" y="3124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400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6668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10 Н/кг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990720" y="43434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14400" y="4648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?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2438280" y="2286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2590920" y="3124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04 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505320" y="2286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0384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886200" y="2362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962520" y="33526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65760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кг ·Н/к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3733920" y="3124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60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= 600 (Н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3886200" y="5105520"/>
                <a:ext cx="18684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eqArr>
                      <m:e>
                        <m:f>
                          <m:num/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den>
                        </m:f>
                      </m:e>
                    </m:eqAr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Text Box 25"/>
          <p:cNvSpPr/>
          <p:nvPr/>
        </p:nvSpPr>
        <p:spPr>
          <a:xfrm>
            <a:off x="3809880" y="3657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5638680" y="5257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9"/>
          <p:cNvSpPr/>
          <p:nvPr/>
        </p:nvSpPr>
        <p:spPr>
          <a:xfrm>
            <a:off x="4191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419112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41911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33"/>
          <p:cNvSpPr/>
          <p:nvPr/>
        </p:nvSpPr>
        <p:spPr>
          <a:xfrm>
            <a:off x="380988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43434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35"/>
          <p:cNvSpPr/>
          <p:nvPr/>
        </p:nvSpPr>
        <p:spPr>
          <a:xfrm>
            <a:off x="4267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4267080" y="4648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335268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38"/>
          <p:cNvSpPr/>
          <p:nvPr/>
        </p:nvSpPr>
        <p:spPr>
          <a:xfrm>
            <a:off x="419112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00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cc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Для ответа на вопрос нужно сравнить давления, которые оказывает слон на муравья и муравей на слон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361960" y="761760"/>
            <a:ext cx="60195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Вышел слон на лесную дорожку,    </a:t>
            </a:r>
            <a:br>
              <a:rPr sz="2800"/>
            </a:b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 наступил муравью он на ножку.</a:t>
            </a:r>
            <a:br>
              <a:rPr sz="2800"/>
            </a:b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 И вежливо очень сказал муравью: «Можешь и ты наступить на мою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3" descr="quest"/>
          <p:cNvPicPr/>
          <p:nvPr/>
        </p:nvPicPr>
        <p:blipFill>
          <a:blip r:embed="rId1"/>
          <a:stretch/>
        </p:blipFill>
        <p:spPr>
          <a:xfrm>
            <a:off x="1219320" y="91440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</cp:lastModifiedBy>
  <dcterms:modified xsi:type="dcterms:W3CDTF">2018-01-08T07:14:31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