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9.png" ContentType="image/png"/>
  <Override PartName="/ppt/media/image20.gif" ContentType="image/gif"/>
  <Override PartName="/ppt/media/click.wav" ContentType="audio/x-wav"/>
  <Override PartName="/ppt/media/image18.jpeg" ContentType="image/jpeg"/>
  <Override PartName="/ppt/media/image19.gif" ContentType="image/gif"/>
  <Override PartName="/ppt/media/image10.png" ContentType="image/png"/>
  <Override PartName="/ppt/media/chimes.wav" ContentType="audio/x-wav"/>
  <Override PartName="/ppt/media/image13.png" ContentType="image/png"/>
  <Override PartName="/ppt/media/image17.gif" ContentType="image/gif"/>
  <Override PartName="/ppt/media/image3.png" ContentType="image/png"/>
  <Override PartName="/ppt/media/image15.png" ContentType="image/png"/>
  <Override PartName="/ppt/media/image2.png" ContentType="image/png"/>
  <Override PartName="/ppt/media/image5.gif" ContentType="image/gi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DBD-F5FF-4206-B7A1-580D7B12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C34-450C-4F15-9AD5-9E6F86C9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950-58C4-4CCB-BED9-1401E5AB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7C7-941B-488E-94D2-43CAC07C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BB9-5D4A-425C-B9E1-6DD51D41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3A76-6EF6-4384-9FA7-04D04F89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675E-BBDF-46C4-A76B-8CF30FBE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AA8F-08DF-48D5-A480-7FC118E0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7DA2-6460-4C28-AA8C-FA45445A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E084-A941-4209-9F09-97B3D8D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5A76-9CE6-49E5-BB33-57FADFAB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E62-F205-436F-AD8C-287E2D8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FA3-4E96-4ABC-A0F1-EBC1544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C47-4809-4038-BC08-8E8D12E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F709-B95D-4F36-AC03-0FABD5D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168A-381C-4CF3-88B5-D909D1DC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712-0BE8-45EF-96E4-76FA4B42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8FD-0780-41D2-AB01-13884F1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861-80BA-4E75-A1CF-C9ADF3E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177-BA1F-43B8-B654-FFE15447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A18-3405-4EF2-B6FD-9A56FA6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776-B07B-4DCF-AF24-9A1CF6C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0D9-32E8-4E73-A96C-804E9DC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D01-65D5-4449-BB49-56CE2B2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F605-02FC-43BF-86EE-23233696D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508-DE82-4436-9C43-93E90504AD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68360" y="4076640"/>
                <a:ext cx="2799000" cy="22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 txBox="1"/>
          <p:nvPr/>
        </p:nvSpPr>
        <p:spPr>
          <a:xfrm>
            <a:off x="1258920" y="620640"/>
            <a:ext cx="705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ение обыкновенных</a:t>
            </a:r>
            <a:endParaRPr b="0" lang="en-US" sz="2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обей</a:t>
            </a:r>
            <a:endParaRPr b="0" lang="en-US" sz="2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77080" y="2924280"/>
            <a:ext cx="1361880" cy="2089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08720" y="4941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285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 Какое число не имеет обратног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236000" y="692280"/>
                <a:ext cx="360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71C-C46E-4C54-9FE2-15348B20C4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948E-006 C -0.00052 0.02682 -0.00069 0.05341 -0.00156 0.08023 C -0.00156 0.08208 -0.00278 0.09734 -0.00469 0.10151 C -0.00694 0.10682 -0.01267 0.1163 -0.01267 0.1163 C -0.01562 0.13249 -0.02031 0.13388 -0.03177 0.14174 C -0.03489 0.14382 -0.03923 0.1496 -0.04288 0.15006 C -0.0566 0.15191 -0.07048 0.15145 -0.0842 0.15214 C -0.08576 0.15353 -0.08785 0.15445 -0.08889 0.15653 C -0.09062 0.16023 -0.09201 0.16902 -0.09201 0.16902 C -0.09149 0.17179 -0.09167 0.17503 -0.09045 0.17757 C -0.08698 0.18451 -0.07517 0.1859 -0.06979 0.18821 C -0.05451 0.20185 -0.0066 0.19977 0.00469 0.20093 C 0.01632 0.2044 0.02552 0.20856 0.03646 0.21341 C 0.04809 0.2289 0.05868 0.2444 0.06979 0.26012 C 0.0691 0.27492 0.07153 0.2911 0.06667 0.30451 C 0.0625 0.31584 0.05295 0.32717 0.04601 0.33411 C 0.0434 0.33688 0.03715 0.34752 0.03333 0.3489 C 0.00868 0.35815 0.01754 0.34821 -3.61111E-006 0.35723 C -0.00677 0.3607 -0.01649 0.37341 -0.02378 0.37411 C -0.05069 0.37665 -0.07778 0.37711 -0.10469 0.3785 C -0.13733 0.37734 -0.15538 0.38335 -0.1809 0.37203 C -0.18594 0.36578 -0.18993 0.36555 -0.19687 0.3637 C -0.20364 0.35422 -0.21614 0.35307 -0.22535 0.3489 C -0.23993 0.33572 -0.25851 0.34567 -0.27465 0.35098 C -0.28177 0.35723 -0.28142 0.3644 -0.2842 0.37411 C -0.28472 0.39538 -0.28437 0.41665 -0.28576 0.43769 C -0.28611 0.44208 -0.28889 0.45018 -0.28889 0.45018 E">
                                      <p:cBhvr>
                                        <p:cTn id="142" dur="3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285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.  Разделить 1 на дробь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27800" y="2781360"/>
                <a:ext cx="3729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E981-BE90-4FCB-837A-B12E1A5682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30058E-006 C -0.0059 0.02105 -0.0033 0.04371 -0.00642 0.06544 C -0.00677 0.06752 -0.00868 0.06821 -0.00955 0.06983 C -0.02291 0.09226 -0.01423 0.08047 -0.02396 0.09295 C -0.02621 0.10567 -0.03368 0.11376 -0.03975 0.12463 C -0.04566 0.13503 -0.05017 0.14521 -0.05729 0.15423 C -0.06111 0.16995 -0.08194 0.20209 -0.09062 0.2155 C -0.09444 0.22151 -0.09982 0.23399 -0.10642 0.23469 C -0.13333 0.23723 -0.16041 0.23746 -0.18732 0.23885 C -0.20538 0.25041 -0.17621 0.23238 -0.20955 0.2474 C -0.23837 0.26035 -0.19826 0.24856 -0.22552 0.25573 C -0.2342 0.26151 -0.23194 0.26151 -0.23507 0.27261 C -0.23281 0.30636 -0.23281 0.32463 -0.22396 0.35307 C -0.21962 0.36671 -0.21597 0.38243 -0.20642 0.39099 C -0.20434 0.40278 -0.20104 0.41134 -0.19375 0.4185 C -0.18229 0.44347 -0.19566 0.4185 -0.18264 0.4333 C -0.18125 0.43492 -0.18125 0.43839 -0.17951 0.43977 C -0.17708 0.44162 -0.17413 0.44093 -0.17153 0.44186 C -0.15989 0.44579 -0.14809 0.44995 -0.13663 0.45457 C -0.03055 0.45226 -0.06007 0.45966 -0.00642 0.44394 C 0.00243 0.43654 0.00886 0.43353 0.01736 0.42706 C 0.02136 0.42405 0.02448 0.41943 0.02847 0.41642 C 0.03698 0.41018 0.02986 0.41989 0.03959 0.41018 C 0.04202 0.40787 0.04306 0.40278 0.04601 0.40162 C 0.05209 0.39908 0.05868 0.40024 0.06493 0.39954 C 0.10434 0.40232 0.11997 0.38197 0.12691 0.4185 C 0.12639 0.44532 0.12535 0.49897 0.12535 0.49897 E">
                                      <p:cBhvr>
                                        <p:cTn id="16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Чтобы разделить одну дробь на другую, надо делимое умножить на число, обратное делителю</a:t>
            </a:r>
            <a:r>
              <a:rPr b="0" lang="ru-RU" sz="4800" spc="-1" strike="noStrike">
                <a:solidFill>
                  <a:srgbClr val="240802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124000" y="4508640"/>
                <a:ext cx="5688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4FB1-3C51-4202-9EF5-956A77DA6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816360" cy="2911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050920" y="404640"/>
            <a:ext cx="51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нировочные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3068640"/>
            <a:ext cx="501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ulim"/>
              </a:rPr>
              <a:t>Индивидуальн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ulim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Gulim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0DB-6E2A-4F68-9FD2-5B59DCEEC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4360" y="0"/>
            <a:ext cx="7920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ulim"/>
                <a:ea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lim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Gulim"/>
                <a:ea typeface="Arial"/>
              </a:rPr>
              <a:t>В нашей школе учится 336 мальчиков, а девочек в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lim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ulim"/>
                <a:ea typeface="Arial"/>
              </a:rPr>
              <a:t>раза  меньше, чем мальчиков. Сколько девочек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lim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Gulim"/>
                <a:ea typeface="Arial"/>
              </a:rPr>
              <a:t>учится в  школ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87640" y="4508640"/>
            <a:ext cx="1219320" cy="1761840"/>
            <a:chOff x="2987640" y="4508640"/>
            <a:chExt cx="1219320" cy="176184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2987640" y="4508640"/>
              <a:ext cx="1219320" cy="17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"/>
            <p:cNvGrpSpPr/>
            <p:nvPr/>
          </p:nvGrpSpPr>
          <p:grpSpPr>
            <a:xfrm>
              <a:off x="3206160" y="5169960"/>
              <a:ext cx="840240" cy="984600"/>
              <a:chOff x="3206160" y="5169960"/>
              <a:chExt cx="840240" cy="984600"/>
            </a:xfrm>
          </p:grpSpPr>
          <p:sp>
            <p:nvSpPr>
              <p:cNvPr id="260" name=""/>
              <p:cNvSpPr/>
              <p:nvPr/>
            </p:nvSpPr>
            <p:spPr>
              <a:xfrm>
                <a:off x="3276360" y="5197320"/>
                <a:ext cx="669600" cy="957240"/>
              </a:xfrm>
              <a:custGeom>
                <a:avLst/>
                <a:gdLst/>
                <a:ahLst/>
                <a:rect l="l" t="t" r="r" b="b"/>
                <a:pathLst>
                  <a:path w="478" h="695">
                    <a:moveTo>
                      <a:pt x="146" y="6"/>
                    </a:moveTo>
                    <a:cubicBezTo>
                      <a:pt x="158" y="0"/>
                      <a:pt x="199" y="1"/>
                      <a:pt x="206" y="10"/>
                    </a:cubicBezTo>
                    <a:cubicBezTo>
                      <a:pt x="213" y="19"/>
                      <a:pt x="193" y="47"/>
                      <a:pt x="190" y="61"/>
                    </a:cubicBezTo>
                    <a:cubicBezTo>
                      <a:pt x="187" y="75"/>
                      <a:pt x="165" y="91"/>
                      <a:pt x="190" y="97"/>
                    </a:cubicBezTo>
                    <a:cubicBezTo>
                      <a:pt x="215" y="103"/>
                      <a:pt x="318" y="109"/>
                      <a:pt x="340" y="97"/>
                    </a:cubicBezTo>
                    <a:cubicBezTo>
                      <a:pt x="362" y="85"/>
                      <a:pt x="325" y="43"/>
                      <a:pt x="322" y="28"/>
                    </a:cubicBezTo>
                    <a:cubicBezTo>
                      <a:pt x="319" y="13"/>
                      <a:pt x="317" y="10"/>
                      <a:pt x="322" y="6"/>
                    </a:cubicBezTo>
                    <a:cubicBezTo>
                      <a:pt x="327" y="2"/>
                      <a:pt x="342" y="4"/>
                      <a:pt x="350" y="6"/>
                    </a:cubicBezTo>
                    <a:cubicBezTo>
                      <a:pt x="358" y="8"/>
                      <a:pt x="362" y="3"/>
                      <a:pt x="370" y="18"/>
                    </a:cubicBezTo>
                    <a:cubicBezTo>
                      <a:pt x="378" y="33"/>
                      <a:pt x="391" y="69"/>
                      <a:pt x="398" y="94"/>
                    </a:cubicBezTo>
                    <a:cubicBezTo>
                      <a:pt x="405" y="119"/>
                      <a:pt x="411" y="142"/>
                      <a:pt x="414" y="170"/>
                    </a:cubicBezTo>
                    <a:cubicBezTo>
                      <a:pt x="417" y="198"/>
                      <a:pt x="409" y="237"/>
                      <a:pt x="414" y="262"/>
                    </a:cubicBezTo>
                    <a:cubicBezTo>
                      <a:pt x="419" y="287"/>
                      <a:pt x="433" y="293"/>
                      <a:pt x="442" y="318"/>
                    </a:cubicBezTo>
                    <a:cubicBezTo>
                      <a:pt x="451" y="343"/>
                      <a:pt x="460" y="379"/>
                      <a:pt x="466" y="412"/>
                    </a:cubicBezTo>
                    <a:cubicBezTo>
                      <a:pt x="472" y="445"/>
                      <a:pt x="478" y="486"/>
                      <a:pt x="478" y="518"/>
                    </a:cubicBezTo>
                    <a:cubicBezTo>
                      <a:pt x="478" y="550"/>
                      <a:pt x="471" y="577"/>
                      <a:pt x="466" y="604"/>
                    </a:cubicBezTo>
                    <a:cubicBezTo>
                      <a:pt x="461" y="631"/>
                      <a:pt x="451" y="669"/>
                      <a:pt x="446" y="682"/>
                    </a:cubicBezTo>
                    <a:cubicBezTo>
                      <a:pt x="441" y="695"/>
                      <a:pt x="443" y="683"/>
                      <a:pt x="438" y="682"/>
                    </a:cubicBezTo>
                    <a:cubicBezTo>
                      <a:pt x="433" y="681"/>
                      <a:pt x="424" y="680"/>
                      <a:pt x="418" y="678"/>
                    </a:cubicBezTo>
                    <a:cubicBezTo>
                      <a:pt x="412" y="676"/>
                      <a:pt x="409" y="675"/>
                      <a:pt x="402" y="670"/>
                    </a:cubicBezTo>
                    <a:cubicBezTo>
                      <a:pt x="395" y="665"/>
                      <a:pt x="383" y="656"/>
                      <a:pt x="374" y="650"/>
                    </a:cubicBezTo>
                    <a:cubicBezTo>
                      <a:pt x="365" y="644"/>
                      <a:pt x="355" y="636"/>
                      <a:pt x="346" y="634"/>
                    </a:cubicBezTo>
                    <a:cubicBezTo>
                      <a:pt x="337" y="632"/>
                      <a:pt x="331" y="636"/>
                      <a:pt x="322" y="637"/>
                    </a:cubicBezTo>
                    <a:cubicBezTo>
                      <a:pt x="313" y="638"/>
                      <a:pt x="300" y="634"/>
                      <a:pt x="292" y="637"/>
                    </a:cubicBezTo>
                    <a:cubicBezTo>
                      <a:pt x="284" y="640"/>
                      <a:pt x="282" y="647"/>
                      <a:pt x="274" y="652"/>
                    </a:cubicBezTo>
                    <a:cubicBezTo>
                      <a:pt x="266" y="657"/>
                      <a:pt x="252" y="667"/>
                      <a:pt x="244" y="667"/>
                    </a:cubicBezTo>
                    <a:cubicBezTo>
                      <a:pt x="236" y="667"/>
                      <a:pt x="239" y="657"/>
                      <a:pt x="226" y="652"/>
                    </a:cubicBezTo>
                    <a:cubicBezTo>
                      <a:pt x="213" y="647"/>
                      <a:pt x="180" y="641"/>
                      <a:pt x="166" y="638"/>
                    </a:cubicBezTo>
                    <a:cubicBezTo>
                      <a:pt x="152" y="635"/>
                      <a:pt x="151" y="633"/>
                      <a:pt x="142" y="634"/>
                    </a:cubicBezTo>
                    <a:cubicBezTo>
                      <a:pt x="133" y="635"/>
                      <a:pt x="125" y="639"/>
                      <a:pt x="114" y="646"/>
                    </a:cubicBezTo>
                    <a:cubicBezTo>
                      <a:pt x="103" y="653"/>
                      <a:pt x="85" y="667"/>
                      <a:pt x="74" y="674"/>
                    </a:cubicBezTo>
                    <a:cubicBezTo>
                      <a:pt x="63" y="681"/>
                      <a:pt x="53" y="690"/>
                      <a:pt x="46" y="686"/>
                    </a:cubicBezTo>
                    <a:cubicBezTo>
                      <a:pt x="39" y="682"/>
                      <a:pt x="41" y="671"/>
                      <a:pt x="34" y="652"/>
                    </a:cubicBezTo>
                    <a:cubicBezTo>
                      <a:pt x="27" y="633"/>
                      <a:pt x="8" y="596"/>
                      <a:pt x="4" y="571"/>
                    </a:cubicBezTo>
                    <a:cubicBezTo>
                      <a:pt x="0" y="546"/>
                      <a:pt x="8" y="523"/>
                      <a:pt x="10" y="499"/>
                    </a:cubicBezTo>
                    <a:cubicBezTo>
                      <a:pt x="12" y="475"/>
                      <a:pt x="10" y="454"/>
                      <a:pt x="16" y="427"/>
                    </a:cubicBezTo>
                    <a:cubicBezTo>
                      <a:pt x="22" y="400"/>
                      <a:pt x="36" y="363"/>
                      <a:pt x="46" y="337"/>
                    </a:cubicBezTo>
                    <a:cubicBezTo>
                      <a:pt x="56" y="311"/>
                      <a:pt x="71" y="289"/>
                      <a:pt x="78" y="270"/>
                    </a:cubicBezTo>
                    <a:cubicBezTo>
                      <a:pt x="85" y="251"/>
                      <a:pt x="85" y="238"/>
                      <a:pt x="86" y="222"/>
                    </a:cubicBezTo>
                    <a:cubicBezTo>
                      <a:pt x="87" y="206"/>
                      <a:pt x="81" y="188"/>
                      <a:pt x="82" y="172"/>
                    </a:cubicBezTo>
                    <a:cubicBezTo>
                      <a:pt x="83" y="156"/>
                      <a:pt x="86" y="143"/>
                      <a:pt x="94" y="127"/>
                    </a:cubicBezTo>
                    <a:cubicBezTo>
                      <a:pt x="102" y="111"/>
                      <a:pt x="123" y="89"/>
                      <a:pt x="130" y="76"/>
                    </a:cubicBezTo>
                    <a:cubicBezTo>
                      <a:pt x="137" y="63"/>
                      <a:pt x="133" y="61"/>
                      <a:pt x="136" y="49"/>
                    </a:cubicBezTo>
                    <a:cubicBezTo>
                      <a:pt x="139" y="37"/>
                      <a:pt x="134" y="12"/>
                      <a:pt x="146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21304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620880" y="5624280"/>
                <a:ext cx="21960" cy="495720"/>
              </a:xfrm>
              <a:custGeom>
                <a:avLst/>
                <a:gdLst/>
                <a:ahLst/>
                <a:rect l="l" t="t" r="r" b="b"/>
                <a:pathLst>
                  <a:path w="16" h="360">
                    <a:moveTo>
                      <a:pt x="0" y="360"/>
                    </a:move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0840" y="5500440"/>
                <a:ext cx="470520" cy="65880"/>
              </a:xfrm>
              <a:prstGeom prst="rect">
                <a:avLst/>
              </a:prstGeom>
              <a:solidFill>
                <a:srgbClr val="cbbd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92800" y="5500440"/>
                <a:ext cx="134640" cy="6588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60120" y="5500440"/>
                <a:ext cx="0" cy="6588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12360" y="5566680"/>
                <a:ext cx="145800" cy="178920"/>
              </a:xfrm>
              <a:custGeom>
                <a:avLst/>
                <a:gdLst/>
                <a:ahLst/>
                <a:rect l="l" t="t" r="r" b="b"/>
                <a:pathLst>
                  <a:path w="104" h="130">
                    <a:moveTo>
                      <a:pt x="56" y="0"/>
                    </a:moveTo>
                    <a:lnTo>
                      <a:pt x="104" y="0"/>
                    </a:lnTo>
                    <a:lnTo>
                      <a:pt x="52" y="78"/>
                    </a:lnTo>
                    <a:lnTo>
                      <a:pt x="0" y="130"/>
                    </a:lnTo>
                    <a:lnTo>
                      <a:pt x="24" y="58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94400" y="5566680"/>
                <a:ext cx="134640" cy="184320"/>
              </a:xfrm>
              <a:custGeom>
                <a:avLst/>
                <a:gdLst/>
                <a:ahLst/>
                <a:rect l="l" t="t" r="r" b="b"/>
                <a:pathLst>
                  <a:path w="96" h="134">
                    <a:moveTo>
                      <a:pt x="48" y="0"/>
                    </a:moveTo>
                    <a:lnTo>
                      <a:pt x="0" y="0"/>
                    </a:lnTo>
                    <a:lnTo>
                      <a:pt x="44" y="82"/>
                    </a:lnTo>
                    <a:lnTo>
                      <a:pt x="96" y="134"/>
                    </a:lnTo>
                    <a:lnTo>
                      <a:pt x="80" y="5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8160" y="5368320"/>
                <a:ext cx="67320" cy="65880"/>
              </a:xfrm>
              <a:prstGeom prst="rect">
                <a:avLst/>
              </a:prstGeom>
              <a:solidFill>
                <a:srgbClr val="333333"/>
              </a:solidFill>
              <a:ln w="324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94400" y="5204160"/>
                <a:ext cx="222480" cy="433800"/>
              </a:xfrm>
              <a:custGeom>
                <a:avLst/>
                <a:gdLst/>
                <a:ahLst/>
                <a:rect l="l" t="t" r="r" b="b"/>
                <a:pathLst>
                  <a:path w="159" h="315">
                    <a:moveTo>
                      <a:pt x="0" y="5"/>
                    </a:moveTo>
                    <a:cubicBezTo>
                      <a:pt x="6" y="0"/>
                      <a:pt x="43" y="16"/>
                      <a:pt x="66" y="29"/>
                    </a:cubicBezTo>
                    <a:cubicBezTo>
                      <a:pt x="89" y="42"/>
                      <a:pt x="124" y="65"/>
                      <a:pt x="138" y="84"/>
                    </a:cubicBezTo>
                    <a:cubicBezTo>
                      <a:pt x="151" y="103"/>
                      <a:pt x="146" y="128"/>
                      <a:pt x="148" y="145"/>
                    </a:cubicBezTo>
                    <a:cubicBezTo>
                      <a:pt x="151" y="163"/>
                      <a:pt x="150" y="169"/>
                      <a:pt x="152" y="185"/>
                    </a:cubicBezTo>
                    <a:cubicBezTo>
                      <a:pt x="154" y="202"/>
                      <a:pt x="159" y="226"/>
                      <a:pt x="159" y="243"/>
                    </a:cubicBezTo>
                    <a:cubicBezTo>
                      <a:pt x="159" y="260"/>
                      <a:pt x="157" y="279"/>
                      <a:pt x="152" y="289"/>
                    </a:cubicBezTo>
                    <a:cubicBezTo>
                      <a:pt x="147" y="299"/>
                      <a:pt x="137" y="302"/>
                      <a:pt x="129" y="305"/>
                    </a:cubicBezTo>
                    <a:cubicBezTo>
                      <a:pt x="121" y="308"/>
                      <a:pt x="112" y="307"/>
                      <a:pt x="105" y="308"/>
                    </a:cubicBezTo>
                    <a:cubicBezTo>
                      <a:pt x="98" y="309"/>
                      <a:pt x="89" y="315"/>
                      <a:pt x="84" y="313"/>
                    </a:cubicBezTo>
                    <a:cubicBezTo>
                      <a:pt x="79" y="311"/>
                      <a:pt x="77" y="306"/>
                      <a:pt x="72" y="297"/>
                    </a:cubicBezTo>
                    <a:cubicBezTo>
                      <a:pt x="67" y="288"/>
                      <a:pt x="55" y="274"/>
                      <a:pt x="52" y="261"/>
                    </a:cubicBezTo>
                    <a:cubicBezTo>
                      <a:pt x="49" y="248"/>
                      <a:pt x="53" y="232"/>
                      <a:pt x="52" y="221"/>
                    </a:cubicBezTo>
                    <a:cubicBezTo>
                      <a:pt x="51" y="210"/>
                      <a:pt x="49" y="203"/>
                      <a:pt x="48" y="193"/>
                    </a:cubicBezTo>
                    <a:cubicBezTo>
                      <a:pt x="47" y="183"/>
                      <a:pt x="50" y="174"/>
                      <a:pt x="48" y="161"/>
                    </a:cubicBezTo>
                    <a:cubicBezTo>
                      <a:pt x="46" y="148"/>
                      <a:pt x="41" y="131"/>
                      <a:pt x="36" y="117"/>
                    </a:cubicBezTo>
                    <a:cubicBezTo>
                      <a:pt x="31" y="103"/>
                      <a:pt x="26" y="96"/>
                      <a:pt x="20" y="77"/>
                    </a:cubicBezTo>
                    <a:cubicBezTo>
                      <a:pt x="14" y="58"/>
                      <a:pt x="4" y="20"/>
                      <a:pt x="0" y="5"/>
                    </a:cubicBezTo>
                    <a:close/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78640" y="5519520"/>
                <a:ext cx="167760" cy="115560"/>
              </a:xfrm>
              <a:custGeom>
                <a:avLst/>
                <a:gdLst/>
                <a:ahLst/>
                <a:rect l="l" t="t" r="r" b="b"/>
                <a:pathLst>
                  <a:path w="120" h="84">
                    <a:moveTo>
                      <a:pt x="116" y="0"/>
                    </a:moveTo>
                    <a:lnTo>
                      <a:pt x="112" y="0"/>
                    </a:lnTo>
                    <a:lnTo>
                      <a:pt x="120" y="60"/>
                    </a:lnTo>
                    <a:lnTo>
                      <a:pt x="24" y="84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36760" y="5188680"/>
                <a:ext cx="237960" cy="443520"/>
              </a:xfrm>
              <a:custGeom>
                <a:avLst/>
                <a:gdLst/>
                <a:ahLst/>
                <a:rect l="l" t="t" r="r" b="b"/>
                <a:pathLst>
                  <a:path w="170" h="322">
                    <a:moveTo>
                      <a:pt x="170" y="8"/>
                    </a:moveTo>
                    <a:cubicBezTo>
                      <a:pt x="162" y="0"/>
                      <a:pt x="118" y="22"/>
                      <a:pt x="93" y="36"/>
                    </a:cubicBezTo>
                    <a:cubicBezTo>
                      <a:pt x="68" y="50"/>
                      <a:pt x="35" y="72"/>
                      <a:pt x="21" y="91"/>
                    </a:cubicBezTo>
                    <a:cubicBezTo>
                      <a:pt x="8" y="110"/>
                      <a:pt x="13" y="135"/>
                      <a:pt x="11" y="152"/>
                    </a:cubicBezTo>
                    <a:cubicBezTo>
                      <a:pt x="8" y="170"/>
                      <a:pt x="9" y="176"/>
                      <a:pt x="7" y="192"/>
                    </a:cubicBezTo>
                    <a:cubicBezTo>
                      <a:pt x="5" y="209"/>
                      <a:pt x="0" y="233"/>
                      <a:pt x="0" y="250"/>
                    </a:cubicBezTo>
                    <a:cubicBezTo>
                      <a:pt x="0" y="267"/>
                      <a:pt x="2" y="286"/>
                      <a:pt x="7" y="296"/>
                    </a:cubicBezTo>
                    <a:cubicBezTo>
                      <a:pt x="12" y="306"/>
                      <a:pt x="22" y="309"/>
                      <a:pt x="30" y="312"/>
                    </a:cubicBezTo>
                    <a:cubicBezTo>
                      <a:pt x="38" y="315"/>
                      <a:pt x="47" y="314"/>
                      <a:pt x="54" y="315"/>
                    </a:cubicBezTo>
                    <a:cubicBezTo>
                      <a:pt x="61" y="316"/>
                      <a:pt x="70" y="322"/>
                      <a:pt x="75" y="320"/>
                    </a:cubicBezTo>
                    <a:cubicBezTo>
                      <a:pt x="80" y="318"/>
                      <a:pt x="82" y="313"/>
                      <a:pt x="87" y="304"/>
                    </a:cubicBezTo>
                    <a:cubicBezTo>
                      <a:pt x="92" y="295"/>
                      <a:pt x="104" y="281"/>
                      <a:pt x="107" y="268"/>
                    </a:cubicBezTo>
                    <a:cubicBezTo>
                      <a:pt x="110" y="255"/>
                      <a:pt x="106" y="239"/>
                      <a:pt x="107" y="228"/>
                    </a:cubicBezTo>
                    <a:cubicBezTo>
                      <a:pt x="108" y="217"/>
                      <a:pt x="110" y="210"/>
                      <a:pt x="111" y="200"/>
                    </a:cubicBezTo>
                    <a:cubicBezTo>
                      <a:pt x="112" y="190"/>
                      <a:pt x="109" y="181"/>
                      <a:pt x="111" y="168"/>
                    </a:cubicBezTo>
                    <a:cubicBezTo>
                      <a:pt x="113" y="155"/>
                      <a:pt x="116" y="139"/>
                      <a:pt x="123" y="124"/>
                    </a:cubicBezTo>
                    <a:cubicBezTo>
                      <a:pt x="130" y="109"/>
                      <a:pt x="146" y="95"/>
                      <a:pt x="154" y="76"/>
                    </a:cubicBezTo>
                    <a:cubicBezTo>
                      <a:pt x="162" y="57"/>
                      <a:pt x="167" y="22"/>
                      <a:pt x="170" y="8"/>
                    </a:cubicBezTo>
                    <a:close/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06160" y="5524920"/>
                <a:ext cx="156600" cy="1321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4" y="0"/>
                    </a:moveTo>
                    <a:lnTo>
                      <a:pt x="4" y="0"/>
                    </a:lnTo>
                    <a:lnTo>
                      <a:pt x="0" y="64"/>
                    </a:lnTo>
                    <a:lnTo>
                      <a:pt x="92" y="96"/>
                    </a:lnTo>
                    <a:lnTo>
                      <a:pt x="108" y="48"/>
                    </a:lnTo>
                    <a:lnTo>
                      <a:pt x="112" y="4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25480" y="5211000"/>
                <a:ext cx="223920" cy="13212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28" y="4"/>
                    </a:moveTo>
                    <a:lnTo>
                      <a:pt x="84" y="32"/>
                    </a:lnTo>
                    <a:lnTo>
                      <a:pt x="96" y="20"/>
                    </a:lnTo>
                    <a:lnTo>
                      <a:pt x="104" y="0"/>
                    </a:lnTo>
                    <a:lnTo>
                      <a:pt x="136" y="4"/>
                    </a:lnTo>
                    <a:lnTo>
                      <a:pt x="144" y="32"/>
                    </a:lnTo>
                    <a:lnTo>
                      <a:pt x="160" y="60"/>
                    </a:lnTo>
                    <a:lnTo>
                      <a:pt x="160" y="84"/>
                    </a:lnTo>
                    <a:lnTo>
                      <a:pt x="128" y="92"/>
                    </a:lnTo>
                    <a:lnTo>
                      <a:pt x="100" y="92"/>
                    </a:lnTo>
                    <a:lnTo>
                      <a:pt x="56" y="96"/>
                    </a:lnTo>
                    <a:lnTo>
                      <a:pt x="12" y="84"/>
                    </a:lnTo>
                    <a:lnTo>
                      <a:pt x="0" y="66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42400" y="5169960"/>
                <a:ext cx="87840" cy="12924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24" y="0"/>
                    </a:moveTo>
                    <a:cubicBezTo>
                      <a:pt x="18" y="11"/>
                      <a:pt x="26" y="11"/>
                      <a:pt x="13" y="11"/>
                    </a:cubicBezTo>
                    <a:lnTo>
                      <a:pt x="0" y="22"/>
                    </a:lnTo>
                    <a:lnTo>
                      <a:pt x="24" y="94"/>
                    </a:lnTo>
                    <a:lnTo>
                      <a:pt x="63" y="54"/>
                    </a:lnTo>
                    <a:lnTo>
                      <a:pt x="17" y="7"/>
                    </a:lnTo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43200" y="5181840"/>
                <a:ext cx="78120" cy="111600"/>
              </a:xfrm>
              <a:custGeom>
                <a:avLst/>
                <a:gdLst/>
                <a:ahLst/>
                <a:rect l="l" t="t" r="r" b="b"/>
                <a:pathLst>
                  <a:path w="56" h="81">
                    <a:moveTo>
                      <a:pt x="25" y="0"/>
                    </a:moveTo>
                    <a:cubicBezTo>
                      <a:pt x="31" y="11"/>
                      <a:pt x="23" y="11"/>
                      <a:pt x="36" y="11"/>
                    </a:cubicBezTo>
                    <a:lnTo>
                      <a:pt x="56" y="9"/>
                    </a:lnTo>
                    <a:lnTo>
                      <a:pt x="40" y="81"/>
                    </a:lnTo>
                    <a:lnTo>
                      <a:pt x="0" y="49"/>
                    </a:lnTo>
                    <a:lnTo>
                      <a:pt x="32" y="7"/>
                    </a:lnTo>
                  </a:path>
                </a:pathLst>
              </a:custGeom>
              <a:solidFill>
                <a:srgbClr val="fefd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340000" y="2781360"/>
            <a:ext cx="1218960" cy="1676520"/>
            <a:chOff x="2340000" y="2781360"/>
            <a:chExt cx="1218960" cy="167652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2340000" y="2781360"/>
              <a:ext cx="1218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968560" y="39643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36640" y="3738600"/>
              <a:ext cx="665280" cy="609840"/>
            </a:xfrm>
            <a:custGeom>
              <a:avLst/>
              <a:gdLst/>
              <a:ahLst/>
              <a:rect l="l" t="t" r="r" b="b"/>
              <a:pathLst>
                <a:path w="468" h="423">
                  <a:moveTo>
                    <a:pt x="79" y="8"/>
                  </a:moveTo>
                  <a:cubicBezTo>
                    <a:pt x="118" y="0"/>
                    <a:pt x="265" y="8"/>
                    <a:pt x="313" y="8"/>
                  </a:cubicBezTo>
                  <a:cubicBezTo>
                    <a:pt x="361" y="8"/>
                    <a:pt x="355" y="5"/>
                    <a:pt x="367" y="8"/>
                  </a:cubicBezTo>
                  <a:cubicBezTo>
                    <a:pt x="379" y="11"/>
                    <a:pt x="377" y="15"/>
                    <a:pt x="385" y="28"/>
                  </a:cubicBezTo>
                  <a:cubicBezTo>
                    <a:pt x="393" y="41"/>
                    <a:pt x="409" y="67"/>
                    <a:pt x="417" y="84"/>
                  </a:cubicBezTo>
                  <a:cubicBezTo>
                    <a:pt x="425" y="101"/>
                    <a:pt x="425" y="113"/>
                    <a:pt x="433" y="132"/>
                  </a:cubicBezTo>
                  <a:cubicBezTo>
                    <a:pt x="441" y="151"/>
                    <a:pt x="458" y="173"/>
                    <a:pt x="463" y="200"/>
                  </a:cubicBezTo>
                  <a:cubicBezTo>
                    <a:pt x="468" y="227"/>
                    <a:pt x="467" y="271"/>
                    <a:pt x="463" y="296"/>
                  </a:cubicBezTo>
                  <a:cubicBezTo>
                    <a:pt x="459" y="321"/>
                    <a:pt x="443" y="330"/>
                    <a:pt x="437" y="348"/>
                  </a:cubicBezTo>
                  <a:cubicBezTo>
                    <a:pt x="431" y="366"/>
                    <a:pt x="431" y="392"/>
                    <a:pt x="429" y="404"/>
                  </a:cubicBezTo>
                  <a:cubicBezTo>
                    <a:pt x="427" y="416"/>
                    <a:pt x="431" y="423"/>
                    <a:pt x="425" y="420"/>
                  </a:cubicBezTo>
                  <a:cubicBezTo>
                    <a:pt x="419" y="417"/>
                    <a:pt x="402" y="396"/>
                    <a:pt x="393" y="388"/>
                  </a:cubicBezTo>
                  <a:cubicBezTo>
                    <a:pt x="384" y="380"/>
                    <a:pt x="382" y="377"/>
                    <a:pt x="369" y="372"/>
                  </a:cubicBezTo>
                  <a:cubicBezTo>
                    <a:pt x="356" y="367"/>
                    <a:pt x="333" y="359"/>
                    <a:pt x="317" y="360"/>
                  </a:cubicBezTo>
                  <a:cubicBezTo>
                    <a:pt x="301" y="361"/>
                    <a:pt x="286" y="372"/>
                    <a:pt x="273" y="380"/>
                  </a:cubicBezTo>
                  <a:cubicBezTo>
                    <a:pt x="260" y="388"/>
                    <a:pt x="245" y="406"/>
                    <a:pt x="237" y="408"/>
                  </a:cubicBezTo>
                  <a:cubicBezTo>
                    <a:pt x="229" y="410"/>
                    <a:pt x="235" y="399"/>
                    <a:pt x="223" y="392"/>
                  </a:cubicBezTo>
                  <a:cubicBezTo>
                    <a:pt x="211" y="385"/>
                    <a:pt x="185" y="372"/>
                    <a:pt x="165" y="368"/>
                  </a:cubicBezTo>
                  <a:cubicBezTo>
                    <a:pt x="145" y="364"/>
                    <a:pt x="120" y="363"/>
                    <a:pt x="105" y="368"/>
                  </a:cubicBezTo>
                  <a:cubicBezTo>
                    <a:pt x="90" y="373"/>
                    <a:pt x="82" y="393"/>
                    <a:pt x="73" y="400"/>
                  </a:cubicBezTo>
                  <a:cubicBezTo>
                    <a:pt x="64" y="407"/>
                    <a:pt x="56" y="413"/>
                    <a:pt x="49" y="412"/>
                  </a:cubicBezTo>
                  <a:cubicBezTo>
                    <a:pt x="42" y="411"/>
                    <a:pt x="37" y="404"/>
                    <a:pt x="31" y="392"/>
                  </a:cubicBezTo>
                  <a:cubicBezTo>
                    <a:pt x="25" y="380"/>
                    <a:pt x="18" y="360"/>
                    <a:pt x="13" y="340"/>
                  </a:cubicBezTo>
                  <a:cubicBezTo>
                    <a:pt x="8" y="320"/>
                    <a:pt x="2" y="293"/>
                    <a:pt x="1" y="272"/>
                  </a:cubicBezTo>
                  <a:cubicBezTo>
                    <a:pt x="0" y="251"/>
                    <a:pt x="0" y="232"/>
                    <a:pt x="5" y="212"/>
                  </a:cubicBezTo>
                  <a:cubicBezTo>
                    <a:pt x="10" y="192"/>
                    <a:pt x="22" y="171"/>
                    <a:pt x="31" y="152"/>
                  </a:cubicBezTo>
                  <a:cubicBezTo>
                    <a:pt x="40" y="133"/>
                    <a:pt x="49" y="124"/>
                    <a:pt x="57" y="100"/>
                  </a:cubicBezTo>
                  <a:cubicBezTo>
                    <a:pt x="65" y="76"/>
                    <a:pt x="75" y="27"/>
                    <a:pt x="7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54160" y="3749760"/>
              <a:ext cx="68400" cy="20808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lnTo>
                    <a:pt x="48" y="0"/>
                  </a:lnTo>
                  <a:lnTo>
                    <a:pt x="4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2680" y="3743640"/>
              <a:ext cx="181080" cy="20772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127" y="133"/>
                  </a:moveTo>
                  <a:lnTo>
                    <a:pt x="128" y="144"/>
                  </a:lnTo>
                  <a:lnTo>
                    <a:pt x="0" y="4"/>
                  </a:lnTo>
                  <a:lnTo>
                    <a:pt x="60" y="0"/>
                  </a:lnTo>
                  <a:lnTo>
                    <a:pt x="127" y="13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9200" y="3738600"/>
              <a:ext cx="147600" cy="21924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52"/>
                  </a:moveTo>
                  <a:lnTo>
                    <a:pt x="8" y="136"/>
                  </a:lnTo>
                  <a:lnTo>
                    <a:pt x="44" y="0"/>
                  </a:lnTo>
                  <a:lnTo>
                    <a:pt x="104" y="8"/>
                  </a:lnTo>
                  <a:lnTo>
                    <a:pt x="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39960" y="3443400"/>
              <a:ext cx="446040" cy="31104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6" y="212"/>
                  </a:moveTo>
                  <a:cubicBezTo>
                    <a:pt x="13" y="215"/>
                    <a:pt x="1" y="209"/>
                    <a:pt x="44" y="208"/>
                  </a:cubicBezTo>
                  <a:cubicBezTo>
                    <a:pt x="87" y="207"/>
                    <a:pt x="221" y="205"/>
                    <a:pt x="264" y="204"/>
                  </a:cubicBezTo>
                  <a:cubicBezTo>
                    <a:pt x="307" y="203"/>
                    <a:pt x="296" y="213"/>
                    <a:pt x="304" y="204"/>
                  </a:cubicBezTo>
                  <a:cubicBezTo>
                    <a:pt x="312" y="195"/>
                    <a:pt x="311" y="171"/>
                    <a:pt x="312" y="152"/>
                  </a:cubicBezTo>
                  <a:cubicBezTo>
                    <a:pt x="313" y="133"/>
                    <a:pt x="313" y="111"/>
                    <a:pt x="308" y="92"/>
                  </a:cubicBezTo>
                  <a:cubicBezTo>
                    <a:pt x="303" y="73"/>
                    <a:pt x="294" y="52"/>
                    <a:pt x="284" y="40"/>
                  </a:cubicBezTo>
                  <a:cubicBezTo>
                    <a:pt x="274" y="28"/>
                    <a:pt x="261" y="26"/>
                    <a:pt x="248" y="20"/>
                  </a:cubicBezTo>
                  <a:cubicBezTo>
                    <a:pt x="235" y="14"/>
                    <a:pt x="219" y="0"/>
                    <a:pt x="204" y="4"/>
                  </a:cubicBezTo>
                  <a:cubicBezTo>
                    <a:pt x="189" y="8"/>
                    <a:pt x="169" y="37"/>
                    <a:pt x="160" y="44"/>
                  </a:cubicBezTo>
                  <a:cubicBezTo>
                    <a:pt x="151" y="51"/>
                    <a:pt x="161" y="50"/>
                    <a:pt x="152" y="44"/>
                  </a:cubicBezTo>
                  <a:cubicBezTo>
                    <a:pt x="143" y="38"/>
                    <a:pt x="120" y="13"/>
                    <a:pt x="108" y="8"/>
                  </a:cubicBezTo>
                  <a:cubicBezTo>
                    <a:pt x="96" y="3"/>
                    <a:pt x="91" y="9"/>
                    <a:pt x="80" y="16"/>
                  </a:cubicBezTo>
                  <a:cubicBezTo>
                    <a:pt x="69" y="23"/>
                    <a:pt x="55" y="37"/>
                    <a:pt x="44" y="48"/>
                  </a:cubicBezTo>
                  <a:cubicBezTo>
                    <a:pt x="33" y="59"/>
                    <a:pt x="22" y="73"/>
                    <a:pt x="16" y="84"/>
                  </a:cubicBezTo>
                  <a:cubicBezTo>
                    <a:pt x="10" y="95"/>
                    <a:pt x="8" y="103"/>
                    <a:pt x="6" y="116"/>
                  </a:cubicBezTo>
                  <a:cubicBezTo>
                    <a:pt x="4" y="129"/>
                    <a:pt x="7" y="151"/>
                    <a:pt x="6" y="164"/>
                  </a:cubicBezTo>
                  <a:cubicBezTo>
                    <a:pt x="5" y="177"/>
                    <a:pt x="0" y="184"/>
                    <a:pt x="0" y="192"/>
                  </a:cubicBezTo>
                  <a:cubicBezTo>
                    <a:pt x="0" y="200"/>
                    <a:pt x="2" y="209"/>
                    <a:pt x="6" y="212"/>
                  </a:cubicBez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90600" y="3440160"/>
              <a:ext cx="281160" cy="460440"/>
            </a:xfrm>
            <a:custGeom>
              <a:avLst/>
              <a:gdLst/>
              <a:ahLst/>
              <a:rect l="l" t="t" r="r" b="b"/>
              <a:pathLst>
                <a:path w="198" h="320">
                  <a:moveTo>
                    <a:pt x="0" y="23"/>
                  </a:moveTo>
                  <a:cubicBezTo>
                    <a:pt x="8" y="16"/>
                    <a:pt x="48" y="0"/>
                    <a:pt x="74" y="7"/>
                  </a:cubicBezTo>
                  <a:cubicBezTo>
                    <a:pt x="100" y="14"/>
                    <a:pt x="139" y="46"/>
                    <a:pt x="154" y="67"/>
                  </a:cubicBezTo>
                  <a:cubicBezTo>
                    <a:pt x="169" y="88"/>
                    <a:pt x="163" y="116"/>
                    <a:pt x="166" y="135"/>
                  </a:cubicBezTo>
                  <a:cubicBezTo>
                    <a:pt x="169" y="154"/>
                    <a:pt x="168" y="161"/>
                    <a:pt x="170" y="179"/>
                  </a:cubicBezTo>
                  <a:cubicBezTo>
                    <a:pt x="172" y="197"/>
                    <a:pt x="174" y="229"/>
                    <a:pt x="178" y="243"/>
                  </a:cubicBezTo>
                  <a:cubicBezTo>
                    <a:pt x="182" y="257"/>
                    <a:pt x="198" y="252"/>
                    <a:pt x="192" y="263"/>
                  </a:cubicBezTo>
                  <a:cubicBezTo>
                    <a:pt x="186" y="274"/>
                    <a:pt x="156" y="302"/>
                    <a:pt x="144" y="311"/>
                  </a:cubicBezTo>
                  <a:cubicBezTo>
                    <a:pt x="132" y="320"/>
                    <a:pt x="126" y="319"/>
                    <a:pt x="118" y="315"/>
                  </a:cubicBezTo>
                  <a:cubicBezTo>
                    <a:pt x="110" y="311"/>
                    <a:pt x="108" y="303"/>
                    <a:pt x="98" y="287"/>
                  </a:cubicBezTo>
                  <a:cubicBezTo>
                    <a:pt x="88" y="271"/>
                    <a:pt x="63" y="236"/>
                    <a:pt x="58" y="219"/>
                  </a:cubicBezTo>
                  <a:cubicBezTo>
                    <a:pt x="53" y="202"/>
                    <a:pt x="65" y="199"/>
                    <a:pt x="66" y="183"/>
                  </a:cubicBezTo>
                  <a:cubicBezTo>
                    <a:pt x="67" y="167"/>
                    <a:pt x="69" y="142"/>
                    <a:pt x="66" y="123"/>
                  </a:cubicBezTo>
                  <a:cubicBezTo>
                    <a:pt x="63" y="104"/>
                    <a:pt x="53" y="85"/>
                    <a:pt x="48" y="71"/>
                  </a:cubicBezTo>
                  <a:cubicBezTo>
                    <a:pt x="43" y="57"/>
                    <a:pt x="42" y="47"/>
                    <a:pt x="34" y="39"/>
                  </a:cubicBezTo>
                  <a:cubicBezTo>
                    <a:pt x="26" y="31"/>
                    <a:pt x="7" y="26"/>
                    <a:pt x="0" y="23"/>
                  </a:cubicBez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35320" y="3738600"/>
              <a:ext cx="142920" cy="166680"/>
            </a:xfrm>
            <a:custGeom>
              <a:avLst/>
              <a:gdLst/>
              <a:ahLst/>
              <a:rect l="l" t="t" r="r" b="b"/>
              <a:pathLst>
                <a:path w="100" h="116">
                  <a:moveTo>
                    <a:pt x="76" y="4"/>
                  </a:moveTo>
                  <a:lnTo>
                    <a:pt x="76" y="0"/>
                  </a:lnTo>
                  <a:lnTo>
                    <a:pt x="100" y="56"/>
                  </a:lnTo>
                  <a:lnTo>
                    <a:pt x="28" y="116"/>
                  </a:lnTo>
                  <a:lnTo>
                    <a:pt x="0" y="8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39800" y="3446640"/>
              <a:ext cx="316080" cy="465120"/>
            </a:xfrm>
            <a:custGeom>
              <a:avLst/>
              <a:gdLst/>
              <a:ahLst/>
              <a:rect l="l" t="t" r="r" b="b"/>
              <a:pathLst>
                <a:path w="222" h="322">
                  <a:moveTo>
                    <a:pt x="221" y="24"/>
                  </a:moveTo>
                  <a:cubicBezTo>
                    <a:pt x="222" y="15"/>
                    <a:pt x="202" y="4"/>
                    <a:pt x="185" y="2"/>
                  </a:cubicBezTo>
                  <a:cubicBezTo>
                    <a:pt x="168" y="0"/>
                    <a:pt x="144" y="0"/>
                    <a:pt x="121" y="10"/>
                  </a:cubicBezTo>
                  <a:cubicBezTo>
                    <a:pt x="98" y="20"/>
                    <a:pt x="61" y="40"/>
                    <a:pt x="47" y="60"/>
                  </a:cubicBezTo>
                  <a:cubicBezTo>
                    <a:pt x="33" y="80"/>
                    <a:pt x="38" y="109"/>
                    <a:pt x="35" y="128"/>
                  </a:cubicBezTo>
                  <a:cubicBezTo>
                    <a:pt x="32" y="147"/>
                    <a:pt x="33" y="154"/>
                    <a:pt x="31" y="172"/>
                  </a:cubicBezTo>
                  <a:cubicBezTo>
                    <a:pt x="29" y="190"/>
                    <a:pt x="27" y="222"/>
                    <a:pt x="23" y="236"/>
                  </a:cubicBezTo>
                  <a:cubicBezTo>
                    <a:pt x="19" y="250"/>
                    <a:pt x="0" y="246"/>
                    <a:pt x="9" y="256"/>
                  </a:cubicBezTo>
                  <a:cubicBezTo>
                    <a:pt x="18" y="266"/>
                    <a:pt x="59" y="288"/>
                    <a:pt x="77" y="298"/>
                  </a:cubicBezTo>
                  <a:cubicBezTo>
                    <a:pt x="95" y="308"/>
                    <a:pt x="109" y="322"/>
                    <a:pt x="117" y="318"/>
                  </a:cubicBezTo>
                  <a:cubicBezTo>
                    <a:pt x="125" y="314"/>
                    <a:pt x="121" y="292"/>
                    <a:pt x="125" y="274"/>
                  </a:cubicBezTo>
                  <a:cubicBezTo>
                    <a:pt x="129" y="256"/>
                    <a:pt x="140" y="228"/>
                    <a:pt x="143" y="212"/>
                  </a:cubicBezTo>
                  <a:cubicBezTo>
                    <a:pt x="146" y="196"/>
                    <a:pt x="145" y="189"/>
                    <a:pt x="145" y="178"/>
                  </a:cubicBezTo>
                  <a:cubicBezTo>
                    <a:pt x="145" y="167"/>
                    <a:pt x="143" y="164"/>
                    <a:pt x="145" y="148"/>
                  </a:cubicBezTo>
                  <a:cubicBezTo>
                    <a:pt x="147" y="132"/>
                    <a:pt x="154" y="97"/>
                    <a:pt x="157" y="84"/>
                  </a:cubicBezTo>
                  <a:cubicBezTo>
                    <a:pt x="160" y="71"/>
                    <a:pt x="161" y="77"/>
                    <a:pt x="165" y="72"/>
                  </a:cubicBezTo>
                  <a:cubicBezTo>
                    <a:pt x="169" y="67"/>
                    <a:pt x="172" y="64"/>
                    <a:pt x="181" y="56"/>
                  </a:cubicBezTo>
                  <a:cubicBezTo>
                    <a:pt x="190" y="48"/>
                    <a:pt x="213" y="31"/>
                    <a:pt x="221" y="24"/>
                  </a:cubicBez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58880" y="3749760"/>
              <a:ext cx="158760" cy="14940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0" y="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100" y="104"/>
                  </a:lnTo>
                  <a:lnTo>
                    <a:pt x="112" y="6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35360" y="3403800"/>
              <a:ext cx="118800" cy="1382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53440" y="3403800"/>
              <a:ext cx="119160" cy="1382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63880" y="3749760"/>
              <a:ext cx="11160" cy="576360"/>
            </a:xfrm>
            <a:custGeom>
              <a:avLst/>
              <a:gdLst/>
              <a:ahLst/>
              <a:rect l="l" t="t" r="r" b="b"/>
              <a:pathLst>
                <a:path w="8" h="400">
                  <a:moveTo>
                    <a:pt x="0" y="0"/>
                  </a:moveTo>
                  <a:lnTo>
                    <a:pt x="8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57400" y="3502080"/>
              <a:ext cx="1440" cy="23040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067280" y="2637000"/>
            <a:ext cx="1294920" cy="1752120"/>
            <a:chOff x="4067280" y="2637000"/>
            <a:chExt cx="1294920" cy="1752120"/>
          </a:xfrm>
        </p:grpSpPr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4067280" y="2637000"/>
              <a:ext cx="12949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735080" y="3873240"/>
              <a:ext cx="1440" cy="3848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82280" y="3637800"/>
              <a:ext cx="706680" cy="637200"/>
            </a:xfrm>
            <a:custGeom>
              <a:avLst/>
              <a:gdLst/>
              <a:ahLst/>
              <a:rect l="l" t="t" r="r" b="b"/>
              <a:pathLst>
                <a:path w="468" h="423">
                  <a:moveTo>
                    <a:pt x="79" y="8"/>
                  </a:moveTo>
                  <a:cubicBezTo>
                    <a:pt x="118" y="0"/>
                    <a:pt x="265" y="8"/>
                    <a:pt x="313" y="8"/>
                  </a:cubicBezTo>
                  <a:cubicBezTo>
                    <a:pt x="361" y="8"/>
                    <a:pt x="355" y="5"/>
                    <a:pt x="367" y="8"/>
                  </a:cubicBezTo>
                  <a:cubicBezTo>
                    <a:pt x="379" y="11"/>
                    <a:pt x="377" y="15"/>
                    <a:pt x="385" y="28"/>
                  </a:cubicBezTo>
                  <a:cubicBezTo>
                    <a:pt x="393" y="41"/>
                    <a:pt x="409" y="67"/>
                    <a:pt x="417" y="84"/>
                  </a:cubicBezTo>
                  <a:cubicBezTo>
                    <a:pt x="425" y="101"/>
                    <a:pt x="425" y="113"/>
                    <a:pt x="433" y="132"/>
                  </a:cubicBezTo>
                  <a:cubicBezTo>
                    <a:pt x="441" y="151"/>
                    <a:pt x="458" y="173"/>
                    <a:pt x="463" y="200"/>
                  </a:cubicBezTo>
                  <a:cubicBezTo>
                    <a:pt x="468" y="227"/>
                    <a:pt x="467" y="271"/>
                    <a:pt x="463" y="296"/>
                  </a:cubicBezTo>
                  <a:cubicBezTo>
                    <a:pt x="459" y="321"/>
                    <a:pt x="443" y="330"/>
                    <a:pt x="437" y="348"/>
                  </a:cubicBezTo>
                  <a:cubicBezTo>
                    <a:pt x="431" y="366"/>
                    <a:pt x="431" y="392"/>
                    <a:pt x="429" y="404"/>
                  </a:cubicBezTo>
                  <a:cubicBezTo>
                    <a:pt x="427" y="416"/>
                    <a:pt x="431" y="423"/>
                    <a:pt x="425" y="420"/>
                  </a:cubicBezTo>
                  <a:cubicBezTo>
                    <a:pt x="419" y="417"/>
                    <a:pt x="402" y="396"/>
                    <a:pt x="393" y="388"/>
                  </a:cubicBezTo>
                  <a:cubicBezTo>
                    <a:pt x="384" y="380"/>
                    <a:pt x="382" y="377"/>
                    <a:pt x="369" y="372"/>
                  </a:cubicBezTo>
                  <a:cubicBezTo>
                    <a:pt x="356" y="367"/>
                    <a:pt x="333" y="359"/>
                    <a:pt x="317" y="360"/>
                  </a:cubicBezTo>
                  <a:cubicBezTo>
                    <a:pt x="301" y="361"/>
                    <a:pt x="286" y="372"/>
                    <a:pt x="273" y="380"/>
                  </a:cubicBezTo>
                  <a:cubicBezTo>
                    <a:pt x="260" y="388"/>
                    <a:pt x="245" y="406"/>
                    <a:pt x="237" y="408"/>
                  </a:cubicBezTo>
                  <a:cubicBezTo>
                    <a:pt x="229" y="410"/>
                    <a:pt x="235" y="399"/>
                    <a:pt x="223" y="392"/>
                  </a:cubicBezTo>
                  <a:cubicBezTo>
                    <a:pt x="211" y="385"/>
                    <a:pt x="185" y="372"/>
                    <a:pt x="165" y="368"/>
                  </a:cubicBezTo>
                  <a:cubicBezTo>
                    <a:pt x="145" y="364"/>
                    <a:pt x="120" y="363"/>
                    <a:pt x="105" y="368"/>
                  </a:cubicBezTo>
                  <a:cubicBezTo>
                    <a:pt x="90" y="373"/>
                    <a:pt x="82" y="393"/>
                    <a:pt x="73" y="400"/>
                  </a:cubicBezTo>
                  <a:cubicBezTo>
                    <a:pt x="64" y="407"/>
                    <a:pt x="56" y="413"/>
                    <a:pt x="49" y="412"/>
                  </a:cubicBezTo>
                  <a:cubicBezTo>
                    <a:pt x="42" y="411"/>
                    <a:pt x="37" y="404"/>
                    <a:pt x="31" y="392"/>
                  </a:cubicBezTo>
                  <a:cubicBezTo>
                    <a:pt x="25" y="380"/>
                    <a:pt x="18" y="360"/>
                    <a:pt x="13" y="340"/>
                  </a:cubicBezTo>
                  <a:cubicBezTo>
                    <a:pt x="8" y="320"/>
                    <a:pt x="2" y="293"/>
                    <a:pt x="1" y="272"/>
                  </a:cubicBezTo>
                  <a:cubicBezTo>
                    <a:pt x="0" y="251"/>
                    <a:pt x="0" y="232"/>
                    <a:pt x="5" y="212"/>
                  </a:cubicBezTo>
                  <a:cubicBezTo>
                    <a:pt x="10" y="192"/>
                    <a:pt x="22" y="171"/>
                    <a:pt x="31" y="152"/>
                  </a:cubicBezTo>
                  <a:cubicBezTo>
                    <a:pt x="40" y="133"/>
                    <a:pt x="49" y="124"/>
                    <a:pt x="57" y="100"/>
                  </a:cubicBezTo>
                  <a:cubicBezTo>
                    <a:pt x="65" y="76"/>
                    <a:pt x="75" y="27"/>
                    <a:pt x="7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000099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19600" y="3649320"/>
              <a:ext cx="72360" cy="21708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lnTo>
                    <a:pt x="48" y="0"/>
                  </a:lnTo>
                  <a:lnTo>
                    <a:pt x="4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6400" y="3642480"/>
              <a:ext cx="192240" cy="21744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127" y="133"/>
                  </a:moveTo>
                  <a:lnTo>
                    <a:pt x="128" y="144"/>
                  </a:lnTo>
                  <a:lnTo>
                    <a:pt x="0" y="4"/>
                  </a:lnTo>
                  <a:lnTo>
                    <a:pt x="60" y="0"/>
                  </a:lnTo>
                  <a:lnTo>
                    <a:pt x="127" y="13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8080" y="3637800"/>
              <a:ext cx="156600" cy="2286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52"/>
                  </a:moveTo>
                  <a:lnTo>
                    <a:pt x="8" y="136"/>
                  </a:lnTo>
                  <a:lnTo>
                    <a:pt x="44" y="0"/>
                  </a:lnTo>
                  <a:lnTo>
                    <a:pt x="104" y="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92080" y="3328920"/>
              <a:ext cx="473760" cy="32508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6" y="212"/>
                  </a:moveTo>
                  <a:cubicBezTo>
                    <a:pt x="13" y="215"/>
                    <a:pt x="1" y="209"/>
                    <a:pt x="44" y="208"/>
                  </a:cubicBezTo>
                  <a:cubicBezTo>
                    <a:pt x="87" y="207"/>
                    <a:pt x="221" y="205"/>
                    <a:pt x="264" y="204"/>
                  </a:cubicBezTo>
                  <a:cubicBezTo>
                    <a:pt x="307" y="203"/>
                    <a:pt x="296" y="213"/>
                    <a:pt x="304" y="204"/>
                  </a:cubicBezTo>
                  <a:cubicBezTo>
                    <a:pt x="312" y="195"/>
                    <a:pt x="311" y="171"/>
                    <a:pt x="312" y="152"/>
                  </a:cubicBezTo>
                  <a:cubicBezTo>
                    <a:pt x="313" y="133"/>
                    <a:pt x="313" y="111"/>
                    <a:pt x="308" y="92"/>
                  </a:cubicBezTo>
                  <a:cubicBezTo>
                    <a:pt x="303" y="73"/>
                    <a:pt x="294" y="52"/>
                    <a:pt x="284" y="40"/>
                  </a:cubicBezTo>
                  <a:cubicBezTo>
                    <a:pt x="274" y="28"/>
                    <a:pt x="261" y="26"/>
                    <a:pt x="248" y="20"/>
                  </a:cubicBezTo>
                  <a:cubicBezTo>
                    <a:pt x="235" y="14"/>
                    <a:pt x="219" y="0"/>
                    <a:pt x="204" y="4"/>
                  </a:cubicBezTo>
                  <a:cubicBezTo>
                    <a:pt x="189" y="8"/>
                    <a:pt x="169" y="37"/>
                    <a:pt x="160" y="44"/>
                  </a:cubicBezTo>
                  <a:cubicBezTo>
                    <a:pt x="151" y="51"/>
                    <a:pt x="161" y="50"/>
                    <a:pt x="152" y="44"/>
                  </a:cubicBezTo>
                  <a:cubicBezTo>
                    <a:pt x="143" y="38"/>
                    <a:pt x="120" y="13"/>
                    <a:pt x="108" y="8"/>
                  </a:cubicBezTo>
                  <a:cubicBezTo>
                    <a:pt x="96" y="3"/>
                    <a:pt x="91" y="9"/>
                    <a:pt x="80" y="16"/>
                  </a:cubicBezTo>
                  <a:cubicBezTo>
                    <a:pt x="69" y="23"/>
                    <a:pt x="55" y="37"/>
                    <a:pt x="44" y="48"/>
                  </a:cubicBezTo>
                  <a:cubicBezTo>
                    <a:pt x="33" y="59"/>
                    <a:pt x="22" y="73"/>
                    <a:pt x="16" y="84"/>
                  </a:cubicBezTo>
                  <a:cubicBezTo>
                    <a:pt x="10" y="95"/>
                    <a:pt x="8" y="103"/>
                    <a:pt x="6" y="116"/>
                  </a:cubicBezTo>
                  <a:cubicBezTo>
                    <a:pt x="4" y="129"/>
                    <a:pt x="7" y="151"/>
                    <a:pt x="6" y="164"/>
                  </a:cubicBezTo>
                  <a:cubicBezTo>
                    <a:pt x="5" y="177"/>
                    <a:pt x="0" y="184"/>
                    <a:pt x="0" y="192"/>
                  </a:cubicBezTo>
                  <a:cubicBezTo>
                    <a:pt x="0" y="200"/>
                    <a:pt x="2" y="209"/>
                    <a:pt x="6" y="212"/>
                  </a:cubicBez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64680" y="3325680"/>
              <a:ext cx="298440" cy="481320"/>
            </a:xfrm>
            <a:custGeom>
              <a:avLst/>
              <a:gdLst/>
              <a:ahLst/>
              <a:rect l="l" t="t" r="r" b="b"/>
              <a:pathLst>
                <a:path w="198" h="320">
                  <a:moveTo>
                    <a:pt x="0" y="23"/>
                  </a:moveTo>
                  <a:cubicBezTo>
                    <a:pt x="8" y="16"/>
                    <a:pt x="48" y="0"/>
                    <a:pt x="74" y="7"/>
                  </a:cubicBezTo>
                  <a:cubicBezTo>
                    <a:pt x="100" y="14"/>
                    <a:pt x="139" y="46"/>
                    <a:pt x="154" y="67"/>
                  </a:cubicBezTo>
                  <a:cubicBezTo>
                    <a:pt x="169" y="88"/>
                    <a:pt x="163" y="116"/>
                    <a:pt x="166" y="135"/>
                  </a:cubicBezTo>
                  <a:cubicBezTo>
                    <a:pt x="169" y="154"/>
                    <a:pt x="168" y="161"/>
                    <a:pt x="170" y="179"/>
                  </a:cubicBezTo>
                  <a:cubicBezTo>
                    <a:pt x="172" y="197"/>
                    <a:pt x="174" y="229"/>
                    <a:pt x="178" y="243"/>
                  </a:cubicBezTo>
                  <a:cubicBezTo>
                    <a:pt x="182" y="257"/>
                    <a:pt x="198" y="252"/>
                    <a:pt x="192" y="263"/>
                  </a:cubicBezTo>
                  <a:cubicBezTo>
                    <a:pt x="186" y="274"/>
                    <a:pt x="156" y="302"/>
                    <a:pt x="144" y="311"/>
                  </a:cubicBezTo>
                  <a:cubicBezTo>
                    <a:pt x="132" y="320"/>
                    <a:pt x="126" y="319"/>
                    <a:pt x="118" y="315"/>
                  </a:cubicBezTo>
                  <a:cubicBezTo>
                    <a:pt x="110" y="311"/>
                    <a:pt x="108" y="303"/>
                    <a:pt x="98" y="287"/>
                  </a:cubicBezTo>
                  <a:cubicBezTo>
                    <a:pt x="88" y="271"/>
                    <a:pt x="63" y="236"/>
                    <a:pt x="58" y="219"/>
                  </a:cubicBezTo>
                  <a:cubicBezTo>
                    <a:pt x="53" y="202"/>
                    <a:pt x="65" y="199"/>
                    <a:pt x="66" y="183"/>
                  </a:cubicBezTo>
                  <a:cubicBezTo>
                    <a:pt x="67" y="167"/>
                    <a:pt x="69" y="142"/>
                    <a:pt x="66" y="123"/>
                  </a:cubicBezTo>
                  <a:cubicBezTo>
                    <a:pt x="63" y="104"/>
                    <a:pt x="53" y="85"/>
                    <a:pt x="48" y="71"/>
                  </a:cubicBezTo>
                  <a:cubicBezTo>
                    <a:pt x="43" y="57"/>
                    <a:pt x="42" y="47"/>
                    <a:pt x="34" y="39"/>
                  </a:cubicBezTo>
                  <a:cubicBezTo>
                    <a:pt x="26" y="31"/>
                    <a:pt x="7" y="26"/>
                    <a:pt x="0" y="23"/>
                  </a:cubicBez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8400" y="3637800"/>
              <a:ext cx="151560" cy="174240"/>
            </a:xfrm>
            <a:custGeom>
              <a:avLst/>
              <a:gdLst/>
              <a:ahLst/>
              <a:rect l="l" t="t" r="r" b="b"/>
              <a:pathLst>
                <a:path w="100" h="116">
                  <a:moveTo>
                    <a:pt x="76" y="4"/>
                  </a:moveTo>
                  <a:lnTo>
                    <a:pt x="76" y="0"/>
                  </a:lnTo>
                  <a:lnTo>
                    <a:pt x="100" y="56"/>
                  </a:lnTo>
                  <a:lnTo>
                    <a:pt x="28" y="116"/>
                  </a:lnTo>
                  <a:lnTo>
                    <a:pt x="0" y="8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79320" y="3332160"/>
              <a:ext cx="335520" cy="486000"/>
            </a:xfrm>
            <a:custGeom>
              <a:avLst/>
              <a:gdLst/>
              <a:ahLst/>
              <a:rect l="l" t="t" r="r" b="b"/>
              <a:pathLst>
                <a:path w="222" h="322">
                  <a:moveTo>
                    <a:pt x="221" y="24"/>
                  </a:moveTo>
                  <a:cubicBezTo>
                    <a:pt x="222" y="15"/>
                    <a:pt x="202" y="4"/>
                    <a:pt x="185" y="2"/>
                  </a:cubicBezTo>
                  <a:cubicBezTo>
                    <a:pt x="168" y="0"/>
                    <a:pt x="144" y="0"/>
                    <a:pt x="121" y="10"/>
                  </a:cubicBezTo>
                  <a:cubicBezTo>
                    <a:pt x="98" y="20"/>
                    <a:pt x="61" y="40"/>
                    <a:pt x="47" y="60"/>
                  </a:cubicBezTo>
                  <a:cubicBezTo>
                    <a:pt x="33" y="80"/>
                    <a:pt x="38" y="109"/>
                    <a:pt x="35" y="128"/>
                  </a:cubicBezTo>
                  <a:cubicBezTo>
                    <a:pt x="32" y="147"/>
                    <a:pt x="33" y="154"/>
                    <a:pt x="31" y="172"/>
                  </a:cubicBezTo>
                  <a:cubicBezTo>
                    <a:pt x="29" y="190"/>
                    <a:pt x="27" y="222"/>
                    <a:pt x="23" y="236"/>
                  </a:cubicBezTo>
                  <a:cubicBezTo>
                    <a:pt x="19" y="250"/>
                    <a:pt x="0" y="246"/>
                    <a:pt x="9" y="256"/>
                  </a:cubicBezTo>
                  <a:cubicBezTo>
                    <a:pt x="18" y="266"/>
                    <a:pt x="59" y="288"/>
                    <a:pt x="77" y="298"/>
                  </a:cubicBezTo>
                  <a:cubicBezTo>
                    <a:pt x="95" y="308"/>
                    <a:pt x="109" y="322"/>
                    <a:pt x="117" y="318"/>
                  </a:cubicBezTo>
                  <a:cubicBezTo>
                    <a:pt x="125" y="314"/>
                    <a:pt x="121" y="292"/>
                    <a:pt x="125" y="274"/>
                  </a:cubicBezTo>
                  <a:cubicBezTo>
                    <a:pt x="129" y="256"/>
                    <a:pt x="140" y="228"/>
                    <a:pt x="143" y="212"/>
                  </a:cubicBezTo>
                  <a:cubicBezTo>
                    <a:pt x="146" y="196"/>
                    <a:pt x="145" y="189"/>
                    <a:pt x="145" y="178"/>
                  </a:cubicBezTo>
                  <a:cubicBezTo>
                    <a:pt x="145" y="167"/>
                    <a:pt x="143" y="164"/>
                    <a:pt x="145" y="148"/>
                  </a:cubicBezTo>
                  <a:cubicBezTo>
                    <a:pt x="147" y="132"/>
                    <a:pt x="154" y="97"/>
                    <a:pt x="157" y="84"/>
                  </a:cubicBezTo>
                  <a:cubicBezTo>
                    <a:pt x="160" y="71"/>
                    <a:pt x="161" y="77"/>
                    <a:pt x="165" y="72"/>
                  </a:cubicBezTo>
                  <a:cubicBezTo>
                    <a:pt x="169" y="67"/>
                    <a:pt x="172" y="64"/>
                    <a:pt x="181" y="56"/>
                  </a:cubicBezTo>
                  <a:cubicBezTo>
                    <a:pt x="190" y="48"/>
                    <a:pt x="213" y="31"/>
                    <a:pt x="221" y="24"/>
                  </a:cubicBez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99840" y="3649320"/>
              <a:ext cx="168480" cy="15552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0" y="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100" y="104"/>
                  </a:lnTo>
                  <a:lnTo>
                    <a:pt x="112" y="6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93600" y="3287160"/>
              <a:ext cx="126000" cy="1443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18880" y="3287160"/>
              <a:ext cx="126360" cy="1443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30040" y="3649320"/>
              <a:ext cx="11520" cy="601920"/>
            </a:xfrm>
            <a:custGeom>
              <a:avLst/>
              <a:gdLst/>
              <a:ahLst/>
              <a:rect l="l" t="t" r="r" b="b"/>
              <a:pathLst>
                <a:path w="8" h="400">
                  <a:moveTo>
                    <a:pt x="0" y="0"/>
                  </a:moveTo>
                  <a:lnTo>
                    <a:pt x="8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3200" y="3390480"/>
              <a:ext cx="1440" cy="24048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1451160" cy="1676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137440" y="5335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ulim"/>
                <a:ea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39672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87640" y="1612440"/>
            <a:ext cx="4859280" cy="1077840"/>
            <a:chOff x="2987640" y="1612440"/>
            <a:chExt cx="4859280" cy="1077840"/>
          </a:xfrm>
        </p:grpSpPr>
        <p:sp>
          <p:nvSpPr>
            <p:cNvPr id="312" name=""/>
            <p:cNvSpPr/>
            <p:nvPr/>
          </p:nvSpPr>
          <p:spPr>
            <a:xfrm rot="16200000">
              <a:off x="5208840" y="52200"/>
              <a:ext cx="416880" cy="4859280"/>
            </a:xfrm>
            <a:custGeom>
              <a:avLst/>
              <a:gdLst>
                <a:gd name="textAreaLeft" fmla="*/ 0 w 416880"/>
                <a:gd name="textAreaRight" fmla="*/ 150480 w 416880"/>
                <a:gd name="textAreaTop" fmla="*/ 126720 h 4859280"/>
                <a:gd name="textAreaBottom" fmla="*/ 4732560 h 48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5282280" y="17226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ulim"/>
                  <a:ea typeface="Arial"/>
                </a:rPr>
                <a:t>3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219640" y="3213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037360" y="189000"/>
                <a:ext cx="405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rot="14440200">
            <a:off x="7380720" y="4002480"/>
            <a:ext cx="1373400" cy="799920"/>
          </a:xfrm>
          <a:custGeom>
            <a:avLst/>
            <a:gdLst>
              <a:gd name="textAreaLeft" fmla="*/ 240120 w 1373400"/>
              <a:gd name="textAreaRight" fmla="*/ 995760 w 1373400"/>
              <a:gd name="textAreaTop" fmla="*/ 106920 h 799920"/>
              <a:gd name="textAreaBottom" fmla="*/ 69300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5516640"/>
            <a:ext cx="459000" cy="458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87080" y="50846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lim"/>
              </a:rPr>
              <a:t>в</a:t>
            </a:r>
            <a:r>
              <a:rPr b="0" lang="ru-RU" sz="4400" spc="-1" strike="noStrike">
                <a:solidFill>
                  <a:srgbClr val="ff0000"/>
                </a:solidFill>
                <a:latin typeface="Gulim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227640" y="5157720"/>
                <a:ext cx="405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65760" y="52484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ulim"/>
              </a:rPr>
              <a:t>р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0" y="4548960"/>
            <a:ext cx="1143000" cy="1785240"/>
            <a:chOff x="4572000" y="4548960"/>
            <a:chExt cx="1143000" cy="1785240"/>
          </a:xfrm>
        </p:grpSpPr>
        <p:pic>
          <p:nvPicPr>
            <p:cNvPr id="328" name="" descr=""/>
            <p:cNvPicPr/>
            <p:nvPr/>
          </p:nvPicPr>
          <p:blipFill>
            <a:blip r:embed="rId6"/>
            <a:stretch/>
          </p:blipFill>
          <p:spPr>
            <a:xfrm>
              <a:off x="4572000" y="4581360"/>
              <a:ext cx="11430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755960" y="5644440"/>
              <a:ext cx="797040" cy="37188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7560" y="5597280"/>
              <a:ext cx="408240" cy="5256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158440" y="4548960"/>
              <a:ext cx="391680" cy="347760"/>
              <a:chOff x="5158440" y="4548960"/>
              <a:chExt cx="391680" cy="347760"/>
            </a:xfrm>
          </p:grpSpPr>
          <p:sp>
            <p:nvSpPr>
              <p:cNvPr id="332" name=""/>
              <p:cNvSpPr/>
              <p:nvPr/>
            </p:nvSpPr>
            <p:spPr>
              <a:xfrm rot="720600">
                <a:off x="5184000" y="4581000"/>
                <a:ext cx="340200" cy="2833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20600">
                <a:off x="5325480" y="4687560"/>
                <a:ext cx="56520" cy="705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737960" y="4554000"/>
              <a:ext cx="348840" cy="408960"/>
              <a:chOff x="4737960" y="4554000"/>
              <a:chExt cx="348840" cy="408960"/>
            </a:xfrm>
          </p:grpSpPr>
          <p:sp>
            <p:nvSpPr>
              <p:cNvPr id="335" name=""/>
              <p:cNvSpPr/>
              <p:nvPr/>
            </p:nvSpPr>
            <p:spPr>
              <a:xfrm rot="17028000">
                <a:off x="4735080" y="4622400"/>
                <a:ext cx="354240" cy="2721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028000">
                <a:off x="4882320" y="4724280"/>
                <a:ext cx="58680" cy="680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BA8-655E-4B76-AFE2-600C310D93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Проверь себя!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867200" y="2343240"/>
                <a:ext cx="2714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1332000" y="3213000"/>
            <a:ext cx="1218960" cy="1676520"/>
            <a:chOff x="1332000" y="3213000"/>
            <a:chExt cx="1218960" cy="167652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1332000" y="3213000"/>
              <a:ext cx="1218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960560" y="439596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28640" y="4170240"/>
              <a:ext cx="665280" cy="609840"/>
            </a:xfrm>
            <a:custGeom>
              <a:avLst/>
              <a:gdLst/>
              <a:ahLst/>
              <a:rect l="l" t="t" r="r" b="b"/>
              <a:pathLst>
                <a:path w="468" h="423">
                  <a:moveTo>
                    <a:pt x="79" y="8"/>
                  </a:moveTo>
                  <a:cubicBezTo>
                    <a:pt x="118" y="0"/>
                    <a:pt x="265" y="8"/>
                    <a:pt x="313" y="8"/>
                  </a:cubicBezTo>
                  <a:cubicBezTo>
                    <a:pt x="361" y="8"/>
                    <a:pt x="355" y="5"/>
                    <a:pt x="367" y="8"/>
                  </a:cubicBezTo>
                  <a:cubicBezTo>
                    <a:pt x="379" y="11"/>
                    <a:pt x="377" y="15"/>
                    <a:pt x="385" y="28"/>
                  </a:cubicBezTo>
                  <a:cubicBezTo>
                    <a:pt x="393" y="41"/>
                    <a:pt x="409" y="67"/>
                    <a:pt x="417" y="84"/>
                  </a:cubicBezTo>
                  <a:cubicBezTo>
                    <a:pt x="425" y="101"/>
                    <a:pt x="425" y="113"/>
                    <a:pt x="433" y="132"/>
                  </a:cubicBezTo>
                  <a:cubicBezTo>
                    <a:pt x="441" y="151"/>
                    <a:pt x="458" y="173"/>
                    <a:pt x="463" y="200"/>
                  </a:cubicBezTo>
                  <a:cubicBezTo>
                    <a:pt x="468" y="227"/>
                    <a:pt x="467" y="271"/>
                    <a:pt x="463" y="296"/>
                  </a:cubicBezTo>
                  <a:cubicBezTo>
                    <a:pt x="459" y="321"/>
                    <a:pt x="443" y="330"/>
                    <a:pt x="437" y="348"/>
                  </a:cubicBezTo>
                  <a:cubicBezTo>
                    <a:pt x="431" y="366"/>
                    <a:pt x="431" y="392"/>
                    <a:pt x="429" y="404"/>
                  </a:cubicBezTo>
                  <a:cubicBezTo>
                    <a:pt x="427" y="416"/>
                    <a:pt x="431" y="423"/>
                    <a:pt x="425" y="420"/>
                  </a:cubicBezTo>
                  <a:cubicBezTo>
                    <a:pt x="419" y="417"/>
                    <a:pt x="402" y="396"/>
                    <a:pt x="393" y="388"/>
                  </a:cubicBezTo>
                  <a:cubicBezTo>
                    <a:pt x="384" y="380"/>
                    <a:pt x="382" y="377"/>
                    <a:pt x="369" y="372"/>
                  </a:cubicBezTo>
                  <a:cubicBezTo>
                    <a:pt x="356" y="367"/>
                    <a:pt x="333" y="359"/>
                    <a:pt x="317" y="360"/>
                  </a:cubicBezTo>
                  <a:cubicBezTo>
                    <a:pt x="301" y="361"/>
                    <a:pt x="286" y="372"/>
                    <a:pt x="273" y="380"/>
                  </a:cubicBezTo>
                  <a:cubicBezTo>
                    <a:pt x="260" y="388"/>
                    <a:pt x="245" y="406"/>
                    <a:pt x="237" y="408"/>
                  </a:cubicBezTo>
                  <a:cubicBezTo>
                    <a:pt x="229" y="410"/>
                    <a:pt x="235" y="399"/>
                    <a:pt x="223" y="392"/>
                  </a:cubicBezTo>
                  <a:cubicBezTo>
                    <a:pt x="211" y="385"/>
                    <a:pt x="185" y="372"/>
                    <a:pt x="165" y="368"/>
                  </a:cubicBezTo>
                  <a:cubicBezTo>
                    <a:pt x="145" y="364"/>
                    <a:pt x="120" y="363"/>
                    <a:pt x="105" y="368"/>
                  </a:cubicBezTo>
                  <a:cubicBezTo>
                    <a:pt x="90" y="373"/>
                    <a:pt x="82" y="393"/>
                    <a:pt x="73" y="400"/>
                  </a:cubicBezTo>
                  <a:cubicBezTo>
                    <a:pt x="64" y="407"/>
                    <a:pt x="56" y="413"/>
                    <a:pt x="49" y="412"/>
                  </a:cubicBezTo>
                  <a:cubicBezTo>
                    <a:pt x="42" y="411"/>
                    <a:pt x="37" y="404"/>
                    <a:pt x="31" y="392"/>
                  </a:cubicBezTo>
                  <a:cubicBezTo>
                    <a:pt x="25" y="380"/>
                    <a:pt x="18" y="360"/>
                    <a:pt x="13" y="340"/>
                  </a:cubicBezTo>
                  <a:cubicBezTo>
                    <a:pt x="8" y="320"/>
                    <a:pt x="2" y="293"/>
                    <a:pt x="1" y="272"/>
                  </a:cubicBezTo>
                  <a:cubicBezTo>
                    <a:pt x="0" y="251"/>
                    <a:pt x="0" y="232"/>
                    <a:pt x="5" y="212"/>
                  </a:cubicBezTo>
                  <a:cubicBezTo>
                    <a:pt x="10" y="192"/>
                    <a:pt x="22" y="171"/>
                    <a:pt x="31" y="152"/>
                  </a:cubicBezTo>
                  <a:cubicBezTo>
                    <a:pt x="40" y="133"/>
                    <a:pt x="49" y="124"/>
                    <a:pt x="57" y="100"/>
                  </a:cubicBezTo>
                  <a:cubicBezTo>
                    <a:pt x="65" y="76"/>
                    <a:pt x="75" y="27"/>
                    <a:pt x="7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46160" y="4181400"/>
              <a:ext cx="68400" cy="20808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lnTo>
                    <a:pt x="48" y="0"/>
                  </a:lnTo>
                  <a:lnTo>
                    <a:pt x="4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74680" y="4175280"/>
              <a:ext cx="181080" cy="20772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127" y="133"/>
                  </a:moveTo>
                  <a:lnTo>
                    <a:pt x="128" y="144"/>
                  </a:lnTo>
                  <a:lnTo>
                    <a:pt x="0" y="4"/>
                  </a:lnTo>
                  <a:lnTo>
                    <a:pt x="60" y="0"/>
                  </a:lnTo>
                  <a:lnTo>
                    <a:pt x="127" y="13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1200" y="4170240"/>
              <a:ext cx="147600" cy="21924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52"/>
                  </a:moveTo>
                  <a:lnTo>
                    <a:pt x="8" y="136"/>
                  </a:lnTo>
                  <a:lnTo>
                    <a:pt x="44" y="0"/>
                  </a:lnTo>
                  <a:lnTo>
                    <a:pt x="104" y="8"/>
                  </a:lnTo>
                  <a:lnTo>
                    <a:pt x="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31960" y="3875040"/>
              <a:ext cx="446040" cy="31104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6" y="212"/>
                  </a:moveTo>
                  <a:cubicBezTo>
                    <a:pt x="13" y="215"/>
                    <a:pt x="1" y="209"/>
                    <a:pt x="44" y="208"/>
                  </a:cubicBezTo>
                  <a:cubicBezTo>
                    <a:pt x="87" y="207"/>
                    <a:pt x="221" y="205"/>
                    <a:pt x="264" y="204"/>
                  </a:cubicBezTo>
                  <a:cubicBezTo>
                    <a:pt x="307" y="203"/>
                    <a:pt x="296" y="213"/>
                    <a:pt x="304" y="204"/>
                  </a:cubicBezTo>
                  <a:cubicBezTo>
                    <a:pt x="312" y="195"/>
                    <a:pt x="311" y="171"/>
                    <a:pt x="312" y="152"/>
                  </a:cubicBezTo>
                  <a:cubicBezTo>
                    <a:pt x="313" y="133"/>
                    <a:pt x="313" y="111"/>
                    <a:pt x="308" y="92"/>
                  </a:cubicBezTo>
                  <a:cubicBezTo>
                    <a:pt x="303" y="73"/>
                    <a:pt x="294" y="52"/>
                    <a:pt x="284" y="40"/>
                  </a:cubicBezTo>
                  <a:cubicBezTo>
                    <a:pt x="274" y="28"/>
                    <a:pt x="261" y="26"/>
                    <a:pt x="248" y="20"/>
                  </a:cubicBezTo>
                  <a:cubicBezTo>
                    <a:pt x="235" y="14"/>
                    <a:pt x="219" y="0"/>
                    <a:pt x="204" y="4"/>
                  </a:cubicBezTo>
                  <a:cubicBezTo>
                    <a:pt x="189" y="8"/>
                    <a:pt x="169" y="37"/>
                    <a:pt x="160" y="44"/>
                  </a:cubicBezTo>
                  <a:cubicBezTo>
                    <a:pt x="151" y="51"/>
                    <a:pt x="161" y="50"/>
                    <a:pt x="152" y="44"/>
                  </a:cubicBezTo>
                  <a:cubicBezTo>
                    <a:pt x="143" y="38"/>
                    <a:pt x="120" y="13"/>
                    <a:pt x="108" y="8"/>
                  </a:cubicBezTo>
                  <a:cubicBezTo>
                    <a:pt x="96" y="3"/>
                    <a:pt x="91" y="9"/>
                    <a:pt x="80" y="16"/>
                  </a:cubicBezTo>
                  <a:cubicBezTo>
                    <a:pt x="69" y="23"/>
                    <a:pt x="55" y="37"/>
                    <a:pt x="44" y="48"/>
                  </a:cubicBezTo>
                  <a:cubicBezTo>
                    <a:pt x="33" y="59"/>
                    <a:pt x="22" y="73"/>
                    <a:pt x="16" y="84"/>
                  </a:cubicBezTo>
                  <a:cubicBezTo>
                    <a:pt x="10" y="95"/>
                    <a:pt x="8" y="103"/>
                    <a:pt x="6" y="116"/>
                  </a:cubicBezTo>
                  <a:cubicBezTo>
                    <a:pt x="4" y="129"/>
                    <a:pt x="7" y="151"/>
                    <a:pt x="6" y="164"/>
                  </a:cubicBezTo>
                  <a:cubicBezTo>
                    <a:pt x="5" y="177"/>
                    <a:pt x="0" y="184"/>
                    <a:pt x="0" y="192"/>
                  </a:cubicBezTo>
                  <a:cubicBezTo>
                    <a:pt x="0" y="200"/>
                    <a:pt x="2" y="209"/>
                    <a:pt x="6" y="212"/>
                  </a:cubicBez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82600" y="3871800"/>
              <a:ext cx="281160" cy="460440"/>
            </a:xfrm>
            <a:custGeom>
              <a:avLst/>
              <a:gdLst/>
              <a:ahLst/>
              <a:rect l="l" t="t" r="r" b="b"/>
              <a:pathLst>
                <a:path w="198" h="320">
                  <a:moveTo>
                    <a:pt x="0" y="23"/>
                  </a:moveTo>
                  <a:cubicBezTo>
                    <a:pt x="8" y="16"/>
                    <a:pt x="48" y="0"/>
                    <a:pt x="74" y="7"/>
                  </a:cubicBezTo>
                  <a:cubicBezTo>
                    <a:pt x="100" y="14"/>
                    <a:pt x="139" y="46"/>
                    <a:pt x="154" y="67"/>
                  </a:cubicBezTo>
                  <a:cubicBezTo>
                    <a:pt x="169" y="88"/>
                    <a:pt x="163" y="116"/>
                    <a:pt x="166" y="135"/>
                  </a:cubicBezTo>
                  <a:cubicBezTo>
                    <a:pt x="169" y="154"/>
                    <a:pt x="168" y="161"/>
                    <a:pt x="170" y="179"/>
                  </a:cubicBezTo>
                  <a:cubicBezTo>
                    <a:pt x="172" y="197"/>
                    <a:pt x="174" y="229"/>
                    <a:pt x="178" y="243"/>
                  </a:cubicBezTo>
                  <a:cubicBezTo>
                    <a:pt x="182" y="257"/>
                    <a:pt x="198" y="252"/>
                    <a:pt x="192" y="263"/>
                  </a:cubicBezTo>
                  <a:cubicBezTo>
                    <a:pt x="186" y="274"/>
                    <a:pt x="156" y="302"/>
                    <a:pt x="144" y="311"/>
                  </a:cubicBezTo>
                  <a:cubicBezTo>
                    <a:pt x="132" y="320"/>
                    <a:pt x="126" y="319"/>
                    <a:pt x="118" y="315"/>
                  </a:cubicBezTo>
                  <a:cubicBezTo>
                    <a:pt x="110" y="311"/>
                    <a:pt x="108" y="303"/>
                    <a:pt x="98" y="287"/>
                  </a:cubicBezTo>
                  <a:cubicBezTo>
                    <a:pt x="88" y="271"/>
                    <a:pt x="63" y="236"/>
                    <a:pt x="58" y="219"/>
                  </a:cubicBezTo>
                  <a:cubicBezTo>
                    <a:pt x="53" y="202"/>
                    <a:pt x="65" y="199"/>
                    <a:pt x="66" y="183"/>
                  </a:cubicBezTo>
                  <a:cubicBezTo>
                    <a:pt x="67" y="167"/>
                    <a:pt x="69" y="142"/>
                    <a:pt x="66" y="123"/>
                  </a:cubicBezTo>
                  <a:cubicBezTo>
                    <a:pt x="63" y="104"/>
                    <a:pt x="53" y="85"/>
                    <a:pt x="48" y="71"/>
                  </a:cubicBezTo>
                  <a:cubicBezTo>
                    <a:pt x="43" y="57"/>
                    <a:pt x="42" y="47"/>
                    <a:pt x="34" y="39"/>
                  </a:cubicBezTo>
                  <a:cubicBezTo>
                    <a:pt x="26" y="31"/>
                    <a:pt x="7" y="26"/>
                    <a:pt x="0" y="23"/>
                  </a:cubicBez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27320" y="4170240"/>
              <a:ext cx="142920" cy="166680"/>
            </a:xfrm>
            <a:custGeom>
              <a:avLst/>
              <a:gdLst/>
              <a:ahLst/>
              <a:rect l="l" t="t" r="r" b="b"/>
              <a:pathLst>
                <a:path w="100" h="116">
                  <a:moveTo>
                    <a:pt x="76" y="4"/>
                  </a:moveTo>
                  <a:lnTo>
                    <a:pt x="76" y="0"/>
                  </a:lnTo>
                  <a:lnTo>
                    <a:pt x="100" y="56"/>
                  </a:lnTo>
                  <a:lnTo>
                    <a:pt x="28" y="116"/>
                  </a:lnTo>
                  <a:lnTo>
                    <a:pt x="0" y="8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31800" y="3878280"/>
              <a:ext cx="316080" cy="465120"/>
            </a:xfrm>
            <a:custGeom>
              <a:avLst/>
              <a:gdLst/>
              <a:ahLst/>
              <a:rect l="l" t="t" r="r" b="b"/>
              <a:pathLst>
                <a:path w="222" h="322">
                  <a:moveTo>
                    <a:pt x="221" y="24"/>
                  </a:moveTo>
                  <a:cubicBezTo>
                    <a:pt x="222" y="15"/>
                    <a:pt x="202" y="4"/>
                    <a:pt x="185" y="2"/>
                  </a:cubicBezTo>
                  <a:cubicBezTo>
                    <a:pt x="168" y="0"/>
                    <a:pt x="144" y="0"/>
                    <a:pt x="121" y="10"/>
                  </a:cubicBezTo>
                  <a:cubicBezTo>
                    <a:pt x="98" y="20"/>
                    <a:pt x="61" y="40"/>
                    <a:pt x="47" y="60"/>
                  </a:cubicBezTo>
                  <a:cubicBezTo>
                    <a:pt x="33" y="80"/>
                    <a:pt x="38" y="109"/>
                    <a:pt x="35" y="128"/>
                  </a:cubicBezTo>
                  <a:cubicBezTo>
                    <a:pt x="32" y="147"/>
                    <a:pt x="33" y="154"/>
                    <a:pt x="31" y="172"/>
                  </a:cubicBezTo>
                  <a:cubicBezTo>
                    <a:pt x="29" y="190"/>
                    <a:pt x="27" y="222"/>
                    <a:pt x="23" y="236"/>
                  </a:cubicBezTo>
                  <a:cubicBezTo>
                    <a:pt x="19" y="250"/>
                    <a:pt x="0" y="246"/>
                    <a:pt x="9" y="256"/>
                  </a:cubicBezTo>
                  <a:cubicBezTo>
                    <a:pt x="18" y="266"/>
                    <a:pt x="59" y="288"/>
                    <a:pt x="77" y="298"/>
                  </a:cubicBezTo>
                  <a:cubicBezTo>
                    <a:pt x="95" y="308"/>
                    <a:pt x="109" y="322"/>
                    <a:pt x="117" y="318"/>
                  </a:cubicBezTo>
                  <a:cubicBezTo>
                    <a:pt x="125" y="314"/>
                    <a:pt x="121" y="292"/>
                    <a:pt x="125" y="274"/>
                  </a:cubicBezTo>
                  <a:cubicBezTo>
                    <a:pt x="129" y="256"/>
                    <a:pt x="140" y="228"/>
                    <a:pt x="143" y="212"/>
                  </a:cubicBezTo>
                  <a:cubicBezTo>
                    <a:pt x="146" y="196"/>
                    <a:pt x="145" y="189"/>
                    <a:pt x="145" y="178"/>
                  </a:cubicBezTo>
                  <a:cubicBezTo>
                    <a:pt x="145" y="167"/>
                    <a:pt x="143" y="164"/>
                    <a:pt x="145" y="148"/>
                  </a:cubicBezTo>
                  <a:cubicBezTo>
                    <a:pt x="147" y="132"/>
                    <a:pt x="154" y="97"/>
                    <a:pt x="157" y="84"/>
                  </a:cubicBezTo>
                  <a:cubicBezTo>
                    <a:pt x="160" y="71"/>
                    <a:pt x="161" y="77"/>
                    <a:pt x="165" y="72"/>
                  </a:cubicBezTo>
                  <a:cubicBezTo>
                    <a:pt x="169" y="67"/>
                    <a:pt x="172" y="64"/>
                    <a:pt x="181" y="56"/>
                  </a:cubicBezTo>
                  <a:cubicBezTo>
                    <a:pt x="190" y="48"/>
                    <a:pt x="213" y="31"/>
                    <a:pt x="221" y="24"/>
                  </a:cubicBez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0880" y="4181400"/>
              <a:ext cx="158760" cy="14940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0" y="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100" y="104"/>
                  </a:lnTo>
                  <a:lnTo>
                    <a:pt x="112" y="6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27360" y="3835440"/>
              <a:ext cx="118800" cy="1382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945440" y="3835440"/>
              <a:ext cx="119160" cy="1382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55880" y="4181400"/>
              <a:ext cx="11160" cy="576360"/>
            </a:xfrm>
            <a:custGeom>
              <a:avLst/>
              <a:gdLst/>
              <a:ahLst/>
              <a:rect l="l" t="t" r="r" b="b"/>
              <a:pathLst>
                <a:path w="8" h="400">
                  <a:moveTo>
                    <a:pt x="0" y="0"/>
                  </a:moveTo>
                  <a:lnTo>
                    <a:pt x="8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49400" y="3933720"/>
              <a:ext cx="1440" cy="23040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067280" y="3716280"/>
            <a:ext cx="1294920" cy="1752120"/>
            <a:chOff x="4067280" y="3716280"/>
            <a:chExt cx="1294920" cy="1752120"/>
          </a:xfrm>
        </p:grpSpPr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4067280" y="3716280"/>
              <a:ext cx="12949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735080" y="4952520"/>
              <a:ext cx="1440" cy="38484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2280" y="4717080"/>
              <a:ext cx="706680" cy="637200"/>
            </a:xfrm>
            <a:custGeom>
              <a:avLst/>
              <a:gdLst/>
              <a:ahLst/>
              <a:rect l="l" t="t" r="r" b="b"/>
              <a:pathLst>
                <a:path w="468" h="423">
                  <a:moveTo>
                    <a:pt x="79" y="8"/>
                  </a:moveTo>
                  <a:cubicBezTo>
                    <a:pt x="118" y="0"/>
                    <a:pt x="265" y="8"/>
                    <a:pt x="313" y="8"/>
                  </a:cubicBezTo>
                  <a:cubicBezTo>
                    <a:pt x="361" y="8"/>
                    <a:pt x="355" y="5"/>
                    <a:pt x="367" y="8"/>
                  </a:cubicBezTo>
                  <a:cubicBezTo>
                    <a:pt x="379" y="11"/>
                    <a:pt x="377" y="15"/>
                    <a:pt x="385" y="28"/>
                  </a:cubicBezTo>
                  <a:cubicBezTo>
                    <a:pt x="393" y="41"/>
                    <a:pt x="409" y="67"/>
                    <a:pt x="417" y="84"/>
                  </a:cubicBezTo>
                  <a:cubicBezTo>
                    <a:pt x="425" y="101"/>
                    <a:pt x="425" y="113"/>
                    <a:pt x="433" y="132"/>
                  </a:cubicBezTo>
                  <a:cubicBezTo>
                    <a:pt x="441" y="151"/>
                    <a:pt x="458" y="173"/>
                    <a:pt x="463" y="200"/>
                  </a:cubicBezTo>
                  <a:cubicBezTo>
                    <a:pt x="468" y="227"/>
                    <a:pt x="467" y="271"/>
                    <a:pt x="463" y="296"/>
                  </a:cubicBezTo>
                  <a:cubicBezTo>
                    <a:pt x="459" y="321"/>
                    <a:pt x="443" y="330"/>
                    <a:pt x="437" y="348"/>
                  </a:cubicBezTo>
                  <a:cubicBezTo>
                    <a:pt x="431" y="366"/>
                    <a:pt x="431" y="392"/>
                    <a:pt x="429" y="404"/>
                  </a:cubicBezTo>
                  <a:cubicBezTo>
                    <a:pt x="427" y="416"/>
                    <a:pt x="431" y="423"/>
                    <a:pt x="425" y="420"/>
                  </a:cubicBezTo>
                  <a:cubicBezTo>
                    <a:pt x="419" y="417"/>
                    <a:pt x="402" y="396"/>
                    <a:pt x="393" y="388"/>
                  </a:cubicBezTo>
                  <a:cubicBezTo>
                    <a:pt x="384" y="380"/>
                    <a:pt x="382" y="377"/>
                    <a:pt x="369" y="372"/>
                  </a:cubicBezTo>
                  <a:cubicBezTo>
                    <a:pt x="356" y="367"/>
                    <a:pt x="333" y="359"/>
                    <a:pt x="317" y="360"/>
                  </a:cubicBezTo>
                  <a:cubicBezTo>
                    <a:pt x="301" y="361"/>
                    <a:pt x="286" y="372"/>
                    <a:pt x="273" y="380"/>
                  </a:cubicBezTo>
                  <a:cubicBezTo>
                    <a:pt x="260" y="388"/>
                    <a:pt x="245" y="406"/>
                    <a:pt x="237" y="408"/>
                  </a:cubicBezTo>
                  <a:cubicBezTo>
                    <a:pt x="229" y="410"/>
                    <a:pt x="235" y="399"/>
                    <a:pt x="223" y="392"/>
                  </a:cubicBezTo>
                  <a:cubicBezTo>
                    <a:pt x="211" y="385"/>
                    <a:pt x="185" y="372"/>
                    <a:pt x="165" y="368"/>
                  </a:cubicBezTo>
                  <a:cubicBezTo>
                    <a:pt x="145" y="364"/>
                    <a:pt x="120" y="363"/>
                    <a:pt x="105" y="368"/>
                  </a:cubicBezTo>
                  <a:cubicBezTo>
                    <a:pt x="90" y="373"/>
                    <a:pt x="82" y="393"/>
                    <a:pt x="73" y="400"/>
                  </a:cubicBezTo>
                  <a:cubicBezTo>
                    <a:pt x="64" y="407"/>
                    <a:pt x="56" y="413"/>
                    <a:pt x="49" y="412"/>
                  </a:cubicBezTo>
                  <a:cubicBezTo>
                    <a:pt x="42" y="411"/>
                    <a:pt x="37" y="404"/>
                    <a:pt x="31" y="392"/>
                  </a:cubicBezTo>
                  <a:cubicBezTo>
                    <a:pt x="25" y="380"/>
                    <a:pt x="18" y="360"/>
                    <a:pt x="13" y="340"/>
                  </a:cubicBezTo>
                  <a:cubicBezTo>
                    <a:pt x="8" y="320"/>
                    <a:pt x="2" y="293"/>
                    <a:pt x="1" y="272"/>
                  </a:cubicBezTo>
                  <a:cubicBezTo>
                    <a:pt x="0" y="251"/>
                    <a:pt x="0" y="232"/>
                    <a:pt x="5" y="212"/>
                  </a:cubicBezTo>
                  <a:cubicBezTo>
                    <a:pt x="10" y="192"/>
                    <a:pt x="22" y="171"/>
                    <a:pt x="31" y="152"/>
                  </a:cubicBezTo>
                  <a:cubicBezTo>
                    <a:pt x="40" y="133"/>
                    <a:pt x="49" y="124"/>
                    <a:pt x="57" y="100"/>
                  </a:cubicBezTo>
                  <a:cubicBezTo>
                    <a:pt x="65" y="76"/>
                    <a:pt x="75" y="27"/>
                    <a:pt x="7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000099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19600" y="4728600"/>
              <a:ext cx="72360" cy="21708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lnTo>
                    <a:pt x="48" y="0"/>
                  </a:lnTo>
                  <a:lnTo>
                    <a:pt x="4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400" y="4721760"/>
              <a:ext cx="192240" cy="21744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127" y="133"/>
                  </a:moveTo>
                  <a:lnTo>
                    <a:pt x="128" y="144"/>
                  </a:lnTo>
                  <a:lnTo>
                    <a:pt x="0" y="4"/>
                  </a:lnTo>
                  <a:lnTo>
                    <a:pt x="60" y="0"/>
                  </a:lnTo>
                  <a:lnTo>
                    <a:pt x="127" y="13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38080" y="4717080"/>
              <a:ext cx="156600" cy="2286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52"/>
                  </a:moveTo>
                  <a:lnTo>
                    <a:pt x="8" y="136"/>
                  </a:lnTo>
                  <a:lnTo>
                    <a:pt x="44" y="0"/>
                  </a:lnTo>
                  <a:lnTo>
                    <a:pt x="104" y="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92080" y="4408200"/>
              <a:ext cx="473760" cy="32508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6" y="212"/>
                  </a:moveTo>
                  <a:cubicBezTo>
                    <a:pt x="13" y="215"/>
                    <a:pt x="1" y="209"/>
                    <a:pt x="44" y="208"/>
                  </a:cubicBezTo>
                  <a:cubicBezTo>
                    <a:pt x="87" y="207"/>
                    <a:pt x="221" y="205"/>
                    <a:pt x="264" y="204"/>
                  </a:cubicBezTo>
                  <a:cubicBezTo>
                    <a:pt x="307" y="203"/>
                    <a:pt x="296" y="213"/>
                    <a:pt x="304" y="204"/>
                  </a:cubicBezTo>
                  <a:cubicBezTo>
                    <a:pt x="312" y="195"/>
                    <a:pt x="311" y="171"/>
                    <a:pt x="312" y="152"/>
                  </a:cubicBezTo>
                  <a:cubicBezTo>
                    <a:pt x="313" y="133"/>
                    <a:pt x="313" y="111"/>
                    <a:pt x="308" y="92"/>
                  </a:cubicBezTo>
                  <a:cubicBezTo>
                    <a:pt x="303" y="73"/>
                    <a:pt x="294" y="52"/>
                    <a:pt x="284" y="40"/>
                  </a:cubicBezTo>
                  <a:cubicBezTo>
                    <a:pt x="274" y="28"/>
                    <a:pt x="261" y="26"/>
                    <a:pt x="248" y="20"/>
                  </a:cubicBezTo>
                  <a:cubicBezTo>
                    <a:pt x="235" y="14"/>
                    <a:pt x="219" y="0"/>
                    <a:pt x="204" y="4"/>
                  </a:cubicBezTo>
                  <a:cubicBezTo>
                    <a:pt x="189" y="8"/>
                    <a:pt x="169" y="37"/>
                    <a:pt x="160" y="44"/>
                  </a:cubicBezTo>
                  <a:cubicBezTo>
                    <a:pt x="151" y="51"/>
                    <a:pt x="161" y="50"/>
                    <a:pt x="152" y="44"/>
                  </a:cubicBezTo>
                  <a:cubicBezTo>
                    <a:pt x="143" y="38"/>
                    <a:pt x="120" y="13"/>
                    <a:pt x="108" y="8"/>
                  </a:cubicBezTo>
                  <a:cubicBezTo>
                    <a:pt x="96" y="3"/>
                    <a:pt x="91" y="9"/>
                    <a:pt x="80" y="16"/>
                  </a:cubicBezTo>
                  <a:cubicBezTo>
                    <a:pt x="69" y="23"/>
                    <a:pt x="55" y="37"/>
                    <a:pt x="44" y="48"/>
                  </a:cubicBezTo>
                  <a:cubicBezTo>
                    <a:pt x="33" y="59"/>
                    <a:pt x="22" y="73"/>
                    <a:pt x="16" y="84"/>
                  </a:cubicBezTo>
                  <a:cubicBezTo>
                    <a:pt x="10" y="95"/>
                    <a:pt x="8" y="103"/>
                    <a:pt x="6" y="116"/>
                  </a:cubicBezTo>
                  <a:cubicBezTo>
                    <a:pt x="4" y="129"/>
                    <a:pt x="7" y="151"/>
                    <a:pt x="6" y="164"/>
                  </a:cubicBezTo>
                  <a:cubicBezTo>
                    <a:pt x="5" y="177"/>
                    <a:pt x="0" y="184"/>
                    <a:pt x="0" y="192"/>
                  </a:cubicBezTo>
                  <a:cubicBezTo>
                    <a:pt x="0" y="200"/>
                    <a:pt x="2" y="209"/>
                    <a:pt x="6" y="212"/>
                  </a:cubicBez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64680" y="4404960"/>
              <a:ext cx="298440" cy="481320"/>
            </a:xfrm>
            <a:custGeom>
              <a:avLst/>
              <a:gdLst/>
              <a:ahLst/>
              <a:rect l="l" t="t" r="r" b="b"/>
              <a:pathLst>
                <a:path w="198" h="320">
                  <a:moveTo>
                    <a:pt x="0" y="23"/>
                  </a:moveTo>
                  <a:cubicBezTo>
                    <a:pt x="8" y="16"/>
                    <a:pt x="48" y="0"/>
                    <a:pt x="74" y="7"/>
                  </a:cubicBezTo>
                  <a:cubicBezTo>
                    <a:pt x="100" y="14"/>
                    <a:pt x="139" y="46"/>
                    <a:pt x="154" y="67"/>
                  </a:cubicBezTo>
                  <a:cubicBezTo>
                    <a:pt x="169" y="88"/>
                    <a:pt x="163" y="116"/>
                    <a:pt x="166" y="135"/>
                  </a:cubicBezTo>
                  <a:cubicBezTo>
                    <a:pt x="169" y="154"/>
                    <a:pt x="168" y="161"/>
                    <a:pt x="170" y="179"/>
                  </a:cubicBezTo>
                  <a:cubicBezTo>
                    <a:pt x="172" y="197"/>
                    <a:pt x="174" y="229"/>
                    <a:pt x="178" y="243"/>
                  </a:cubicBezTo>
                  <a:cubicBezTo>
                    <a:pt x="182" y="257"/>
                    <a:pt x="198" y="252"/>
                    <a:pt x="192" y="263"/>
                  </a:cubicBezTo>
                  <a:cubicBezTo>
                    <a:pt x="186" y="274"/>
                    <a:pt x="156" y="302"/>
                    <a:pt x="144" y="311"/>
                  </a:cubicBezTo>
                  <a:cubicBezTo>
                    <a:pt x="132" y="320"/>
                    <a:pt x="126" y="319"/>
                    <a:pt x="118" y="315"/>
                  </a:cubicBezTo>
                  <a:cubicBezTo>
                    <a:pt x="110" y="311"/>
                    <a:pt x="108" y="303"/>
                    <a:pt x="98" y="287"/>
                  </a:cubicBezTo>
                  <a:cubicBezTo>
                    <a:pt x="88" y="271"/>
                    <a:pt x="63" y="236"/>
                    <a:pt x="58" y="219"/>
                  </a:cubicBezTo>
                  <a:cubicBezTo>
                    <a:pt x="53" y="202"/>
                    <a:pt x="65" y="199"/>
                    <a:pt x="66" y="183"/>
                  </a:cubicBezTo>
                  <a:cubicBezTo>
                    <a:pt x="67" y="167"/>
                    <a:pt x="69" y="142"/>
                    <a:pt x="66" y="123"/>
                  </a:cubicBezTo>
                  <a:cubicBezTo>
                    <a:pt x="63" y="104"/>
                    <a:pt x="53" y="85"/>
                    <a:pt x="48" y="71"/>
                  </a:cubicBezTo>
                  <a:cubicBezTo>
                    <a:pt x="43" y="57"/>
                    <a:pt x="42" y="47"/>
                    <a:pt x="34" y="39"/>
                  </a:cubicBezTo>
                  <a:cubicBezTo>
                    <a:pt x="26" y="31"/>
                    <a:pt x="7" y="26"/>
                    <a:pt x="0" y="23"/>
                  </a:cubicBez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18400" y="4717080"/>
              <a:ext cx="151560" cy="174240"/>
            </a:xfrm>
            <a:custGeom>
              <a:avLst/>
              <a:gdLst/>
              <a:ahLst/>
              <a:rect l="l" t="t" r="r" b="b"/>
              <a:pathLst>
                <a:path w="100" h="116">
                  <a:moveTo>
                    <a:pt x="76" y="4"/>
                  </a:moveTo>
                  <a:lnTo>
                    <a:pt x="76" y="0"/>
                  </a:lnTo>
                  <a:lnTo>
                    <a:pt x="100" y="56"/>
                  </a:lnTo>
                  <a:lnTo>
                    <a:pt x="28" y="116"/>
                  </a:lnTo>
                  <a:lnTo>
                    <a:pt x="0" y="8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79320" y="4411440"/>
              <a:ext cx="335520" cy="486000"/>
            </a:xfrm>
            <a:custGeom>
              <a:avLst/>
              <a:gdLst/>
              <a:ahLst/>
              <a:rect l="l" t="t" r="r" b="b"/>
              <a:pathLst>
                <a:path w="222" h="322">
                  <a:moveTo>
                    <a:pt x="221" y="24"/>
                  </a:moveTo>
                  <a:cubicBezTo>
                    <a:pt x="222" y="15"/>
                    <a:pt x="202" y="4"/>
                    <a:pt x="185" y="2"/>
                  </a:cubicBezTo>
                  <a:cubicBezTo>
                    <a:pt x="168" y="0"/>
                    <a:pt x="144" y="0"/>
                    <a:pt x="121" y="10"/>
                  </a:cubicBezTo>
                  <a:cubicBezTo>
                    <a:pt x="98" y="20"/>
                    <a:pt x="61" y="40"/>
                    <a:pt x="47" y="60"/>
                  </a:cubicBezTo>
                  <a:cubicBezTo>
                    <a:pt x="33" y="80"/>
                    <a:pt x="38" y="109"/>
                    <a:pt x="35" y="128"/>
                  </a:cubicBezTo>
                  <a:cubicBezTo>
                    <a:pt x="32" y="147"/>
                    <a:pt x="33" y="154"/>
                    <a:pt x="31" y="172"/>
                  </a:cubicBezTo>
                  <a:cubicBezTo>
                    <a:pt x="29" y="190"/>
                    <a:pt x="27" y="222"/>
                    <a:pt x="23" y="236"/>
                  </a:cubicBezTo>
                  <a:cubicBezTo>
                    <a:pt x="19" y="250"/>
                    <a:pt x="0" y="246"/>
                    <a:pt x="9" y="256"/>
                  </a:cubicBezTo>
                  <a:cubicBezTo>
                    <a:pt x="18" y="266"/>
                    <a:pt x="59" y="288"/>
                    <a:pt x="77" y="298"/>
                  </a:cubicBezTo>
                  <a:cubicBezTo>
                    <a:pt x="95" y="308"/>
                    <a:pt x="109" y="322"/>
                    <a:pt x="117" y="318"/>
                  </a:cubicBezTo>
                  <a:cubicBezTo>
                    <a:pt x="125" y="314"/>
                    <a:pt x="121" y="292"/>
                    <a:pt x="125" y="274"/>
                  </a:cubicBezTo>
                  <a:cubicBezTo>
                    <a:pt x="129" y="256"/>
                    <a:pt x="140" y="228"/>
                    <a:pt x="143" y="212"/>
                  </a:cubicBezTo>
                  <a:cubicBezTo>
                    <a:pt x="146" y="196"/>
                    <a:pt x="145" y="189"/>
                    <a:pt x="145" y="178"/>
                  </a:cubicBezTo>
                  <a:cubicBezTo>
                    <a:pt x="145" y="167"/>
                    <a:pt x="143" y="164"/>
                    <a:pt x="145" y="148"/>
                  </a:cubicBezTo>
                  <a:cubicBezTo>
                    <a:pt x="147" y="132"/>
                    <a:pt x="154" y="97"/>
                    <a:pt x="157" y="84"/>
                  </a:cubicBezTo>
                  <a:cubicBezTo>
                    <a:pt x="160" y="71"/>
                    <a:pt x="161" y="77"/>
                    <a:pt x="165" y="72"/>
                  </a:cubicBezTo>
                  <a:cubicBezTo>
                    <a:pt x="169" y="67"/>
                    <a:pt x="172" y="64"/>
                    <a:pt x="181" y="56"/>
                  </a:cubicBezTo>
                  <a:cubicBezTo>
                    <a:pt x="190" y="48"/>
                    <a:pt x="213" y="31"/>
                    <a:pt x="221" y="24"/>
                  </a:cubicBez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99840" y="4728600"/>
              <a:ext cx="168480" cy="15552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0" y="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100" y="104"/>
                  </a:lnTo>
                  <a:lnTo>
                    <a:pt x="112" y="6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93600" y="4366440"/>
              <a:ext cx="126000" cy="1443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18880" y="4366440"/>
              <a:ext cx="126360" cy="1443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30040" y="4728600"/>
              <a:ext cx="11520" cy="601920"/>
            </a:xfrm>
            <a:custGeom>
              <a:avLst/>
              <a:gdLst/>
              <a:ahLst/>
              <a:rect l="l" t="t" r="r" b="b"/>
              <a:pathLst>
                <a:path w="8" h="400">
                  <a:moveTo>
                    <a:pt x="0" y="0"/>
                  </a:moveTo>
                  <a:lnTo>
                    <a:pt x="8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3200" y="4469760"/>
              <a:ext cx="1440" cy="24048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588000" y="3141720"/>
            <a:ext cx="1451160" cy="167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187280" y="1989000"/>
                <a:ext cx="7740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6</m:t>
                    </m:r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4</m:t>
                    </m:r>
                    <m:r>
                      <m:t xml:space="preserve">(</m:t>
                    </m:r>
                    <m:r>
                      <m:t xml:space="preserve">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AD9-8208-4392-83CA-C4DFA1740F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думай и реши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403280" y="4592520"/>
                <a:ext cx="69850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0" y="25995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00" y="3447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429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646280" y="2133720"/>
                <a:ext cx="310680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230720" y="4400640"/>
                <a:ext cx="233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979640" y="3429000"/>
                <a:ext cx="2232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ешение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698480" cy="23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716360" y="2349360"/>
                <a:ext cx="614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6AD-80A4-4B3E-8772-2EC1AB6EFA2D}" type="slidenum">
              <a:t>16</a:t>
            </a:fld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6084720" cy="2908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4067280" y="2997360"/>
            <a:ext cx="4176720" cy="2787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FCE-77F2-4D3C-8717-B92095657877}" type="slidenum">
              <a:t>17</a:t>
            </a:fld>
          </a:p>
        </p:txBody>
      </p:sp>
    </p:spTree>
  </p:cSld>
  <p:transition>
    <p:checker dir="vert"/>
    <p:sndAc>
      <p:stSnd>
        <p:snd r:embed="rId5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39369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объявил себя великим математиком и его попросили узнать: Сколько малышей Солнечного городка было на представлении в цирке, чтобы после представления вручить всем мороженое. Всего в Солнечном городке 25 жителей и на представлении детей присутствовало      всех ж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т, что он сдела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743280" cy="532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24360" y="3213000"/>
                <a:ext cx="20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476360" y="4581360"/>
                <a:ext cx="30956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818-9E29-48F3-8F80-028EE914F6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419720" y="320004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19280" y="260280"/>
            <a:ext cx="62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по групп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ить урав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143000" y="1341360"/>
          <a:ext cx="7676640" cy="4966920"/>
        </p:xfrm>
        <a:graphic>
          <a:graphicData uri="http://schemas.openxmlformats.org/drawingml/2006/table">
            <a:tbl>
              <a:tblPr/>
              <a:tblGrid>
                <a:gridCol w="2928240"/>
                <a:gridCol w="2453400"/>
                <a:gridCol w="2295000"/>
              </a:tblGrid>
              <a:tr h="49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476360" y="2205000"/>
                <a:ext cx="2335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4014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16000" y="3429000"/>
                <a:ext cx="2952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33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860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284720" y="2205000"/>
                <a:ext cx="1728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4281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240080" y="3573360"/>
                <a:ext cx="2102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3976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76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529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5288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588000" y="3357720"/>
                <a:ext cx="1952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332000" y="4724280"/>
                <a:ext cx="2663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211640" y="4834080"/>
                <a:ext cx="216072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6804000" y="2276640"/>
                <a:ext cx="122400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588000" y="4724280"/>
                <a:ext cx="2087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09C3-9273-4251-BD6F-0A8A93A8EE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0480" y="609480"/>
            <a:ext cx="27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41972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5238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676520"/>
            <a:ext cx="564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ласс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809880"/>
            <a:ext cx="47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236232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6d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Устная работ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06d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06d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06d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227640" y="2852640"/>
            <a:ext cx="2519640" cy="234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50800" y="32958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Индивидуальная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работа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C6E7-7127-4067-A068-ADB534AB44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419720" y="320004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3840" y="8568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Monotype Corsiva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523880" y="1397160"/>
          <a:ext cx="6719760" cy="4483080"/>
        </p:xfrm>
        <a:graphic>
          <a:graphicData uri="http://schemas.openxmlformats.org/drawingml/2006/table">
            <a:tbl>
              <a:tblPr/>
              <a:tblGrid>
                <a:gridCol w="2239920"/>
                <a:gridCol w="2239920"/>
                <a:gridCol w="2239920"/>
              </a:tblGrid>
              <a:tr h="45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4443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268360" y="1557360"/>
                <a:ext cx="579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462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62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71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05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959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41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63640" y="549360"/>
            <a:ext cx="1513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27640" y="981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III</a:t>
            </a:r>
            <a:r>
              <a:rPr b="0" lang="ru-RU" sz="2000" spc="-1" strike="noStrike">
                <a:solidFill>
                  <a:srgbClr val="ff0000"/>
                </a:solidFill>
                <a:latin typeface="Monotype Corsiva"/>
              </a:rPr>
              <a:t>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124000" y="2565360"/>
                <a:ext cx="579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050920" y="3284640"/>
                <a:ext cx="484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067280" y="3213000"/>
                <a:ext cx="393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3780000" y="98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II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груп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516720" y="3284640"/>
                <a:ext cx="369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3A31-E1B9-4D68-81CD-A7245EF4B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3138480" cy="35290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Домашняя работ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42920" y="184464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Gulim"/>
              </a:rPr>
              <a:t>№ </a:t>
            </a:r>
            <a:r>
              <a:rPr b="0" lang="ru-RU" sz="2800" spc="-1" strike="noStrike">
                <a:solidFill>
                  <a:srgbClr val="990099"/>
                </a:solidFill>
                <a:latin typeface="Gulim"/>
              </a:rPr>
              <a:t>634; 6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ulim"/>
              </a:rPr>
              <a:t>[</a:t>
            </a:r>
            <a:r>
              <a:rPr b="0" lang="ru-RU" sz="2800" spc="-1" strike="noStrike">
                <a:solidFill>
                  <a:srgbClr val="ff0000"/>
                </a:solidFill>
                <a:latin typeface="Gulim"/>
              </a:rPr>
              <a:t>№ 607(к,л)№609(к,л,м)</a:t>
            </a:r>
            <a:r>
              <a:rPr b="0" lang="en-US" sz="2800" spc="-1" strike="noStrike">
                <a:solidFill>
                  <a:srgbClr val="ff0000"/>
                </a:solidFill>
                <a:latin typeface="Gulim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58920" y="692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94b6"/>
                </a:solidFill>
                <a:latin typeface="Monotype Corsiva"/>
              </a:rPr>
              <a:t>Всем спасибо за урок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116000" y="5531400"/>
            <a:ext cx="73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94b6"/>
                </a:solidFill>
                <a:latin typeface="Gulim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51280" y="2133720"/>
            <a:ext cx="4897440" cy="34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усть каждый день и каждый час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ам новое добудет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усть добрым будет ум у вас,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А сердце умным буд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ulim"/>
              </a:rPr>
              <a:t>С. Марш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E43-C635-428D-BB72-8021E1B9F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842160" cy="1343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76360" y="3429000"/>
            <a:ext cx="2952720" cy="2652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40360" y="275580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Ну-ка, в сторону карандаш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Ни бумажек, ни ручек, ни мел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Устный счет! Мы творим это де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Gulim"/>
              </a:rPr>
              <a:t>Только силой ума и душ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A34-4D7E-4A5A-9F43-F59321212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27075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дробь равну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ро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356000" y="3716280"/>
                <a:ext cx="779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556000" y="314064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40755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AEFD-3266-4517-861F-99F67E119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1803 C -0.00399 -0.00716 -0.00417 0.0044 -0.00156 0.0148 C 0.00972 0.06058 0.03872 0.08509 0.06684 0.08948 C 0.09271 0.10081 0.12431 0.09619 0.15 0.09711 C 0.16042 0.10313 0.16944 0.10405 0.18056 0.10521 C 0.1842 0.10636 0.18785 0.10844 0.19167 0.1096 C 0.19896 0.11492 0.20608 0.12047 0.21372 0.12394 C 0.21944 0.13041 0.22604 0.13596 0.23229 0.14104 C 0.23646 0.14451 0.2342 0.14035 0.23872 0.14567 C 0.24201 0.14983 0.24479 0.15584 0.24809 0.15977 C 0.2526 0.16555 0.25729 0.1711 0.26198 0.17688 C 0.26372 0.18613 0.26146 0.17781 0.26736 0.18775 C 0.27274 0.19723 0.27726 0.20925 0.28229 0.2185 C 0.28472 0.22428 0.28733 0.23029 0.28872 0.2363 C 0.28976 0.24024 0.29149 0.24856 0.29149 0.24879 C 0.29097 0.27284 0.29583 0.2985 0.28785 0.31885 C 0.28455 0.33989 0.28038 0.35469 0.27101 0.37041 C 0.26389 0.3822 0.27517 0.36856 0.26649 0.37827 C 0.26337 0.3859 0.25174 0.3933 0.24618 0.39561 C 0.2401 0.40278 0.23125 0.40394 0.22396 0.40648 C 0.21319 0.41873 0.19844 0.41619 0.18611 0.42058 C 0.18264 0.42197 0.18021 0.42636 0.17691 0.42821 C 0.17413 0.4296 0.17135 0.43029 0.1684 0.43122 C 0.1599 0.44301 0.16146 0.45758 0.16024 0.47422 C 0.15903 0.49295 0.15694 0.51029 0.15556 0.52787 C 0.15451 0.53896 0.15278 0.54659 0.15104 0.55746 C 0.14983 0.5637 0.14809 0.57619 0.14809 0.57642 C 0.14983 0.58151 0.15017 0.58821 0.15278 0.59076 C 0.15399 0.59376 0.15382 0.58683 0.15382 0.58428 C 0.15399 0.55099 0.15382 0.5207 0.15382 0.48879 E">
                                      <p:cBhvr>
                                        <p:cTn id="4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476360" y="2565000"/>
            <a:ext cx="662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числа взаимно-обратные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826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618804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94B0-7AA2-48E1-A0C5-34A11B69F9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0.11019 C 0.01944 0.11551 0.01614 0.11181 0.02187 0.12292 C 0.02257 0.12454 0.0243 0.12477 0.02535 0.12593 C 0.02864 0.12917 0.03177 0.13241 0.03489 0.13565 C 0.04826 0.14931 0.0658 0.15648 0.08246 0.15926 C 0.09271 0.16736 0.08455 0.1625 0.09913 0.16574 C 0.10712 0.16759 0.11493 0.17153 0.12291 0.17361 C 0.12934 0.18009 0.13802 0.18588 0.14566 0.18958 C 0.14913 0.19121 0.15295 0.1919 0.15625 0.19421 C 0.16493 0.20023 0.16719 0.20185 0.17656 0.20371 C 0.18785 0.2088 0.20069 0.20926 0.21232 0.21019 C 0.22691 0.21528 0.24861 0.21644 0.26354 0.21644 C 0.40972 0.21736 0.55642 0.21759 0.70278 0.21806 C 0.71111 0.21968 0.71857 0.22292 0.72656 0.22593 C 0.73003 0.2331 0.73281 0.24074 0.73611 0.24815 C 0.7401 0.28009 0.74132 0.26783 0.73732 0.32593 C 0.73698 0.33171 0.72934 0.33681 0.72656 0.34028 C 0.71875 0.34954 0.71979 0.34815 0.7158 0.35625 C 0.71354 0.36783 0.70798 0.37384 0.70278 0.3831 C 0.70173 0.38704 0.69826 0.39583 0.69444 0.39583 C 0.55399 0.39746 0.41319 0.39699 0.27291 0.39746 C 0.25364 0.39838 0.24323 0.39884 0.22656 0.40371 C 0.21979 0.41273 0.21302 0.42176 0.20625 0.43079 C 0.20469 0.43982 0.20052 0.45 0.19687 0.45787 C 0.19583 0.48056 0.19444 0.49722 0.19444 0.51968 E">
                                      <p:cBhvr>
                                        <p:cTn id="5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0.12083 C 0.01702 0.13472 0.01511 0.13472 0.01025 0.1463 C 0.00591 0.15648 0.00035 0.17107 -0.00868 0.17477 C -0.01666 0.1831 -0.02864 0.2 -0.03975 0.20185 C -0.04757 0.20324 -0.05555 0.20301 -0.06354 0.20347 C -0.09705 0.20857 -0.13107 0.20486 -0.16475 0.2081 C -0.17257 0.21158 -0.17934 0.2169 -0.18732 0.21921 C -0.19618 0.22523 -0.21649 0.23403 -0.22309 0.24306 C -0.22673 0.24815 -0.22934 0.25347 -0.23368 0.25741 C -0.23611 0.26366 -0.23975 0.26852 -0.24201 0.27477 C -0.24253 0.27639 -0.24271 0.27801 -0.24323 0.27963 C -0.24392 0.28171 -0.24479 0.2838 -0.24566 0.28588 C -0.24705 0.29306 -0.24826 0.29908 -0.24913 0.30671 C -0.24878 0.3294 -0.24878 0.35208 -0.24809 0.37477 C -0.24791 0.38079 -0.24548 0.38658 -0.24444 0.39236 C -0.24357 0.39722 -0.2408 0.40671 -0.2408 0.40695 C -0.23975 0.42176 -0.23611 0.43634 -0.23246 0.45116 C -0.2309 0.45741 -0.22534 0.46852 -0.22534 0.46875 C -0.22309 0.4838 -0.21666 0.49722 -0.21232 0.51134 C -0.2059 0.53195 -0.2 0.55324 -0.19323 0.57338 C -0.18836 0.58796 -0.18472 0.60394 -0.17656 0.61621 C -0.17569 0.61759 -0.17396 0.61783 -0.17309 0.61921 C -0.16996 0.62361 -0.16857 0.63033 -0.16475 0.63357 C -0.16354 0.63472 -0.16215 0.63542 -0.16111 0.63681 C -0.15277 0.64769 -0.14618 0.65602 -0.13489 0.66227 C -0.12465 0.67593 -0.10937 0.68056 -0.09687 0.68912 C -0.08698 0.69583 -0.07968 0.70533 -0.06823 0.7081 C -0.05573 0.71458 -0.0434 0.72107 -0.03021 0.72408 C -0.01093 0.73519 0.0125 0.73565 0.03299 0.73681 C 0.16372 0.73333 0.11632 0.74676 0.16389 0.73033 C 0.18334 0.71412 0.19497 0.69144 0.2092 0.66852 C 0.21268 0.65232 0.20625 0.68033 0.21389 0.65579 C 0.21598 0.64884 0.2158 0.64074 0.21754 0.63357 C 0.21927 0.59537 0.21979 0.59213 0.21754 0.54005 C 0.21719 0.53287 0.21268 0.52639 0.21268 0.51921 E">
                                      <p:cBhvr>
                                        <p:cTn id="6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019680"/>
            <a:ext cx="52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ть дробь равную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A6AF-8876-40FD-82EF-6A6FDC324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8865 C -0.00313 0.09884 -0.00729 0.1081 -0.01181 0.11736 C -0.02049 0.13541 -0.00868 0.11527 -0.01545 0.1331 C -0.01615 0.13518 -0.01806 0.13611 -0.0191 0.13796 C -0.02014 0.14004 -0.02136 0.14189 -0.0224 0.14421 C -0.02327 0.14629 -0.02379 0.14884 -0.025 0.15069 C -0.02674 0.1537 -0.02917 0.15555 -0.03073 0.15856 C -0.03472 0.16504 -0.03785 0.17245 -0.04167 0.17916 C -0.04722 0.18865 -0.05972 0.19189 -0.06788 0.19351 C -0.07986 0.19907 -0.09531 0.19861 -0.10695 0.19976 C -0.14063 0.20347 -0.17448 0.20231 -0.20816 0.203 C -0.22465 0.20625 -0.2415 0.20671 -0.25816 0.20763 C -0.32483 0.21782 -0.38629 0.21643 -0.45573 0.21736 C -0.46094 0.21805 -0.46945 0.21898 -0.47483 0.22037 C -0.48472 0.22314 -0.49288 0.23588 -0.50104 0.24259 C -0.50677 0.25486 -0.5099 0.26759 -0.51406 0.28078 C -0.51528 0.29351 -0.51719 0.30601 -0.51893 0.31875 C -0.52014 0.32777 -0.52014 0.33703 -0.5224 0.34583 C -0.52344 0.37407 -0.52865 0.41226 -0.5224 0.43958 C -0.51962 0.45185 -0.51372 0.46296 -0.50816 0.47291 C -0.50573 0.47731 -0.50504 0.48333 -0.50226 0.48703 C -0.49861 0.49189 -0.4934 0.49421 -0.49028 0.49976 C -0.48438 0.51018 -0.47379 0.51851 -0.46528 0.52523 C -0.46007 0.52939 -0.45573 0.53611 -0.44983 0.53796 C -0.44514 0.53958 -0.44132 0.54259 -0.43663 0.54421 C -0.4125 0.55231 -0.38906 0.56111 -0.36406 0.56319 C -0.32535 0.5706 -0.28525 0.57129 -0.2474 0.55856 C -0.24115 0.55277 -0.23334 0.54907 -0.22604 0.54583 C -0.22031 0.54328 -0.2132 0.53472 -0.20816 0.52986 C -0.20556 0.52754 -0.19913 0.52615 -0.19618 0.52523 C -0.18577 0.52685 -0.17535 0.53032 -0.16545 0.53472 C -0.15972 0.54236 -0.1625 0.53773 -0.15695 0.54907 C -0.15556 0.55185 -0.15452 0.55856 -0.15452 0.55856 C -0.15556 0.57453 -0.15434 0.57569 -0.16163 0.58541 C -0.16198 0.58703 -0.16285 0.59027 -0.16285 0.59027 E">
                                      <p:cBhvr>
                                        <p:cTn id="7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042920" y="549360"/>
          <a:ext cx="7777080" cy="143964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640"/>
                <a:gridCol w="973080"/>
                <a:gridCol w="971640"/>
                <a:gridCol w="973080"/>
                <a:gridCol w="969840"/>
                <a:gridCol w="97308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65608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число, обратное самому себ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9640" y="620640"/>
                <a:ext cx="533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02FA-227C-43CD-B883-605D4783E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0.00121 0.01389 0.00034 0.02848 0.00364 0.0419 C 0.00451 0.04514 0.00903 0.0426 0.01111 0.04445 C 0.01302 0.04607 0.01302 0.05 0.01475 0.05186 C 0.021 0.05903 0.02899 0.06574 0.03698 0.06899 C 0.05382 0.08449 0.06909 0.07871 0.09253 0.08149 C 0.12326 0.09167 0.15503 0.09491 0.18507 0.10857 C 0.19739 0.12431 0.1868 0.11274 0.22396 0.11852 C 0.25955 0.12408 0.24722 0.12176 0.28142 0.13079 C 0.28576 0.13195 0.29028 0.13357 0.29444 0.13565 C 0.29705 0.13681 0.29913 0.13982 0.30173 0.14074 C 0.31389 0.14468 0.32656 0.14537 0.33889 0.14815 C 0.3408 0.14977 0.34236 0.15232 0.34444 0.15301 C 0.3493 0.15486 0.35469 0.15255 0.3592 0.15556 C 0.36163 0.15718 0.36146 0.16204 0.36284 0.16528 C 0.37361 0.19051 0.36909 0.1838 0.37778 0.19491 C 0.37934 0.20486 0.38333 0.21436 0.38333 0.22454 C 0.38333 0.30116 0.40034 0.36227 0.36284 0.41227 C 0.35521 0.42246 0.34774 0.43496 0.33698 0.43936 C 0.3026 0.48588 0.33212 0.45186 0.22031 0.44931 C 0.20208 0.44514 0.18524 0.43936 0.16666 0.43704 C 0.15382 0.43357 0.14253 0.42408 0.12951 0.41968 C 0.11823 0.40973 0.13055 0.41922 0.11475 0.41227 C 0.1033 0.40718 0.11128 0.40857 0.10173 0.40232 C 0.09201 0.39584 0.08281 0.39051 0.07222 0.3875 C 0.0592 0.37593 0.0375 0.37269 0.02222 0.37037 C -0.02309 0.37524 -0.01354 0.36783 -0.03889 0.39005 C -0.04948 0.43102 -0.0408 0.39491 -0.0408 0.50371 E">
                                      <p:cBhvr>
                                        <p:cTn id="10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278136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278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ть дробь  больше 1 и меньше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3106-332C-4449-8A5C-CE84A1B05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8125 C 0.00938 0.08519 0.00816 0.09051 0.00434 0.0956 C 0.00295 0.10301 0.00035 0.10926 -0.00156 0.11621 C -0.00364 0.12384 -0.00486 0.13125 -0.00764 0.13843 C -0.00902 0.14954 -0.01059 0.16065 -0.01232 0.17176 C -0.01024 0.22199 -0.01371 0.18796 -0.00989 0.20509 C -0.00937 0.20718 -0.00989 0.20996 -0.00868 0.21158 C -0.00746 0.2132 -0.00555 0.2125 -0.00399 0.21296 C 0.00018 0.21574 0.00365 0.21921 0.00799 0.22107 C 0.01962 0.23658 0.00417 0.21736 0.01511 0.22732 C 0.02084 0.23264 0.02639 0.24028 0.03177 0.2463 C 0.03768 0.25278 0.04219 0.2625 0.04723 0.27014 C 0.05052 0.27523 0.05434 0.28009 0.05677 0.28611 C 0.05868 0.29121 0.05938 0.29676 0.06146 0.30185 C 0.06111 0.31042 0.06094 0.31875 0.06025 0.32732 C 0.0599 0.33241 0.05834 0.33241 0.05677 0.33681 C 0.05295 0.34722 0.04861 0.3588 0.04132 0.36551 C 0.03594 0.37593 0.02969 0.38496 0.02466 0.3956 C 0.025 0.39884 0.02518 0.40764 0.02691 0.41158 C 0.03993 0.44213 0.0691 0.43287 0.09132 0.4338 C 0.09861 0.43588 0.11025 0.4507 0.11511 0.45903 C 0.11927 0.4757 0.11511 0.49259 0.11511 0.50996 E">
                                      <p:cBhvr>
                                        <p:cTn id="1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042920" y="549360"/>
          <a:ext cx="7776720" cy="1366560"/>
        </p:xfrm>
        <a:graphic>
          <a:graphicData uri="http://schemas.openxmlformats.org/drawingml/2006/table">
            <a:tbl>
              <a:tblPr/>
              <a:tblGrid>
                <a:gridCol w="972360"/>
                <a:gridCol w="972720"/>
                <a:gridCol w="970920"/>
                <a:gridCol w="972720"/>
                <a:gridCol w="972000"/>
                <a:gridCol w="972720"/>
                <a:gridCol w="970920"/>
                <a:gridCol w="972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71600" y="549360"/>
                <a:ext cx="3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59080" y="549360"/>
                <a:ext cx="41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84720" y="549360"/>
                <a:ext cx="380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84720" y="549360"/>
                <a:ext cx="45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8900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Какая дробь ра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7640" y="2565360"/>
                <a:ext cx="78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63A-BC12-43A6-8B0D-EA8F62933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6358E-006 C 0.00573 0.00763 0.00833 0.01734 0.01424 0.02543 C 0.01615 0.03329 0.02014 0.03769 0.02379 0.04439 C 0.02431 0.04717 0.02413 0.0504 0.02535 0.05295 C 0.02639 0.05503 0.02917 0.0548 0.03004 0.05711 C 0.03143 0.06104 0.03073 0.06566 0.0316 0.06983 C 0.03229 0.07283 0.03646 0.08162 0.03802 0.08462 C 0.03958 0.0874 0.04097 0.0904 0.04271 0.09295 C 0.04514 0.09665 0.0507 0.10358 0.0507 0.10358 C 0.05903 0.13202 0.05938 0.16277 0.06337 0.19237 C 0.06597 0.21156 0.07014 0.22358 0.08403 0.22821 C 0.21077 0.22127 0.35278 0.23306 0.47292 0.23468 C 0.48577 0.23815 0.49583 0.243 0.50781 0.24948 C 0.51702 0.26127 0.50903 0.24948 0.5158 0.26428 C 0.51979 0.27283 0.52465 0.27815 0.53004 0.28532 C 0.53438 0.2911 0.53594 0.29988 0.53958 0.30659 C 0.55156 0.35445 0.54497 0.42659 0.51424 0.46081 C 0.50833 0.46728 0.50486 0.47676 0.49827 0.48208 C 0.48941 0.48925 0.47674 0.48925 0.46667 0.49457 C 0.40504 0.49341 0.3559 0.49156 0.29827 0.48416 C 0.27379 0.47607 0.2507 0.48185 0.22535 0.48416 C 0.22101 0.5015 0.2217 0.49248 0.22379 0.51168 C 0.22292 0.5267 0.225 0.53734 0.21736 0.54751 E">
                                      <p:cBhvr>
                                        <p:cTn id="126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4:32Z</dcterms:created>
  <dc:creator>Администратор</dc:creator>
  <dc:description/>
  <dc:language>en-US</dc:language>
  <cp:lastModifiedBy>Admin</cp:lastModifiedBy>
  <dcterms:modified xsi:type="dcterms:W3CDTF">2008-12-08T10:36:58Z</dcterms:modified>
  <cp:revision>55</cp:revision>
  <dc:subject/>
  <dc:title>Урок математики  6класс </dc:title>
</cp:coreProperties>
</file>