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F33-5E17-4C06-9C5C-0DA828A1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23F-F54A-42CC-910E-33A9EB1C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109-362C-4A63-A4AC-5F6D1337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B55-4E83-4BB6-8C66-098AA446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377-6192-49B9-BD5F-0318E31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BD9-B4CD-4C45-899C-EEE3757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AA1-4C9C-47C0-B59A-66A78FCB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764-0FE4-4A1F-8C9E-B72DD87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777-3681-4077-A2EC-CCCB4650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CFA-8688-40AF-B57A-4723135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180-BDC4-4514-A39D-E0EA64C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3CF-E826-4766-B011-E4DC96F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C290-9831-44AF-A790-851F84DB4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на смеси, растворы и проценты, в помощь сдающим ЕГЭ и ОГЭ 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95640" y="4941360"/>
            <a:ext cx="353844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боту выполнил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вдокимова  Дарь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ченица 6 класса «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орбе Светлана Пет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шение задачи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765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чала работаем по горизонтали с первыми двумя строч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работаем по вертикали с первой и третьей колонко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е3-page0001.jpg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456000"/>
          </a:xfrm>
          <a:prstGeom prst="rect">
            <a:avLst/>
          </a:prstGeom>
          <a:ln w="0">
            <a:noFill/>
          </a:ln>
        </p:spPr>
      </p:pic>
      <p:cxnSp>
        <p:nvCxnSpPr>
          <p:cNvPr id="79" name="Прямая со стрелкой 5"/>
          <p:cNvCxnSpPr/>
          <p:nvPr/>
        </p:nvCxnSpPr>
        <p:spPr>
          <a:xfrm>
            <a:off x="2484360" y="4868640"/>
            <a:ext cx="4896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" name="Прямая со стрелкой 7"/>
          <p:cNvCxnSpPr/>
          <p:nvPr/>
        </p:nvCxnSpPr>
        <p:spPr>
          <a:xfrm>
            <a:off x="2484000" y="5444640"/>
            <a:ext cx="4825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Прямая со стрелкой 9"/>
          <p:cNvCxnSpPr/>
          <p:nvPr/>
        </p:nvCxnSpPr>
        <p:spPr>
          <a:xfrm>
            <a:off x="3131640" y="4797360"/>
            <a:ext cx="108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Прямая со стрелкой 11"/>
          <p:cNvCxnSpPr/>
          <p:nvPr/>
        </p:nvCxnSpPr>
        <p:spPr>
          <a:xfrm>
            <a:off x="7884720" y="4797360"/>
            <a:ext cx="108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Прямая со стрелкой 14"/>
          <p:cNvCxnSpPr/>
          <p:nvPr/>
        </p:nvCxnSpPr>
        <p:spPr>
          <a:xfrm>
            <a:off x="4716360" y="4797360"/>
            <a:ext cx="1512000" cy="1224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4" name="Прямая со стрелкой 16"/>
          <p:cNvCxnSpPr/>
          <p:nvPr/>
        </p:nvCxnSpPr>
        <p:spPr>
          <a:xfrm flipH="1">
            <a:off x="4715640" y="4797360"/>
            <a:ext cx="1585080" cy="1224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а 4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8 году в городском квартале проживало 40000 человек. В 2009 году, в результате строительства новых домов, число жителей выросло на 8%, а в 2010 году  — на 9% по сравнению с 2009 годом. Сколько человек стало проживать в квартале в 2010 год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м1-page0001.jpg"/>
          <p:cNvPicPr/>
          <p:nvPr/>
        </p:nvPicPr>
        <p:blipFill>
          <a:blip r:embed="rId1"/>
          <a:stretch/>
        </p:blipFill>
        <p:spPr>
          <a:xfrm>
            <a:off x="468360" y="3357720"/>
            <a:ext cx="8244000" cy="29336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5"/>
          <p:cNvCxnSpPr/>
          <p:nvPr/>
        </p:nvCxnSpPr>
        <p:spPr>
          <a:xfrm flipV="1">
            <a:off x="250560" y="3572640"/>
            <a:ext cx="1080" cy="252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Прямая со стрелкой 7"/>
          <p:cNvCxnSpPr/>
          <p:nvPr/>
        </p:nvCxnSpPr>
        <p:spPr>
          <a:xfrm flipV="1">
            <a:off x="8892720" y="3499560"/>
            <a:ext cx="1080" cy="273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ение задачи 4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перь нужно найти 9% от количества человек в 2009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у1-page0001.jpg"/>
          <p:cNvPicPr/>
          <p:nvPr/>
        </p:nvPicPr>
        <p:blipFill>
          <a:blip r:embed="rId1"/>
          <a:stretch/>
        </p:blipFill>
        <p:spPr>
          <a:xfrm>
            <a:off x="179280" y="2421000"/>
            <a:ext cx="8785440" cy="3144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11"/>
          <p:cNvCxnSpPr/>
          <p:nvPr/>
        </p:nvCxnSpPr>
        <p:spPr>
          <a:xfrm flipV="1">
            <a:off x="8964360" y="2707560"/>
            <a:ext cx="1080" cy="252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" name="Прямая со стрелкой 14"/>
          <p:cNvCxnSpPr/>
          <p:nvPr/>
        </p:nvCxnSpPr>
        <p:spPr>
          <a:xfrm flipV="1">
            <a:off x="178920" y="2707920"/>
            <a:ext cx="1080" cy="266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ктуальность работ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, шестиклассникам, в будущем предстоит сдавать выпускные экзамены по математике - ОГЭ и  ЕГЭ. Математика – это дисциплина, которая необходима при поступлении во многие вузы. Поэтому очень важно сейчас, пока мы еще только осваиваем этот предмет, разобраться  с возникающими проблемами. Не нужно накапливать материал, который непонятен, плохо усвоен. Потому что, все, с чем мы не разобрались сегодня, усложнит сдачу ЕГЭ завт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ктуальность работ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чень часто у учеников возникают проблемы с решением задач на смеси и растворы. Трудности возникают  по ряду причин. К основным из них можно отнести следующ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сложность подачи материала в учебника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) незнание правил, формул, теоре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непонимание или забытый материал, который из среднего звена переносится сразу в 10 и 11 клас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и на смеси, растворы и проценты, в помощь сдающим ЕГЭ и ОГЭ 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ь 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шение задач на смеси, растворы и проц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дач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Рассмотреть задачи на смеси, растворы и проце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Научиться решать задачи на смеси, растворы и проце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лгоритм решения задач оформит в виде таблицы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765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шали 3 литра 10% водного раствора некоторого вещества с 12 литрами 5% водного раствора этого же вещества. Сколько процентов составляет концентрация получившегося раств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ы1-page0001.jpg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ение задачи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чала работаем по горизонтали с первыми двумя строч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работаем по вертикали с первой и третьей колонко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ы2-page0001.jpg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38472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5"/>
          <p:cNvCxnSpPr/>
          <p:nvPr/>
        </p:nvCxnSpPr>
        <p:spPr>
          <a:xfrm>
            <a:off x="2339640" y="4581000"/>
            <a:ext cx="4609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2410920" y="5157360"/>
            <a:ext cx="4537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0"/>
          <p:cNvCxnSpPr/>
          <p:nvPr/>
        </p:nvCxnSpPr>
        <p:spPr>
          <a:xfrm>
            <a:off x="3203280" y="4365360"/>
            <a:ext cx="1080" cy="165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2"/>
          <p:cNvCxnSpPr/>
          <p:nvPr/>
        </p:nvCxnSpPr>
        <p:spPr>
          <a:xfrm>
            <a:off x="7811640" y="4437000"/>
            <a:ext cx="1080" cy="14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14"/>
          <p:cNvCxnSpPr/>
          <p:nvPr/>
        </p:nvCxnSpPr>
        <p:spPr>
          <a:xfrm>
            <a:off x="4787640" y="4436640"/>
            <a:ext cx="1585080" cy="1585080"/>
          </a:xfrm>
          <a:prstGeom prst="straightConnector1">
            <a:avLst/>
          </a:prstGeom>
          <a:ln w="2844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" name="Прямая со стрелкой 16"/>
          <p:cNvCxnSpPr/>
          <p:nvPr/>
        </p:nvCxnSpPr>
        <p:spPr>
          <a:xfrm flipH="1">
            <a:off x="4716000" y="4436640"/>
            <a:ext cx="1656720" cy="1585080"/>
          </a:xfrm>
          <a:prstGeom prst="straightConnector1">
            <a:avLst/>
          </a:prstGeom>
          <a:ln w="2844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шали некоторое количество 13% раствора некоторого вещества с таким же количеством 17% раствора этого вещества. Сколько процентов составляет концентрация получившегося раств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в1-page0001.jpg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шение задачи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836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чала работаем по горизонтали с первыми двумя строч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работаем по вертикали с первой и третьей колонко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в2-page0001.jpg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67344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5"/>
          <p:cNvCxnSpPr/>
          <p:nvPr/>
        </p:nvCxnSpPr>
        <p:spPr>
          <a:xfrm>
            <a:off x="2410920" y="5013000"/>
            <a:ext cx="504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Прямая со стрелкой 7"/>
          <p:cNvCxnSpPr/>
          <p:nvPr/>
        </p:nvCxnSpPr>
        <p:spPr>
          <a:xfrm>
            <a:off x="2410920" y="5805000"/>
            <a:ext cx="496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>
            <a:off x="3203280" y="4797360"/>
            <a:ext cx="1080" cy="14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7884720" y="4797360"/>
            <a:ext cx="1080" cy="14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Прямая со стрелкой 15"/>
          <p:cNvCxnSpPr/>
          <p:nvPr/>
        </p:nvCxnSpPr>
        <p:spPr>
          <a:xfrm>
            <a:off x="4787640" y="4723920"/>
            <a:ext cx="1585080" cy="15138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Прямая со стрелкой 17"/>
          <p:cNvCxnSpPr/>
          <p:nvPr/>
        </p:nvCxnSpPr>
        <p:spPr>
          <a:xfrm flipH="1">
            <a:off x="4642920" y="4723920"/>
            <a:ext cx="1658160" cy="15138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шали некоторое количество 15% раствора некоторого вещества с таким же количеством 1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створа этого вещества. Сколько процентов составляет концентрация получившегося раств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л1-page0001.jpg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ka</cp:lastModifiedBy>
  <dcterms:modified xsi:type="dcterms:W3CDTF">2016-02-21T15:34:27Z</dcterms:modified>
  <cp:revision>11</cp:revision>
  <dc:subject/>
  <dc:title>«Задачи на смеси, растворы и проценты, в помощь сдающим ЕГЭ и ОГЭ »   </dc:title>
</cp:coreProperties>
</file>