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8.jpeg" ContentType="image/jpeg"/>
  <Override PartName="/ppt/media/image20.png" ContentType="image/png"/>
  <Override PartName="/ppt/media/image18.jpeg" ContentType="image/jpeg"/>
  <Override PartName="/ppt/media/image15.png" ContentType="image/png"/>
  <Override PartName="/ppt/media/image19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74D-5229-447F-A45B-7B9F18DB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A32F-C4FF-488E-AA24-3D5F0ED6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1052-1FE4-41F2-9F49-E7505E33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F33C-3C04-4963-8A85-C3A3F964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1D9A-B544-403A-9D91-5570B68D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7C9E-C12C-4D52-9D7B-C5B339EE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8C13-AB93-442C-A0E4-F5141789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A34A-7B61-4458-9C42-4DF72C02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CCCB-03B1-4190-BC93-23C95F20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6587-8AD3-4F6A-887C-22575B39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254F-FCE5-4868-8DA3-52080D03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7FA9-B5B6-4DC2-9AF7-7FB0F8BA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E66F-CCAE-47BA-A643-3177E622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96F8-4E60-4785-B437-CD063421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1796-D2CF-4B55-9D4F-EA1313EE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69E3-B4C8-48AA-B341-C3DFE217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EB05-2F43-4AC4-85EB-93642DB6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BCA4D-EC70-4AB9-B74B-57A4F36F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E5A12-556B-428A-BCB6-2F00E7CF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5BF3F-6448-4718-9A9E-3DE87D87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7E4A4-AB85-4C8C-8175-50C105B1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8BF97-7CD9-4EDB-8DEF-A905AFC1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C9DF-5434-49AA-A8AB-250BCF73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61DAA-6826-4110-907A-BB40ACD6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FC334-A7DF-41C9-A415-8CFC5DFA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3D384-0A84-40F9-953A-B6E952DB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420C7-5F8F-4080-805D-76156C86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7BA24-8A18-4571-BCC8-FAE0FC4D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DDCCF-C56D-41DC-8511-3FE8DFD9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686E3-2C5C-41C5-A2BC-21CC69DC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B0EC5-8CB0-4AD8-B54A-4B1CFC3B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0CAC6-8D4E-426B-83FE-C7D37ED0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5968D-0E52-4F29-B6D5-6941264E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810-6880-4066-8062-BE5AD743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AF39D-1B67-49B9-B2ED-ECC28DD0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D63E8-7A49-4D43-A0FA-08B52FB7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475F9-1D3C-455C-A630-E0964D0E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ACA13-4D5E-4B6D-90E3-8717710F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A8D45-D365-44E8-A0D8-5CB2AD9F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233D4-35D3-4B81-ABCD-05E83B45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61C93-C732-4DEB-88DD-533F412A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74104-2DA0-4856-B2B2-F93799BD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5EFDD-DC7A-4103-9AC5-EF68B8E7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A4FDC-703B-4E4A-B1A6-3A262EA3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D483-8CD5-4970-9034-B2141487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7FFB6-95DF-4857-B1C0-EAA6855C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A1063-7B3F-4521-8436-F72AEF58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7C346-9065-447F-A335-A0739850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C6668-D85E-44F2-97F7-0E537600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DFA4C-B914-4A53-9B41-75B59D6A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A6892-C1A0-4EAA-A725-08E72474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D33B9-BED4-45F1-9112-7FE58690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48155-B86E-4A41-905D-D891C263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3A4AB-05A4-45DD-A3AD-62C19265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D2E81-C266-4CF0-9281-74131672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0611-FE6A-4AFA-8000-DEB0EF6C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6E774-114C-4C70-9EEE-0D65EE2F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19A2-9C2B-46E0-83AC-588E6F11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F82-E8FD-4363-8798-120A4391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F6C-480A-474E-8281-77FE7F0C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672E-8FE3-47D0-BFFF-09A9C4E535D6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9E5F-E8CA-47E2-99B8-1275E7E7CBC3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D68A-860E-4900-8FF0-FC528626689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1DE1-DAF0-4DE3-89D3-BB6E8E48C04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B7BB-6C70-4A8A-AAAA-30A509E1BF75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img-fotki.yandex.ru/get/5643/35636871.7e/0_7505d_dadd8442_L.jpeg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4065480" y="493560"/>
            <a:ext cx="4657680" cy="2799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071960" y="4142880"/>
            <a:ext cx="4929120" cy="2000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cc5db"/>
                </a:solidFill>
                <a:latin typeface="Trebuchet MS"/>
              </a:rPr>
              <a:t>Разработала педагог дополнительного образования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cc5db"/>
                </a:solidFill>
                <a:latin typeface="Trebuchet MS"/>
              </a:rPr>
              <a:t>МБУ ДО «ДДТ Нижегородского района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cc5db"/>
                </a:solidFill>
                <a:latin typeface="Trebuchet MS"/>
              </a:rPr>
              <a:t>Фильченкова Елена Сергеевн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cc5db"/>
                </a:solidFill>
                <a:latin typeface="Trebuchet MS"/>
              </a:rPr>
              <a:t>Нижний Новгород, 2017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Рисунок 3" descr="48feb01a0ee8f3c2ee480e0caed0f715.jpg"/>
          <p:cNvPicPr/>
          <p:nvPr/>
        </p:nvPicPr>
        <p:blipFill>
          <a:blip r:embed="rId2"/>
          <a:stretch/>
        </p:blipFill>
        <p:spPr>
          <a:xfrm>
            <a:off x="357120" y="1143000"/>
            <a:ext cx="32860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00360" y="2999880"/>
            <a:ext cx="1571400" cy="207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ff0000"/>
              </a:solidFill>
              <a:latin typeface="Cambria"/>
            </a:endParaRPr>
          </a:p>
        </p:txBody>
      </p:sp>
      <p:pic>
        <p:nvPicPr>
          <p:cNvPr id="254" name="Рисунок 24" descr="http://wlooks.ru/images/article/cropped/220-308/2017/02/folklornyj-stil-v-odezhde-24.jpg"/>
          <p:cNvPicPr/>
          <p:nvPr/>
        </p:nvPicPr>
        <p:blipFill>
          <a:blip r:embed="rId1"/>
          <a:stretch/>
        </p:blipFill>
        <p:spPr>
          <a:xfrm>
            <a:off x="6286680" y="3357720"/>
            <a:ext cx="2212920" cy="3097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D:\презентации\фольклорный стиль\8dd4f8912c1fc709e3dd5d4994b987a5.jpg"/>
          <p:cNvPicPr/>
          <p:nvPr/>
        </p:nvPicPr>
        <p:blipFill>
          <a:blip r:embed="rId2"/>
          <a:stretch/>
        </p:blipFill>
        <p:spPr>
          <a:xfrm>
            <a:off x="3857760" y="1571760"/>
            <a:ext cx="2643120" cy="39607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5"/>
          <p:cNvSpPr/>
          <p:nvPr/>
        </p:nvSpPr>
        <p:spPr>
          <a:xfrm>
            <a:off x="500040" y="1785960"/>
            <a:ext cx="357192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Вышивк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Аппликация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Вязк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Лоскутная техник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Пле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D:\презентации\фольклорный стиль\цуепр.jpg"/>
          <p:cNvPicPr/>
          <p:nvPr/>
        </p:nvPicPr>
        <p:blipFill>
          <a:blip r:embed="rId3"/>
          <a:stretch/>
        </p:blipFill>
        <p:spPr>
          <a:xfrm>
            <a:off x="6500880" y="642960"/>
            <a:ext cx="2000160" cy="272412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7"/>
          <p:cNvSpPr/>
          <p:nvPr/>
        </p:nvSpPr>
        <p:spPr>
          <a:xfrm>
            <a:off x="642960" y="500040"/>
            <a:ext cx="609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mbria"/>
              </a:rPr>
              <a:t>Оригинальность отдел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396720" y="281160"/>
            <a:ext cx="7309080" cy="652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D:\презентации\фольклорный стиль\40.jpg"/>
          <p:cNvPicPr/>
          <p:nvPr/>
        </p:nvPicPr>
        <p:blipFill>
          <a:blip r:embed="rId2"/>
          <a:stretch/>
        </p:blipFill>
        <p:spPr>
          <a:xfrm>
            <a:off x="2809800" y="1214280"/>
            <a:ext cx="2097000" cy="3143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D:\презентации\фольклорный стиль\27.jpg"/>
          <p:cNvPicPr/>
          <p:nvPr/>
        </p:nvPicPr>
        <p:blipFill>
          <a:blip r:embed="rId3"/>
          <a:stretch/>
        </p:blipFill>
        <p:spPr>
          <a:xfrm>
            <a:off x="5762520" y="3643200"/>
            <a:ext cx="2000520" cy="3000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D:\презентации\фольклорный стиль\61.jpg"/>
          <p:cNvPicPr/>
          <p:nvPr/>
        </p:nvPicPr>
        <p:blipFill>
          <a:blip r:embed="rId4"/>
          <a:stretch/>
        </p:blipFill>
        <p:spPr>
          <a:xfrm>
            <a:off x="5786280" y="642960"/>
            <a:ext cx="1992600" cy="3000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D:\презентации\фольклорный стиль\106032016.jpg"/>
          <p:cNvPicPr/>
          <p:nvPr/>
        </p:nvPicPr>
        <p:blipFill>
          <a:blip r:embed="rId5"/>
          <a:stretch/>
        </p:blipFill>
        <p:spPr>
          <a:xfrm>
            <a:off x="642960" y="1214280"/>
            <a:ext cx="2190600" cy="3143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D:\презентации\фольклорный стиль\вапм.jpg"/>
          <p:cNvPicPr/>
          <p:nvPr/>
        </p:nvPicPr>
        <p:blipFill>
          <a:blip r:embed="rId6"/>
          <a:stretch/>
        </p:blipFill>
        <p:spPr>
          <a:xfrm>
            <a:off x="1714680" y="4643280"/>
            <a:ext cx="1523880" cy="20196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D:\презентации\фольклорный стиль\ывверп.jpg"/>
          <p:cNvPicPr/>
          <p:nvPr/>
        </p:nvPicPr>
        <p:blipFill>
          <a:blip r:embed="rId7"/>
          <a:stretch/>
        </p:blipFill>
        <p:spPr>
          <a:xfrm>
            <a:off x="3214800" y="4643280"/>
            <a:ext cx="1806480" cy="20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285840" y="463680"/>
            <a:ext cx="7419960" cy="542880"/>
          </a:xfrm>
          <a:prstGeom prst="rect">
            <a:avLst/>
          </a:prstGeom>
          <a:ln w="0">
            <a:noFill/>
          </a:ln>
        </p:spPr>
      </p:pic>
      <p:pic>
        <p:nvPicPr>
          <p:cNvPr id="267" name="Содержимое 9" descr="Рабочий1.jpg"/>
          <p:cNvPicPr/>
          <p:nvPr/>
        </p:nvPicPr>
        <p:blipFill>
          <a:blip r:embed="rId2"/>
          <a:stretch/>
        </p:blipFill>
        <p:spPr>
          <a:xfrm>
            <a:off x="1000080" y="1357200"/>
            <a:ext cx="614700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6890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218960"/>
            <a:ext cx="723888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600" spc="-1" strike="noStrike">
                <a:solidFill>
                  <a:srgbClr val="c00000"/>
                </a:solidFill>
                <a:latin typeface="Cambria"/>
              </a:rPr>
              <a:t>это стиль, вобравший в себя элементы национальных костюмов практически со всего мира и соединивший их в цело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mbria"/>
              </a:rPr>
              <a:t>    </a:t>
            </a:r>
            <a:r>
              <a:rPr b="1" lang="ru-RU" sz="2600" spc="-1" strike="noStrike">
                <a:solidFill>
                  <a:srgbClr val="c00000"/>
                </a:solidFill>
                <a:latin typeface="Cambria"/>
              </a:rPr>
              <a:t>Фольклорный стиль сегодня – это заимствование не только приемов декоративного оформления одежды – отделок, вышивок, но и элементов и способов кроя, форм и предметов одежды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450720" y="396720"/>
            <a:ext cx="7255080" cy="1395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228240" y="1571760"/>
            <a:ext cx="7467480" cy="48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mbria"/>
              </a:rPr>
              <a:t>Стилистика национального костюм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mbria"/>
              </a:rPr>
              <a:t>                                   </a:t>
            </a:r>
            <a:r>
              <a:rPr b="1" lang="ru-RU" sz="2600" spc="-1" strike="noStrike">
                <a:solidFill>
                  <a:srgbClr val="c00000"/>
                </a:solidFill>
                <a:latin typeface="Cambria"/>
              </a:rPr>
              <a:t>18-19вв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4" descr="D:\презентации\фольклорный стиль\af7107ac24c92491f75e5d39a3b8132f--russian-folk-russian-style.jpg"/>
          <p:cNvPicPr/>
          <p:nvPr/>
        </p:nvPicPr>
        <p:blipFill>
          <a:blip r:embed="rId2"/>
          <a:stretch/>
        </p:blipFill>
        <p:spPr>
          <a:xfrm>
            <a:off x="304920" y="2209680"/>
            <a:ext cx="2090520" cy="38131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9" descr="1390243036_3.jpg"/>
          <p:cNvPicPr/>
          <p:nvPr/>
        </p:nvPicPr>
        <p:blipFill>
          <a:blip r:embed="rId3"/>
          <a:stretch/>
        </p:blipFill>
        <p:spPr>
          <a:xfrm>
            <a:off x="4876920" y="2209680"/>
            <a:ext cx="2890800" cy="33292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10" descr="sgfjn.jpg"/>
          <p:cNvPicPr/>
          <p:nvPr/>
        </p:nvPicPr>
        <p:blipFill>
          <a:blip r:embed="rId4"/>
          <a:stretch/>
        </p:blipFill>
        <p:spPr>
          <a:xfrm>
            <a:off x="2666880" y="2971800"/>
            <a:ext cx="1828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047600"/>
          </a:xfrm>
          <a:prstGeom prst="rect">
            <a:avLst/>
          </a:prstGeom>
          <a:ln w="0">
            <a:noFill/>
          </a:ln>
        </p:spPr>
      </p:pic>
      <p:pic>
        <p:nvPicPr>
          <p:cNvPr id="231" name="Содержимое 3" descr="3.jpg"/>
          <p:cNvPicPr/>
          <p:nvPr/>
        </p:nvPicPr>
        <p:blipFill>
          <a:blip r:embed="rId2"/>
          <a:stretch/>
        </p:blipFill>
        <p:spPr>
          <a:xfrm>
            <a:off x="739800" y="1752480"/>
            <a:ext cx="6499080" cy="403884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4"/>
          <p:cNvSpPr/>
          <p:nvPr/>
        </p:nvSpPr>
        <p:spPr>
          <a:xfrm>
            <a:off x="457200" y="60199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Всемирная выставка, Париж 19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85840" y="225360"/>
            <a:ext cx="7419960" cy="1152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mbria"/>
              </a:rPr>
              <a:t>Мода хипп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Рисунок 4" descr="sixty_318.jpg"/>
          <p:cNvPicPr/>
          <p:nvPr/>
        </p:nvPicPr>
        <p:blipFill>
          <a:blip r:embed="rId2"/>
          <a:stretch/>
        </p:blipFill>
        <p:spPr>
          <a:xfrm>
            <a:off x="533520" y="2286000"/>
            <a:ext cx="2590560" cy="38401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6" descr="1453711778_5.png"/>
          <p:cNvPicPr/>
          <p:nvPr/>
        </p:nvPicPr>
        <p:blipFill>
          <a:blip r:embed="rId3"/>
          <a:stretch/>
        </p:blipFill>
        <p:spPr>
          <a:xfrm>
            <a:off x="5943600" y="1143000"/>
            <a:ext cx="1901880" cy="23893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7" descr="02-74.jpg"/>
          <p:cNvPicPr/>
          <p:nvPr/>
        </p:nvPicPr>
        <p:blipFill>
          <a:blip r:embed="rId4"/>
          <a:stretch/>
        </p:blipFill>
        <p:spPr>
          <a:xfrm>
            <a:off x="3733920" y="3657600"/>
            <a:ext cx="41148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25360" y="444600"/>
            <a:ext cx="7400880" cy="169524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http://img-fotki.yandex.ru/get/5643/35636871.7e/0_7505d_dadd8442_L.jpe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3657600"/>
            <a:ext cx="3048120" cy="2827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Yves Saint Laurent"/>
          <p:cNvPicPr/>
          <p:nvPr/>
        </p:nvPicPr>
        <p:blipFill>
          <a:blip r:embed="rId4"/>
          <a:stretch/>
        </p:blipFill>
        <p:spPr>
          <a:xfrm>
            <a:off x="228600" y="1981080"/>
            <a:ext cx="44956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632720" cy="19018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6840" y="1500120"/>
            <a:ext cx="75438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c00000"/>
                </a:solidFill>
                <a:uFillTx/>
                <a:latin typeface="Cambria"/>
              </a:rPr>
              <a:t>Натуральность тканей и материал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Рисунок 27" descr="http://wlooks.ru/images/article/thumb/450-0/2017/02/folklornyj-stil-v-odezhde-27.jpg"/>
          <p:cNvPicPr/>
          <p:nvPr/>
        </p:nvPicPr>
        <p:blipFill>
          <a:blip r:embed="rId2"/>
          <a:stretch/>
        </p:blipFill>
        <p:spPr>
          <a:xfrm>
            <a:off x="642960" y="2357280"/>
            <a:ext cx="4802040" cy="3357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D:\презентации\фольклорный стиль\8Ethnic-style.jpg"/>
          <p:cNvPicPr/>
          <p:nvPr/>
        </p:nvPicPr>
        <p:blipFill>
          <a:blip r:embed="rId3"/>
          <a:stretch/>
        </p:blipFill>
        <p:spPr>
          <a:xfrm>
            <a:off x="5429160" y="2357280"/>
            <a:ext cx="2286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85560" y="2857320"/>
            <a:ext cx="2857320" cy="257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c00000"/>
              </a:solidFill>
              <a:latin typeface="Cambr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428400"/>
            <a:ext cx="72388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c00000"/>
                </a:solidFill>
                <a:uFillTx/>
                <a:latin typeface="Cambria"/>
              </a:rPr>
              <a:t>Красочный или естественный цвет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c00000"/>
                </a:solidFill>
                <a:uFillTx/>
                <a:latin typeface="Cambria"/>
              </a:rPr>
              <a:t>геометрический и цветочный рисунок в одежд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5" descr="D:\презентации\фольклорный стиль\974a056aa2e0bb9888133ea9c4c0c999.jpg"/>
          <p:cNvPicPr/>
          <p:nvPr/>
        </p:nvPicPr>
        <p:blipFill>
          <a:blip r:embed="rId1"/>
          <a:stretch/>
        </p:blipFill>
        <p:spPr>
          <a:xfrm>
            <a:off x="4714920" y="2065320"/>
            <a:ext cx="3143160" cy="42926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6" descr="http://www.matrony.ru/wp-content/uploads/image00128.jpg"/>
          <p:cNvPicPr/>
          <p:nvPr/>
        </p:nvPicPr>
        <p:blipFill>
          <a:blip r:embed="rId2"/>
          <a:stretch/>
        </p:blipFill>
        <p:spPr>
          <a:xfrm>
            <a:off x="714240" y="2500200"/>
            <a:ext cx="36435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142800" y="3571560"/>
            <a:ext cx="1785960" cy="207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c00000"/>
              </a:solidFill>
              <a:latin typeface="Cambr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928520" y="2786040"/>
            <a:ext cx="314316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Прямоугольник 4"/>
          <p:cNvSpPr/>
          <p:nvPr/>
        </p:nvSpPr>
        <p:spPr>
          <a:xfrm>
            <a:off x="714240" y="500040"/>
            <a:ext cx="700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mbria"/>
              </a:rPr>
              <a:t>Прямой или трапециевидный силуэ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2" descr="http://womanonly.ru/data/%D1%80%D0%B0%D0%B7%D0%BD%D0%BE%D0%B5/01-%D1%81%D0%B5%D0%BE/%D1%81%D1%82%D0%B8%D0%BB%D0%B8%20%D0%BE%D0%B4%D0%B5%D0%B6%D0%B4%D1%8B/%D1%85%D0%B8%D0%BF%D0%BF%D0%B8%20%D1%81%D1%82%D0%B8%D0%BB%D1%8C%202.jpg"/>
          <p:cNvPicPr/>
          <p:nvPr/>
        </p:nvPicPr>
        <p:blipFill>
          <a:blip r:embed="rId1"/>
          <a:stretch/>
        </p:blipFill>
        <p:spPr>
          <a:xfrm>
            <a:off x="428760" y="1571760"/>
            <a:ext cx="73166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4T14:03:24Z</dcterms:created>
  <dc:creator>Lera</dc:creator>
  <dc:description/>
  <dc:language>en-US</dc:language>
  <cp:lastModifiedBy>Lera</cp:lastModifiedBy>
  <dcterms:modified xsi:type="dcterms:W3CDTF">2018-01-09T17:35:37Z</dcterms:modified>
  <cp:revision>42</cp:revision>
  <dc:subject/>
  <dc:title>Фольклорные элементы  в современном костюме </dc:title>
</cp:coreProperties>
</file>