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5B6-3350-4C40-886A-F0AD1557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158-FA1E-47D0-807B-B7BB77E7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452-4D65-4281-9E79-588D48AE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120-EFC9-4004-9065-928573EE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7C5-1CA0-467D-9947-BAC6B17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0665-1E43-4BAA-9266-418281B4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D46A-E321-468C-B8FF-6BC84721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64F-6F09-4CAB-B066-A2EBF2E5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132C-B0B8-4F94-8F7B-03BC8F3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CDCD-CC3A-4386-9609-C9F6E1C1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A828-E9E8-479A-82BF-C84784B6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36B-B929-412F-9D99-C0C93B0C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9841-E126-475E-86E9-E97365A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6AEF-B658-4ACC-9ABA-29E617E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01E-4029-46D7-B727-660C2C3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2CE1-A0D3-44B4-8E32-FE2F4BE5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811A-66C2-4C85-9053-40528886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E50-6B8A-4E8C-A15A-95455FEA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D9B-BD77-400B-AC65-0F2132B1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537-81C2-4C26-9DCC-DFA64CA6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326-1311-45B2-B80A-3A057A0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805-4DD6-4784-833E-1D0B73C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0ED-78DA-4BAF-A8CA-CA09C0E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933-5630-4D6E-B406-A9D74BE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8BF-08AD-41A7-8B9A-4D6922D76A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6753-42E9-4629-9163-6547AD17C9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6"/>
          <p:cNvSpPr txBox="1"/>
          <p:nvPr/>
        </p:nvSpPr>
        <p:spPr>
          <a:xfrm>
            <a:off x="1042920" y="2205000"/>
            <a:ext cx="6769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ОЛОТАЯ ХОХЛОМ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Рисунок 2" descr=""/>
          <p:cNvPicPr/>
          <p:nvPr/>
        </p:nvPicPr>
        <p:blipFill>
          <a:blip r:embed="rId1"/>
          <a:stretch/>
        </p:blipFill>
        <p:spPr>
          <a:xfrm>
            <a:off x="755640" y="70164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6440400" y="6444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9.jpg"/>
          <p:cNvPicPr/>
          <p:nvPr/>
        </p:nvPicPr>
        <p:blipFill>
          <a:blip r:embed="rId3"/>
          <a:stretch/>
        </p:blipFill>
        <p:spPr>
          <a:xfrm>
            <a:off x="531720" y="3573360"/>
            <a:ext cx="2428920" cy="2570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8.jpg"/>
          <p:cNvPicPr/>
          <p:nvPr/>
        </p:nvPicPr>
        <p:blipFill>
          <a:blip r:embed="rId4"/>
          <a:stretch/>
        </p:blipFill>
        <p:spPr>
          <a:xfrm>
            <a:off x="3321000" y="1359000"/>
            <a:ext cx="2286000" cy="3740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8" descr="14.jpg"/>
          <p:cNvPicPr/>
          <p:nvPr/>
        </p:nvPicPr>
        <p:blipFill>
          <a:blip r:embed="rId5"/>
          <a:stretch/>
        </p:blipFill>
        <p:spPr>
          <a:xfrm>
            <a:off x="5897520" y="3986280"/>
            <a:ext cx="3000240" cy="217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Рисунок 7" descr="2.jpg"/>
          <p:cNvPicPr/>
          <p:nvPr/>
        </p:nvPicPr>
        <p:blipFill>
          <a:blip r:embed="rId1"/>
          <a:stretch/>
        </p:blipFill>
        <p:spPr>
          <a:xfrm>
            <a:off x="539640" y="1125360"/>
            <a:ext cx="3643560" cy="4658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3.jpg"/>
          <p:cNvPicPr/>
          <p:nvPr/>
        </p:nvPicPr>
        <p:blipFill>
          <a:blip r:embed="rId2"/>
          <a:stretch/>
        </p:blipFill>
        <p:spPr>
          <a:xfrm>
            <a:off x="4932360" y="1160640"/>
            <a:ext cx="3500280" cy="4703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712800" y="503280"/>
            <a:ext cx="7574040" cy="568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Рисунок 2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247920" cy="48798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755640" y="304920"/>
            <a:ext cx="2730600" cy="609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572000" cy="3067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906720" cy="2927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>
            <a:off x="539640" y="557280"/>
            <a:ext cx="3808440" cy="38066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" descr=""/>
          <p:cNvPicPr/>
          <p:nvPr/>
        </p:nvPicPr>
        <p:blipFill>
          <a:blip r:embed="rId2"/>
          <a:stretch/>
        </p:blipFill>
        <p:spPr>
          <a:xfrm>
            <a:off x="4603680" y="2492280"/>
            <a:ext cx="4000680" cy="36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255276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"/>
          <p:cNvPicPr/>
          <p:nvPr/>
        </p:nvPicPr>
        <p:blipFill>
          <a:blip r:embed="rId2"/>
          <a:stretch/>
        </p:blipFill>
        <p:spPr>
          <a:xfrm>
            <a:off x="3438360" y="2728800"/>
            <a:ext cx="5705640" cy="48484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"/>
          <p:cNvPicPr/>
          <p:nvPr/>
        </p:nvPicPr>
        <p:blipFill>
          <a:blip r:embed="rId3"/>
          <a:stretch/>
        </p:blipFill>
        <p:spPr>
          <a:xfrm>
            <a:off x="366840" y="193680"/>
            <a:ext cx="443844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4560840" cy="25574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/>
          <p:cNvPicPr/>
          <p:nvPr/>
        </p:nvPicPr>
        <p:blipFill>
          <a:blip r:embed="rId2"/>
          <a:stretch/>
        </p:blipFill>
        <p:spPr>
          <a:xfrm>
            <a:off x="2987640" y="301680"/>
            <a:ext cx="558000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743120" y="9810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484360" y="404640"/>
            <a:ext cx="484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промыс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8000" y="1268280"/>
            <a:ext cx="41036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олотая хохлома - яркое, самобытное явление русского народного декоративно-прикладного искусства. Этот традиционный художественный промысел имеет более чем трехсотлетнюю историю. Он возник в XVII столетии в Нижегородском Заволжье вблизи торгового села Хохло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8000" y="3789360"/>
            <a:ext cx="38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ревянная посуда была распространена на Руси с давних времен: деревянную ложку и миску можно было увидеть на столе у боярыни, в избе крестьянина и даже в царском обиходе. Красиво отделанная ложка или ковш считались настоящим подарк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9" descr="36"/>
          <p:cNvPicPr/>
          <p:nvPr/>
        </p:nvPicPr>
        <p:blipFill>
          <a:blip r:embed="rId1"/>
          <a:stretch/>
        </p:blipFill>
        <p:spPr>
          <a:xfrm>
            <a:off x="4500720" y="1341360"/>
            <a:ext cx="4073400" cy="5038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211640" y="558720"/>
            <a:ext cx="4714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ть такая красивая леген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Давным-давно поселился в лесу за Волгой веселый мужичок-умелец. Избу поставил, стол да лавку сладил, деревянную посуду вырезал. Варил себе пшенную кашу и птицам пшена не забывал насыпать. Прилетела к его порогу Жар-птица. Мужичок и ее угостил. Жар-птица задела крылом чашку с кашей и стала она золотой -  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Это, конечно, легенда. А на самом деле производство хохломской посуды дело очень нелегк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Жар-птица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765000"/>
            <a:ext cx="3614760" cy="547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5003640" y="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ген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1" descr="hbrat"/>
          <p:cNvPicPr/>
          <p:nvPr/>
        </p:nvPicPr>
        <p:blipFill>
          <a:blip r:embed="rId2"/>
          <a:srcRect l="12869" t="7833" r="6542" b="4185"/>
          <a:stretch/>
        </p:blipFill>
        <p:spPr>
          <a:xfrm>
            <a:off x="1908000" y="4978440"/>
            <a:ext cx="144000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med"/>
          <p:cNvPicPr/>
          <p:nvPr/>
        </p:nvPicPr>
        <p:blipFill>
          <a:blip r:embed="rId1"/>
          <a:stretch/>
        </p:blipFill>
        <p:spPr>
          <a:xfrm>
            <a:off x="1042920" y="692280"/>
            <a:ext cx="7416720" cy="5359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329_big"/>
          <p:cNvPicPr/>
          <p:nvPr/>
        </p:nvPicPr>
        <p:blipFill>
          <a:blip r:embed="rId1"/>
          <a:stretch/>
        </p:blipFill>
        <p:spPr>
          <a:xfrm>
            <a:off x="1979640" y="549360"/>
            <a:ext cx="5832360" cy="5775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92_big"/>
          <p:cNvPicPr/>
          <p:nvPr/>
        </p:nvPicPr>
        <p:blipFill>
          <a:blip r:embed="rId1"/>
          <a:stretch/>
        </p:blipFill>
        <p:spPr>
          <a:xfrm>
            <a:off x="1979640" y="333360"/>
            <a:ext cx="503712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xoxloma"/>
          <p:cNvPicPr/>
          <p:nvPr/>
        </p:nvPicPr>
        <p:blipFill>
          <a:blip r:embed="rId1"/>
          <a:stretch/>
        </p:blipFill>
        <p:spPr>
          <a:xfrm>
            <a:off x="395280" y="449280"/>
            <a:ext cx="8424720" cy="591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68360" y="573408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хломская роспись представляет собой растительный орнамент, составленный из небольшого числа мотивов, называемых «травкой», «ягодкой», «листком», «кудриной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816200" y="69228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042920" y="18900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цы росписи народные мастера заимствовали у природы, потому что они сами жили в местах богатых красотами лесов, трав, ягод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hbrat"/>
          <p:cNvPicPr/>
          <p:nvPr/>
        </p:nvPicPr>
        <p:blipFill>
          <a:blip r:embed="rId1"/>
          <a:srcRect l="0" t="3234" r="0" b="0"/>
          <a:stretch/>
        </p:blipFill>
        <p:spPr>
          <a:xfrm>
            <a:off x="1042920" y="1268280"/>
            <a:ext cx="6553440" cy="441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95280" y="30492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32200" cy="630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7:06:04Z</dcterms:created>
  <dc:creator>Учитель</dc:creator>
  <dc:description/>
  <dc:language>en-US</dc:language>
  <cp:lastModifiedBy>Дарья</cp:lastModifiedBy>
  <dcterms:modified xsi:type="dcterms:W3CDTF">2017-01-24T18:19:59Z</dcterms:modified>
  <cp:revision>19</cp:revision>
  <dc:subject/>
  <dc:title>Слайд 1</dc:title>
</cp:coreProperties>
</file>