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25F1-E1E9-4381-9229-CB3274AF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ACC8-1D77-441D-B506-6871F374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662A-56F7-4251-9701-FE3653DD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E0C-D59B-4293-B804-5B2842A8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1BAA-23D2-4F20-B20D-2FB3319E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00EA-7080-4C41-8ABA-B5D81AAC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AE15-2700-4DA2-BAF7-64F49E70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9B31-E10D-4E00-8EED-4202474D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DDC9-3879-44DB-9D41-B92A28D9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A93E-626A-442A-A02D-3C2375FB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40D9-6175-454B-B738-714099F5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E2BE-B403-4728-B20E-10E4F990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3222-8B2E-4B2B-811F-5F879A51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2BA8-3148-4262-B7F5-82CECAF7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8321-DD84-4302-8504-4FFE94F0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5E73-BC17-4545-B754-E02BDF3D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1993-0B06-4B77-8957-C69E44A4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A700-3E0F-4A06-BEA1-8D696152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F26-6764-4FFB-B767-7E18D5EF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9B0-2B10-4A0D-9D73-924867D9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87E-755D-4369-BACC-F9B87314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757-EF66-4D15-9F3D-33ECDE17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A3C-A2A3-487F-A14D-F8F40FD8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316-B7EE-4893-9A68-CAE66DBE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5569-0158-4AF2-8D6E-FD1362B6DC6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1587-BE7E-4539-AE01-51B540893CB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rtnow.ru/ru/gallery/200/4425/picture/0/324045.html?comments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748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Иконография Иисуса Хрис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80000" y="4581000"/>
            <a:ext cx="5364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: ученица 10 А класса Мухина Ан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ила: учитель МХК Курбакова И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3708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еликий Архиер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460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пас Великий Архиере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 — символическое изображение Христа в образе священни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Spas Arhierey Velikiy.jpg"/>
          <p:cNvPicPr/>
          <p:nvPr/>
        </p:nvPicPr>
        <p:blipFill>
          <a:blip r:embed="rId1"/>
          <a:stretch/>
        </p:blipFill>
        <p:spPr>
          <a:xfrm>
            <a:off x="5148360" y="1844640"/>
            <a:ext cx="3457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севидящее Ок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85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кона или группа икон, имеющая в центре Христа Пантократора, а справа и слева от него Богоматерь и Иоанна Крестителя, представленных в традиционном  жесте молитвенного заступничества. Основной догматический смысл деисусного чина — посредническая молитва, заступничество за род людской перед лицом грозного Небесного Царя и Суд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Eye of Providence (icon).jpg"/>
          <p:cNvPicPr/>
          <p:nvPr/>
        </p:nvPicPr>
        <p:blipFill>
          <a:blip r:embed="rId1"/>
          <a:stretch/>
        </p:blipFill>
        <p:spPr>
          <a:xfrm>
            <a:off x="4651200" y="1700280"/>
            <a:ext cx="4132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03280" y="0"/>
            <a:ext cx="54068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ahoma"/>
              </a:rPr>
              <a:t>Царь царей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 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24360" y="1628280"/>
            <a:ext cx="468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Царь царей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 — особый эпитет Христа, заимствованный из Апокалипсиса, а также иконографический тип, изображающий Иисуса Христа как «Царя царствующих и Господа господствующих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Tsar Tsarem (Palekh, 19 c.).jpg"/>
          <p:cNvPicPr/>
          <p:nvPr/>
        </p:nvPicPr>
        <p:blipFill>
          <a:blip r:embed="rId1"/>
          <a:stretch/>
        </p:blipFill>
        <p:spPr>
          <a:xfrm>
            <a:off x="395280" y="1773360"/>
            <a:ext cx="3282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280" y="304560"/>
            <a:ext cx="5838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ahoma"/>
              </a:rPr>
              <a:t>Спас Эммануи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51280" y="1773360"/>
            <a:ext cx="5292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Спас Эммануи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— иконографический тип, представляющий Христа в отроческом возрасте. Имя Эммануил присваивается любым изображениям Христа-отрока — как самостоятельным, так и в составе композиций икон Богородицы с Младенцем, Отечества, Собора Архангелов и д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Ushakov Christ Emmanuel.jpg"/>
          <p:cNvPicPr/>
          <p:nvPr/>
        </p:nvPicPr>
        <p:blipFill>
          <a:blip r:embed="rId1"/>
          <a:stretch/>
        </p:blipFill>
        <p:spPr>
          <a:xfrm>
            <a:off x="324000" y="2060640"/>
            <a:ext cx="3506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51280" y="304560"/>
            <a:ext cx="47592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Лоза Истинная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95280" y="1700280"/>
            <a:ext cx="514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Спас Лоза Истинна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— редкий иконографический тип, изображающий Христа. В ранних вариантах Христос окружён лозой, в ветвях которой изображены Богородица, Иоанн Предтеча. В более поздних вариантах усиливается евхаристическое содержание, на лозе, вырастающей в Спасителя изображена  виноградная гроздь, которую Христос отжимает в поти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Spas Loza Istinnaya ikona.jpg"/>
          <p:cNvPicPr/>
          <p:nvPr/>
        </p:nvPicPr>
        <p:blipFill>
          <a:blip r:embed="rId1"/>
          <a:stretch/>
        </p:blipFill>
        <p:spPr>
          <a:xfrm>
            <a:off x="324000" y="1628640"/>
            <a:ext cx="32162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03440" y="342720"/>
            <a:ext cx="69372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Канонический облик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5003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овом Завете многие воспринимают Христа как обычного человека, странника, сына простого плотника. Чаще всего Иисус Христос изображается с особым, свойственным только Ему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рестчатым нимбом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адиционные одежды Христа: нижняя — пурпурный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хито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 полосой —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лаво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а плече, верхняя  синий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иматий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81680" y="1268280"/>
            <a:ext cx="41623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одведём итог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конография Иисуса Христа наполнена символизмом и очень разнообразна. В целом православная иконопись знает более десяти характерных направлений в иконографии Иисуса Хри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1412640"/>
            <a:ext cx="7543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ahoma"/>
              </a:rPr>
              <a:t>Спасибо за внимание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763640" y="2889360"/>
            <a:ext cx="51134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304560"/>
            <a:ext cx="8281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История Иконограф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446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мые ранние христианские писатели не описывали внешность Иисуса Христа. В раннехристианские времена часто использовались изображения Христа в виде ягнёнка-агнца, пеликана (символ милосердия),дельфина (спаситель утопающих), рыбы- их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952720" cy="2273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30240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3421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Это интересно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493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Ветхом Завете запрещалось изображать чужих богов, а  также и самого Бога так как люди не видели Его Образа. Запрещалось давать волю своей фантазии и придумывать образ Бога, Которого никто не видел. Предание о создании первого портрета Иисуса Христа передал один из Отцов Церкви Иоанн Дамаск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80000" y="1557360"/>
            <a:ext cx="3313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История Иконограф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45370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лизкие традиционным иконописным образам изображения Христа известны уже по римским катакомбам. Своё развитие иконография Спасителя получила во фресках и мозаик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Феодор Метохит преподносит модель церкви Христу. Мозаика"/>
          <p:cNvPicPr/>
          <p:nvPr/>
        </p:nvPicPr>
        <p:blipFill>
          <a:blip r:embed="rId1"/>
          <a:stretch/>
        </p:blipFill>
        <p:spPr>
          <a:xfrm>
            <a:off x="4932360" y="1052640"/>
            <a:ext cx="3889440" cy="2809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Иисус Христос"/>
          <p:cNvPicPr/>
          <p:nvPr/>
        </p:nvPicPr>
        <p:blipFill>
          <a:blip r:embed="rId2"/>
          <a:stretch/>
        </p:blipFill>
        <p:spPr>
          <a:xfrm>
            <a:off x="5003640" y="4005360"/>
            <a:ext cx="367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История Иконограф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4859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иконописи первые сохранившиеся изображения известны с VI в., но  предание относит некоторые образы, например, Спас Нерукотворный к евангельским временам. На Русь иконы Христа попали из Византии, здесь выработались особые иконографические тип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624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пас Нерукотворны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19640" y="1980720"/>
            <a:ext cx="547344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Руси сложился особый вид Нерукотворного Образа — «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пас Мокрая брад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» — изображение, в котором борода Христа сходится в один тонкий конч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3419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32000" y="304560"/>
            <a:ext cx="5478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антократор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92000" y="1699920"/>
            <a:ext cx="56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седержител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антократ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центральный образ в иконографии Христа, представляющий Его как Небесного Царя и Судию. Спаситель может изображаться в рост, сидя на троне, по пояс, или огрудно. В левой руке свиток или Евангелие, правая обычно в благословляющем жесте. Образ Христа Вседержителя используется в одиночных иконах, в иконостасах, стенных росписях и т. д. Этот образ традиционно занимает пространство центрального купола православного храм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Isus od Zrze.jpg"/>
          <p:cNvPicPr/>
          <p:nvPr/>
        </p:nvPicPr>
        <p:blipFill>
          <a:blip r:embed="rId1"/>
          <a:stretch/>
        </p:blipFill>
        <p:spPr>
          <a:xfrm>
            <a:off x="250920" y="1844640"/>
            <a:ext cx="2968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7280" y="304560"/>
            <a:ext cx="74232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Ангел Великого совет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5040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Ангел Великого совет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— одно из символических именований Христа, заимствованное из Ветхого Завета. Послужило источником для особого типа изображения Христа в виде архангела с крылья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Christ Angel of Great Advice (Ochride).jpg"/>
          <p:cNvPicPr/>
          <p:nvPr/>
        </p:nvPicPr>
        <p:blipFill>
          <a:blip r:embed="rId1"/>
          <a:stretch/>
        </p:blipFill>
        <p:spPr>
          <a:xfrm>
            <a:off x="4932360" y="2205000"/>
            <a:ext cx="396072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Благое Молчание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4788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пас Благое Молчан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иконографический тип изображения Иисуса Христа, представляющий Его, в ангельском чине, в виде юноши с крыльями за спиной. Руки сложены крест-накрест и прижаты к груди. Нимб еще не крестчатый, а подобен восьмиконечной звезде(единственный иконографический тип изображения Христа с нимбом Господа Саваоф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Spas Blagoe Molchanie ikona.jpg"/>
          <p:cNvPicPr/>
          <p:nvPr/>
        </p:nvPicPr>
        <p:blipFill>
          <a:blip r:embed="rId1"/>
          <a:stretch/>
        </p:blipFill>
        <p:spPr>
          <a:xfrm>
            <a:off x="5102280" y="1916280"/>
            <a:ext cx="36129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9:35:47Z</dcterms:created>
  <dc:creator>acer</dc:creator>
  <dc:description/>
  <dc:language>en-US</dc:language>
  <cp:lastModifiedBy>acer</cp:lastModifiedBy>
  <dcterms:modified xsi:type="dcterms:W3CDTF">2014-02-06T12:44:03Z</dcterms:modified>
  <cp:revision>6</cp:revision>
  <dc:subject/>
  <dc:title>Иконография Иисуса Христа</dc:title>
</cp:coreProperties>
</file>