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926-36C0-4343-A760-FE3CB0ED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35C-2CA5-4E46-B8F5-7665FC77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CAD-0676-4EED-BCEC-96816AB3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EF7-CA72-41A7-A41C-0BC637AF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333E-966F-407C-9CC4-EAE6E892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8CA4-3C1C-4B1B-9071-8844F2E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8411-9E4B-4E7B-A64B-2344EFD5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986-531C-4A63-A779-88802DD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A17-6B2E-432E-9C2F-277F305E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5076-53EC-4BC5-9270-84FC2D1B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7AE-CA99-40AA-A897-4FD6810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D84-DF95-45EB-9C05-D4C5EA3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1B4-636D-4581-969E-42F562E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B69-484C-4CE2-BD07-2325AA7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E022-0AE5-4000-AFFC-C9C65A0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A719-3B4B-489B-9A98-F0B7F931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431E-98AB-4015-84F9-99CE9FD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A3F-582C-4E6E-8433-8E7674B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78B-C88C-4D89-B33D-64386C5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C5F-E556-4CFE-B8B0-10DCA73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618-11BD-4321-9564-518FCE4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F55-8C1B-4D7B-A719-B8DA6E9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402-840E-495E-937C-DE84BA4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8F2-A0CD-44B8-9A1B-B6A9BDB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3065-0F18-4D22-A47C-BA3F9042D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278B-A69E-49E6-8E2F-8FBDCD1B9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4;&#1077;&#1089;&#1103;&#1090;&#1080;&#1085;&#1085;&#1072;&#1103;_&#1094;&#1077;&#1088;&#1082;&#1086;&#1074;&#1100;" TargetMode="External"/><Relationship Id="rId3" Type="http://schemas.openxmlformats.org/officeDocument/2006/relationships/hyperlink" Target="https://ru.wikipedia.org/wiki/&#1050;&#1080;&#1077;&#1074;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7;&#1086;&#1092;&#1080;&#1081;&#1089;&#1082;&#1080;&#1081;_&#1089;&#1086;&#1073;&#1086;&#1088;_(&#1050;&#1080;&#1077;&#1074;)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2;&#1077;&#1083;&#1080;&#1082;&#1080;&#1081;_&#1053;&#1086;&#1074;&#1075;&#1086;&#1088;&#1086;&#1076;" TargetMode="External"/><Relationship Id="rId3" Type="http://schemas.openxmlformats.org/officeDocument/2006/relationships/hyperlink" Target="https://ru.wikipedia.org/wiki/1045" TargetMode="External"/><Relationship Id="rId4" Type="http://schemas.openxmlformats.org/officeDocument/2006/relationships/hyperlink" Target="https://ru.wikipedia.org/wiki/&#1053;&#1086;&#1074;&#1075;&#1086;&#1088;&#1086;&#1076;&#1089;&#1082;&#1072;&#1103;_&#1084;&#1080;&#1090;&#1088;&#1086;&#1087;&#1086;&#1083;&#1080;&#1103;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льтура Древней Ру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2924280"/>
            <a:ext cx="4032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тектура и зод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ой каменной церко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евской Руси бы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Десятинная церков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иев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то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носят к 989 году.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932360" y="1700280"/>
            <a:ext cx="36212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тектура и зод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офийский собо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в Киев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роенный в XI век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одним из са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читель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хитектур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ружений дан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и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Картинки по запросу софийский собор в киеве"/>
          <p:cNvPicPr/>
          <p:nvPr/>
        </p:nvPicPr>
        <p:blipFill>
          <a:blip r:embed="rId3"/>
          <a:stretch/>
        </p:blipFill>
        <p:spPr>
          <a:xfrm>
            <a:off x="4148280" y="2781360"/>
            <a:ext cx="49957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тектура и зод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о́р Свято́й Софи́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ый православ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ам 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еликого Новгор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ный в 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04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1050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федральный со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Новгородской митропол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Вид на Софийский собор"/>
          <p:cNvPicPr/>
          <p:nvPr/>
        </p:nvPicPr>
        <p:blipFill>
          <a:blip r:embed="rId5"/>
          <a:stretch/>
        </p:blipFill>
        <p:spPr>
          <a:xfrm>
            <a:off x="3911760" y="3370320"/>
            <a:ext cx="52322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тектура и зод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́рковь Покрова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Нерли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окаменный храм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 Владимирской об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а основания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65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Церковь Покрова на Нерли"/>
          <p:cNvPicPr/>
          <p:nvPr/>
        </p:nvPicPr>
        <p:blipFill>
          <a:blip r:embed="rId2"/>
          <a:stretch/>
        </p:blipFill>
        <p:spPr>
          <a:xfrm>
            <a:off x="5219640" y="1773360"/>
            <a:ext cx="35766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собенности Древнерусской культу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еразрывная связь красоты с поклонением. Главная цель – перекинуть мост от земного к небесн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Анонимность большинства памят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лабая связь с культурой Западной Евро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лькл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Картинки по запросу былины картинки"/>
          <p:cNvPicPr/>
          <p:nvPr/>
        </p:nvPicPr>
        <p:blipFill>
          <a:blip r:embed="rId2"/>
          <a:stretch/>
        </p:blipFill>
        <p:spPr>
          <a:xfrm>
            <a:off x="2670120" y="1628640"/>
            <a:ext cx="647388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лькл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ен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30600" y="2136600"/>
            <a:ext cx="6413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лькл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овицы и поговор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ПОСЛОВИЦЫ, ОТРАЗИВШИЕ ИСТОРИЧЕСКИЕ СОБЫТ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ЛОВИЦЫ, ОТРАЗИВШИЕ ЯЗЫЧЕСКИЕ ВЕРОВАНИЯ И ОБРЯД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ЛОВИЦЫ, КАСАЮЩИЕСЯ ХОЗЯЙСТВЕННЫХ ЗАНЯТИ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ЛОВИЦЫ, ОТРАЗИВШИЕ ХРИСТИАНСКИЕ ВЕ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ЛОВИЦЫ, ОТРАЗИВШИЕ СЕМЕЙНЫЙ БЫ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исьменность и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 и Мефод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00528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топи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весть време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3912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топи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ари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лово о Зако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Благодат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519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топи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адимир Моном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учение детя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Картинки по запросу"/>
          <p:cNvPicPr/>
          <p:nvPr/>
        </p:nvPicPr>
        <p:blipFill>
          <a:blip r:embed="rId2"/>
          <a:stretch/>
        </p:blipFill>
        <p:spPr>
          <a:xfrm>
            <a:off x="4788000" y="1844640"/>
            <a:ext cx="3591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07:29:42Z</dcterms:created>
  <dc:creator>1</dc:creator>
  <dc:description/>
  <dc:language>en-US</dc:language>
  <cp:lastModifiedBy>1</cp:lastModifiedBy>
  <dcterms:modified xsi:type="dcterms:W3CDTF">2016-12-04T08:20:52Z</dcterms:modified>
  <cp:revision>2</cp:revision>
  <dc:subject/>
  <dc:title>Культура Древней Руси</dc:title>
</cp:coreProperties>
</file>