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9AE-1C27-42EB-992A-42E56F0E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91A-3A73-4FA5-A359-5CDBD9B6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810-8127-4C1D-8245-C763A06C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4EE-7C83-4CF1-AD0E-5B9EBEA4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BD15-5F9B-4D94-A3F7-8BF79F34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6F4C-80FB-4CBE-98A7-A3AA1266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A1F9-612A-4AB6-B66A-B115A3A7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336A-FA72-4FBF-B0C5-99958805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CC8A-C47F-4EB9-B86F-18296D81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2092-3F0D-485C-9341-071D26F2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B057-9318-4A78-87BF-AA482A09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D01-0D74-43C5-BB14-2F48906A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F5C9-3ED3-4540-AD40-BCBC2438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9561-8BF9-4E70-90BE-041A7CA2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01B8-0FF2-4777-A30B-C89BB983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C21C-183B-4E96-A2FA-211FB2CA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77BE-74CA-4601-88B2-F4232BA8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FBC-411E-45BE-9A74-CFD503A6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760-300B-4E8C-A497-E66913DD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457-BF96-4513-BA78-F0481F1F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BB0-5853-401B-B3DB-4ED22FEB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1D1-08C3-4454-8CC3-02BB8E39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DFC-3DE3-4ADE-B261-745A75BB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139-940B-4E4A-9571-FE137740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114B-A081-4A56-8E7B-C577F56A2E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2A8E-504C-4DA8-AB30-77D76C504C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956360" cy="143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c1302"/>
                </a:solidFill>
                <a:latin typeface="Arial"/>
              </a:rPr>
              <a:t>Иван Иванович Шишкин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619280" y="2276280"/>
            <a:ext cx="5616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ЗО и МХ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В.Курба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Нижний Нов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«Школа №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На севере диком - Деталь: Сосна"/>
          <p:cNvPicPr/>
          <p:nvPr/>
        </p:nvPicPr>
        <p:blipFill>
          <a:blip r:embed="rId1"/>
          <a:stretch/>
        </p:blipFill>
        <p:spPr>
          <a:xfrm>
            <a:off x="7284960" y="2781360"/>
            <a:ext cx="1859040" cy="273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Березовая роща - Деталь: Белизна стволов"/>
          <p:cNvPicPr/>
          <p:nvPr/>
        </p:nvPicPr>
        <p:blipFill>
          <a:blip r:embed="rId2"/>
          <a:stretch/>
        </p:blipFill>
        <p:spPr>
          <a:xfrm>
            <a:off x="0" y="1989000"/>
            <a:ext cx="297648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Сестрорецкий бор - И.И. Шишкин - 800x600"/>
          <p:cNvPicPr/>
          <p:nvPr/>
        </p:nvPicPr>
        <p:blipFill>
          <a:blip r:embed="rId1"/>
          <a:stretch/>
        </p:blipFill>
        <p:spPr>
          <a:xfrm>
            <a:off x="539640" y="1484280"/>
            <a:ext cx="7345440" cy="5031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«Сестрорецкий бор»   1896</a:t>
            </a: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 г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«Прогулка в лесу» 1869 г</a:t>
            </a:r>
            <a:br>
              <a:rPr sz="2200"/>
            </a:b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75" name="Picture 6" descr="tprog"/>
          <p:cNvPicPr/>
          <p:nvPr/>
        </p:nvPicPr>
        <p:blipFill>
          <a:blip r:embed="rId1"/>
          <a:stretch/>
        </p:blipFill>
        <p:spPr>
          <a:xfrm>
            <a:off x="1116000" y="1341360"/>
            <a:ext cx="6473880" cy="517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470560" y="1125360"/>
            <a:ext cx="367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Полд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В окрестностях Москв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1869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tpolden"/>
          <p:cNvPicPr/>
          <p:nvPr/>
        </p:nvPicPr>
        <p:blipFill>
          <a:blip r:embed="rId1"/>
          <a:stretch/>
        </p:blipFill>
        <p:spPr>
          <a:xfrm>
            <a:off x="468360" y="233280"/>
            <a:ext cx="4968720" cy="66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«Вечер»  1871 г</a:t>
            </a:r>
            <a:br>
              <a:rPr sz="2200"/>
            </a:b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79" name="Picture 6" descr="tvech"/>
          <p:cNvPicPr/>
          <p:nvPr/>
        </p:nvPicPr>
        <p:blipFill>
          <a:blip r:embed="rId1"/>
          <a:stretch/>
        </p:blipFill>
        <p:spPr>
          <a:xfrm>
            <a:off x="324000" y="1700280"/>
            <a:ext cx="8508960" cy="42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465520" y="1196640"/>
            <a:ext cx="32209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К осе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1880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tautum"/>
          <p:cNvPicPr/>
          <p:nvPr/>
        </p:nvPicPr>
        <p:blipFill>
          <a:blip r:embed="rId1"/>
          <a:stretch/>
        </p:blipFill>
        <p:spPr>
          <a:xfrm>
            <a:off x="250920" y="168120"/>
            <a:ext cx="4681440" cy="668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          </a:t>
            </a: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«Рожь»         1878 г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3" name="Picture 6" descr="trohg"/>
          <p:cNvPicPr/>
          <p:nvPr/>
        </p:nvPicPr>
        <p:blipFill>
          <a:blip r:embed="rId1"/>
          <a:stretch/>
        </p:blipFill>
        <p:spPr>
          <a:xfrm>
            <a:off x="468360" y="1341360"/>
            <a:ext cx="762012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1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«Папоротники в бору.   Сиверская.» Этюд   1883 г</a:t>
            </a:r>
            <a:br>
              <a:rPr sz="3600"/>
            </a:b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5" name="Picture 6" descr="tpaporot"/>
          <p:cNvPicPr/>
          <p:nvPr/>
        </p:nvPicPr>
        <p:blipFill>
          <a:blip r:embed="rId1"/>
          <a:stretch/>
        </p:blipFill>
        <p:spPr>
          <a:xfrm>
            <a:off x="539640" y="177336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9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«Уголок заросшего сада. Сныть-трава»   1884 г</a:t>
            </a:r>
            <a:br>
              <a:rPr sz="3600"/>
            </a:b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7" name="Picture 6" descr="tsad84"/>
          <p:cNvPicPr/>
          <p:nvPr/>
        </p:nvPicPr>
        <p:blipFill>
          <a:blip r:embed="rId1"/>
          <a:stretch/>
        </p:blipFill>
        <p:spPr>
          <a:xfrm>
            <a:off x="395280" y="1700280"/>
            <a:ext cx="7620120" cy="42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Дубы. Вечер.  Этюд для картины «Дубовая роща»1887 г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9" name="Picture 6" descr="tdub87"/>
          <p:cNvPicPr/>
          <p:nvPr/>
        </p:nvPicPr>
        <p:blipFill>
          <a:blip r:embed="rId1"/>
          <a:stretch/>
        </p:blipFill>
        <p:spPr>
          <a:xfrm>
            <a:off x="468360" y="155736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«Лесные дали»   1884 г</a:t>
            </a:r>
            <a:br>
              <a:rPr sz="3600"/>
            </a:b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91" name="Picture 6" descr="tdali"/>
          <p:cNvPicPr/>
          <p:nvPr/>
        </p:nvPicPr>
        <p:blipFill>
          <a:blip r:embed="rId1"/>
          <a:stretch/>
        </p:blipFill>
        <p:spPr>
          <a:xfrm>
            <a:off x="324000" y="1125360"/>
            <a:ext cx="7848360" cy="55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5690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ru-RU" sz="3100" spc="-1" strike="noStrike">
                <a:solidFill>
                  <a:srgbClr val="7c1302"/>
                </a:solidFill>
                <a:latin typeface="Arial"/>
              </a:rPr>
              <a:t>                         </a:t>
            </a:r>
            <a:r>
              <a:rPr b="0" lang="ru-RU" sz="3100" spc="-1" strike="noStrike">
                <a:solidFill>
                  <a:srgbClr val="7c1302"/>
                </a:solidFill>
                <a:latin typeface="Arial"/>
              </a:rPr>
              <a:t>Иван Иванович Шишкин                            1                            (1832 - 1898)</a:t>
            </a:r>
            <a:br>
              <a:rPr sz="3100"/>
            </a:br>
            <a:endParaRPr b="1" lang="en-US" sz="31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22960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. Н. Крамской.«Портрет художника И. И. Шишкина». 188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"Шишкин - художник народный. Всю жизнь он изучал русский, преимущественно северный лес, русское дерево, русскую чащу, русскую глушь. Это его царство, и тут он не имеет соперников, он единственный."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. В. Стасов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Сестрорецкий бор - Деталь: Сосна - И. И. Шишкин"/>
          <p:cNvPicPr/>
          <p:nvPr/>
        </p:nvPicPr>
        <p:blipFill>
          <a:blip r:embed="rId1"/>
          <a:stretch/>
        </p:blipFill>
        <p:spPr>
          <a:xfrm>
            <a:off x="7164360" y="5229360"/>
            <a:ext cx="1428840" cy="1247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Иван Иванович Шишкин"/>
          <p:cNvPicPr/>
          <p:nvPr/>
        </p:nvPicPr>
        <p:blipFill>
          <a:blip r:embed="rId2"/>
          <a:stretch/>
        </p:blipFill>
        <p:spPr>
          <a:xfrm>
            <a:off x="324000" y="189000"/>
            <a:ext cx="24476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6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«Дождь в дубовом лесу» 1891 г</a:t>
            </a:r>
            <a:br>
              <a:rPr sz="3600"/>
            </a:b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93" name="Picture 6" descr="train"/>
          <p:cNvPicPr/>
          <p:nvPr/>
        </p:nvPicPr>
        <p:blipFill>
          <a:blip r:embed="rId1"/>
          <a:stretch/>
        </p:blipFill>
        <p:spPr>
          <a:xfrm>
            <a:off x="179280" y="1341360"/>
            <a:ext cx="8572680" cy="52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7c1302"/>
                </a:solidFill>
                <a:latin typeface="Arial"/>
              </a:rPr>
              <a:t>Цветы на опушке леса</a:t>
            </a:r>
            <a:br>
              <a:rPr sz="3500"/>
            </a:br>
            <a:r>
              <a:rPr b="1" lang="ru-RU" sz="3500" spc="-1" strike="noStrike">
                <a:solidFill>
                  <a:srgbClr val="7c1302"/>
                </a:solidFill>
                <a:latin typeface="Arial"/>
              </a:rPr>
              <a:t>Этюд для картины "Лес на берегу моря" 1893 г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95" name="Picture 6" descr="tflow"/>
          <p:cNvPicPr/>
          <p:nvPr/>
        </p:nvPicPr>
        <p:blipFill>
          <a:blip r:embed="rId1"/>
          <a:stretch/>
        </p:blipFill>
        <p:spPr>
          <a:xfrm>
            <a:off x="395280" y="1700280"/>
            <a:ext cx="76201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«Пруд в старом парке»</a:t>
            </a:r>
            <a:br>
              <a:rPr sz="3600"/>
            </a:b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Этюд для одноименной картины 1898 г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97" name="Picture 6" descr="tprud"/>
          <p:cNvPicPr/>
          <p:nvPr/>
        </p:nvPicPr>
        <p:blipFill>
          <a:blip r:embed="rId1"/>
          <a:stretch/>
        </p:blipFill>
        <p:spPr>
          <a:xfrm>
            <a:off x="395280" y="1557360"/>
            <a:ext cx="7620120" cy="512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105520" y="2707920"/>
            <a:ext cx="403848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«Еловый лес»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1889-1890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telov"/>
          <p:cNvPicPr/>
          <p:nvPr/>
        </p:nvPicPr>
        <p:blipFill>
          <a:blip r:embed="rId1"/>
          <a:stretch/>
        </p:blipFill>
        <p:spPr>
          <a:xfrm>
            <a:off x="468360" y="260280"/>
            <a:ext cx="4397400" cy="61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«Гнилое дерево, покрытое мхом»  1890 г</a:t>
            </a:r>
            <a:br>
              <a:rPr sz="3600"/>
            </a:b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01" name="Picture 5" descr="tgniloe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54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788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Кора на сухом стволе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Этю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1889-1890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tkora"/>
          <p:cNvPicPr/>
          <p:nvPr/>
        </p:nvPicPr>
        <p:blipFill>
          <a:blip r:embed="rId1"/>
          <a:stretch/>
        </p:blipFill>
        <p:spPr>
          <a:xfrm>
            <a:off x="395280" y="189000"/>
            <a:ext cx="4375080" cy="61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Зима в лесу (Иней) - И.И. Шишкин - 800х600"/>
          <p:cNvPicPr/>
          <p:nvPr/>
        </p:nvPicPr>
        <p:blipFill>
          <a:blip r:embed="rId1"/>
          <a:stretch/>
        </p:blipFill>
        <p:spPr>
          <a:xfrm>
            <a:off x="3419640" y="907920"/>
            <a:ext cx="4392360" cy="5715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И.И.Шишкин «Зима в лесу. Иней» 1877 г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Березовая роща - Деталь: Белизна стволов"/>
          <p:cNvPicPr/>
          <p:nvPr/>
        </p:nvPicPr>
        <p:blipFill>
          <a:blip r:embed="rId1"/>
          <a:stretch/>
        </p:blipFill>
        <p:spPr>
          <a:xfrm>
            <a:off x="0" y="4365720"/>
            <a:ext cx="1909800" cy="2292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Березова роща - И. И. Шишкин - 800х600"/>
          <p:cNvPicPr/>
          <p:nvPr/>
        </p:nvPicPr>
        <p:blipFill>
          <a:blip r:embed="rId2"/>
          <a:stretch/>
        </p:blipFill>
        <p:spPr>
          <a:xfrm>
            <a:off x="3995640" y="476280"/>
            <a:ext cx="4032360" cy="5715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560" y="1752480"/>
            <a:ext cx="4243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«Березовая роща»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1896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Березовая роща - Деталь: Шепет берез"/>
          <p:cNvPicPr/>
          <p:nvPr/>
        </p:nvPicPr>
        <p:blipFill>
          <a:blip r:embed="rId3"/>
          <a:stretch/>
        </p:blipFill>
        <p:spPr>
          <a:xfrm>
            <a:off x="179280" y="189000"/>
            <a:ext cx="130500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Спасибо за внимание!!!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подготовлена по материалам сай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57200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nearyo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Березовая роща - Деталь: Шепет берез"/>
          <p:cNvPicPr/>
          <p:nvPr/>
        </p:nvPicPr>
        <p:blipFill>
          <a:blip r:embed="rId1"/>
          <a:stretch/>
        </p:blipFill>
        <p:spPr>
          <a:xfrm>
            <a:off x="2411280" y="2781360"/>
            <a:ext cx="300060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17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c1302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«Утро в сосновом лесу» 1889 г</a:t>
            </a:r>
            <a:br>
              <a:rPr sz="3600"/>
            </a:b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58" name="Picture 11" descr="tutro"/>
          <p:cNvPicPr/>
          <p:nvPr/>
        </p:nvPicPr>
        <p:blipFill>
          <a:blip r:embed="rId1"/>
          <a:stretch/>
        </p:blipFill>
        <p:spPr>
          <a:xfrm>
            <a:off x="539640" y="1268280"/>
            <a:ext cx="7886880" cy="53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54380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0d71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«Рубка леса»     1867 г</a:t>
            </a:r>
            <a:br>
              <a:rPr sz="3600"/>
            </a:br>
            <a:r>
              <a:rPr b="1" lang="ru-RU" sz="3600" spc="-1" strike="noStrike">
                <a:solidFill>
                  <a:srgbClr val="190d7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60" name="Picture 6" descr="trubka"/>
          <p:cNvPicPr/>
          <p:nvPr/>
        </p:nvPicPr>
        <p:blipFill>
          <a:blip r:embed="rId1"/>
          <a:stretch/>
        </p:blipFill>
        <p:spPr>
          <a:xfrm>
            <a:off x="468360" y="1700280"/>
            <a:ext cx="76201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И.И. Шишкин. Ивы, освещенные солнцем"/>
          <p:cNvPicPr/>
          <p:nvPr/>
        </p:nvPicPr>
        <p:blipFill>
          <a:blip r:embed="rId1"/>
          <a:stretch/>
        </p:blipFill>
        <p:spPr>
          <a:xfrm>
            <a:off x="1979640" y="1844640"/>
            <a:ext cx="4897440" cy="4183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«Ивы, освещенные солнцем» 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7c1302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7c1302"/>
                </a:solidFill>
                <a:latin typeface="Arial"/>
              </a:rPr>
              <a:t>«Сосновый бор. Мачтовый лес в Вятской губернии» 1872 г</a:t>
            </a:r>
            <a:br>
              <a:rPr sz="3600"/>
            </a:b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64" name="Picture 6" descr="tbor"/>
          <p:cNvPicPr/>
          <p:nvPr/>
        </p:nvPicPr>
        <p:blipFill>
          <a:blip r:embed="rId1"/>
          <a:stretch/>
        </p:blipFill>
        <p:spPr>
          <a:xfrm>
            <a:off x="755640" y="1484280"/>
            <a:ext cx="727236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0d71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«Мухоморы»  1890 г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66" name="Picture 6" descr="tmuhom"/>
          <p:cNvPicPr/>
          <p:nvPr/>
        </p:nvPicPr>
        <p:blipFill>
          <a:blip r:embed="rId1"/>
          <a:stretch/>
        </p:blipFill>
        <p:spPr>
          <a:xfrm>
            <a:off x="468360" y="1628640"/>
            <a:ext cx="7620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1" descr="Лес весной - И.И. Шишкин - 800х600"/>
          <p:cNvPicPr/>
          <p:nvPr/>
        </p:nvPicPr>
        <p:blipFill>
          <a:blip r:embed="rId1"/>
          <a:stretch/>
        </p:blipFill>
        <p:spPr>
          <a:xfrm>
            <a:off x="3780000" y="765000"/>
            <a:ext cx="4268520" cy="5715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3888000" cy="24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И.И.Шишкин</a:t>
            </a: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 </a:t>
            </a:r>
            <a:br>
              <a:rPr sz="3900"/>
            </a:b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«Лес весной» </a:t>
            </a:r>
            <a:br>
              <a:rPr sz="3900"/>
            </a:b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1884 г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На севере диком - И.И. Шишкин - 800x600"/>
          <p:cNvPicPr/>
          <p:nvPr/>
        </p:nvPicPr>
        <p:blipFill>
          <a:blip r:embed="rId1"/>
          <a:stretch/>
        </p:blipFill>
        <p:spPr>
          <a:xfrm>
            <a:off x="324000" y="692280"/>
            <a:ext cx="406692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00360" y="260280"/>
            <a:ext cx="42447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7c1302"/>
                </a:solidFill>
                <a:latin typeface="Arial"/>
              </a:rPr>
              <a:t>И.И.Шишкин 189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 севере диком стоит одиноко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 голой вершине сосна.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 дремлет, качаясь, и снегом сыпучим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дета, как ризой, о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 снится ей все, что в пустыне далекой,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 том крае, где солнца восход,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дна и грустна на утесе горючем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екрасная пальма раст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М.Ю.Лермо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7" descr="На севере диком - Деталь: Сосна"/>
          <p:cNvPicPr/>
          <p:nvPr/>
        </p:nvPicPr>
        <p:blipFill>
          <a:blip r:embed="rId2"/>
          <a:stretch/>
        </p:blipFill>
        <p:spPr>
          <a:xfrm>
            <a:off x="7591320" y="0"/>
            <a:ext cx="15526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12:38Z</dcterms:created>
  <dc:creator>Диман</dc:creator>
  <dc:description/>
  <dc:language>en-US</dc:language>
  <cp:lastModifiedBy>User</cp:lastModifiedBy>
  <dcterms:modified xsi:type="dcterms:W3CDTF">2018-01-08T12:36:19Z</dcterms:modified>
  <cp:revision>5</cp:revision>
  <dc:subject/>
  <dc:title>Слайд 1</dc:title>
</cp:coreProperties>
</file>