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650-0191-491E-8C44-13853B33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32CA-5AE2-4C3E-9977-D1EDEB8E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092A-6742-4723-9D03-C87149AE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F52D-923F-427E-A847-6EDD423A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8613-5FF6-4B04-8FAA-DE3A409F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33DF-5995-4D85-BC6F-1196E9C5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EA2-BAE9-470E-B89F-A6B904BB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7B4B-2AA4-4EB9-A82D-1C290B01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351-65CD-485C-84A3-45D1E35C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985-CD67-4DC2-BBC4-7B6EF608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23BE-6967-4030-A17F-68DE338C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542C-EF80-4F48-A452-B4805030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08F1-1828-4A19-A071-9FD80B4BC8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ages.yandex.ru/yandsearch?source=wiz&amp;text=&#1089;&#1082;&#1072;&#1095;&#1072;&#1090;&#1100;%20&#1073;&#1077;&#1089;&#1087;&#1083;&#1072;&#1090;&#1085;&#1086;%20&#1088;&#1080;&#1089;&#1091;&#1085;&#1086;&#1082;%20&#1078;&#1072;&#1073;&#1072;%20&#1073;&#1086;&#1088;&#1086;&#1076;&#1072;&#1074;&#1095;&#1072;&#1090;&#1072;&#1103;&amp;noreask=1&amp;img_url=http%3A%2F%2Fcs307410.userapi.com%2Fv307410103%2F2cf1%2FJVV0ANncXG0.jpg&amp;pos=0&amp;rpt=simage&amp;lr=47&amp;nojs=1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s.yandex.ru/yandsearch?source=wiz&amp;text=&#1089;&#1082;&#1072;&#1095;&#1072;&#1090;&#1100;%20&#1073;&#1077;&#1089;&#1087;&#1083;&#1072;&#1090;&#1085;&#1086;%20&#1088;&#1080;&#1089;&#1091;&#1085;&#1086;&#1082;%20&#1090;&#1088;&#1072;&#1091;&#1088;&#1085;&#1080;&#1094;&#1072;&amp;noreask=1&amp;img_url=http%3A%2F%2Falbum.foto.ru%2Fphotos%2Fsm%2F215676%2F385369.jpg&amp;pos=15&amp;rpt=simage&amp;lr=47&amp;nojs=1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images.yandex.ru/yandsearch?img_url=http%3A%2F%2Fmegalife.com.ua%2Fuploads%2Fposts%2F2011-03%2Fthumbs%2F1301428805_9.jpg&amp;iorient=&amp;ih=&amp;icolor=&amp;p=5&amp;site=&amp;text=&#1089;&#1082;&#1072;&#1095;&#1072;&#1090;&#1100;%20&#1073;&#1077;&#1089;&#1087;&#1083;&#1072;&#1090;&#1085;&#1086;%20&#1088;&#1080;&#1089;&#1091;&#1085;&#1086;&#1082;%20&#1083;&#1103;&#1075;&#1091;&#1096;&#1082;&#1072;%20&#1079;&amp;iw=&amp;wp=&amp;pos=171&amp;recent=&amp;type=&amp;isize=&amp;rpt=simage&amp;itype=&amp;nojs=1" TargetMode="External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images.yandex.ru/yandsearch?source=wiz&amp;text=&#1089;&#1082;&#1072;&#1095;&#1072;&#1090;&#1100;%20&#1073;&#1077;&#1089;&#1087;&#1083;&#1072;&#1090;&#1085;&#1086;%20&#1088;&#1080;&#1089;&#1091;&#1085;&#1086;&#1082;%20&#1078;&#1072;&#1073;&#1072;%20&#1073;&#1086;&#1088;&#1086;&#1076;&#1072;&#1074;&#1095;&#1072;&#1090;&#1072;&#1103;&amp;noreask=1&amp;img_url=http%3A%2F%2Fcs307410.userapi.com%2Fv307410103%2F2cf1%2FJVV0ANncXG0.jpg&amp;pos=0&amp;rpt=simage&amp;lr=47&amp;nojs=1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s.yandex.ru/yandsearch?source=wiz&amp;text=&#1089;&#1082;&#1072;&#1095;&#1072;&#1090;&#1100;%20&#1073;&#1077;&#1089;&#1087;&#1083;&#1072;&#1090;&#1085;&#1086;%20&#1088;&#1080;&#1089;&#1091;&#1085;&#1086;&#1082;%20&#1090;&#1088;&#1072;&#1091;&#1088;&#1085;&#1080;&#1094;&#1072;&amp;noreask=1&amp;img_url=http%3A%2F%2Falbum.foto.ru%2Fphotos%2Fsm%2F215676%2F385369.jpg&amp;pos=15&amp;rpt=simage&amp;lr=47&amp;nojs=1" TargetMode="External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476280"/>
            <a:ext cx="8353440" cy="2531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Развитие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Обучающее изло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по рассказ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Н. Сладкова «Ухорон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Объект 3" descr=""/>
          <p:cNvPicPr/>
          <p:nvPr/>
        </p:nvPicPr>
        <p:blipFill>
          <a:blip r:embed="rId1"/>
          <a:stretch/>
        </p:blipFill>
        <p:spPr>
          <a:xfrm>
            <a:off x="1547640" y="3213000"/>
            <a:ext cx="61963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8"/>
          <p:cNvSpPr/>
          <p:nvPr/>
        </p:nvSpPr>
        <p:spPr>
          <a:xfrm>
            <a:off x="179280" y="2558880"/>
            <a:ext cx="87138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У  всякого, прячется, как ум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Под  моим  челном, повадились прятаться, красавица траурница, лягушка золотоглазая, жаба бородавчатая, вернусь, чёлн переверну, наутро, та же тро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 яичной скорлупе, хоромы белокаме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Прогрыз, в ножке, копошился  внут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946440" y="988920"/>
            <a:ext cx="625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Каждый прячется, как ум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Под челном – тро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Паук в яичной скорлупе посели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Жук – навозник в гриб спрят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2994120" y="38088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Ухоронки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4" descr="сладков.jpg"/>
          <p:cNvPicPr/>
          <p:nvPr/>
        </p:nvPicPr>
        <p:blipFill>
          <a:blip r:embed="rId1"/>
          <a:stretch/>
        </p:blipFill>
        <p:spPr>
          <a:xfrm>
            <a:off x="5867280" y="692280"/>
            <a:ext cx="2811600" cy="3528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4" name="Picture 4" descr="http://www.knigisosklada.ru/images/books/2678/big/2678010.jpg"/>
          <p:cNvPicPr/>
          <p:nvPr/>
        </p:nvPicPr>
        <p:blipFill>
          <a:blip r:embed="rId2"/>
          <a:stretch/>
        </p:blipFill>
        <p:spPr>
          <a:xfrm>
            <a:off x="3875040" y="2660760"/>
            <a:ext cx="1371600" cy="1760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5" name="Picture 6" descr="http://eois.mskobr.ru/book_images/img_268070.jpg"/>
          <p:cNvPicPr/>
          <p:nvPr/>
        </p:nvPicPr>
        <p:blipFill>
          <a:blip r:embed="rId3"/>
          <a:stretch/>
        </p:blipFill>
        <p:spPr>
          <a:xfrm>
            <a:off x="6372360" y="4421160"/>
            <a:ext cx="1363680" cy="2114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6" name="Picture 8" descr="http://img.read.ru/covers_rr/big/568632.jpg"/>
          <p:cNvPicPr/>
          <p:nvPr/>
        </p:nvPicPr>
        <p:blipFill>
          <a:blip r:embed="rId4"/>
          <a:stretch/>
        </p:blipFill>
        <p:spPr>
          <a:xfrm>
            <a:off x="620640" y="4811760"/>
            <a:ext cx="1216080" cy="170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7" name="Picture 2" descr="http://img1.labirint.ru/books/151468/big.jpg"/>
          <p:cNvPicPr/>
          <p:nvPr/>
        </p:nvPicPr>
        <p:blipFill>
          <a:blip r:embed="rId5"/>
          <a:stretch/>
        </p:blipFill>
        <p:spPr>
          <a:xfrm>
            <a:off x="430200" y="512640"/>
            <a:ext cx="1351080" cy="1729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8" name="Picture 4" descr="http://www.etextlib.ru/Content/BookImages/75_cover.jpg"/>
          <p:cNvPicPr/>
          <p:nvPr/>
        </p:nvPicPr>
        <p:blipFill>
          <a:blip r:embed="rId6"/>
          <a:stretch/>
        </p:blipFill>
        <p:spPr>
          <a:xfrm>
            <a:off x="2319480" y="542880"/>
            <a:ext cx="1315800" cy="1751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9" name="Picture 2" descr="http://www.libex.ru/dimg/1691a.jpg"/>
          <p:cNvPicPr/>
          <p:nvPr/>
        </p:nvPicPr>
        <p:blipFill>
          <a:blip r:embed="rId7"/>
          <a:stretch/>
        </p:blipFill>
        <p:spPr>
          <a:xfrm>
            <a:off x="3875040" y="542880"/>
            <a:ext cx="1347840" cy="180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0" name="Picture 4" descr="http://www.bookriver.ru/img/covers/390191.jpg"/>
          <p:cNvPicPr/>
          <p:nvPr/>
        </p:nvPicPr>
        <p:blipFill>
          <a:blip r:embed="rId8"/>
          <a:stretch/>
        </p:blipFill>
        <p:spPr>
          <a:xfrm>
            <a:off x="2173320" y="2660760"/>
            <a:ext cx="1382760" cy="1726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" name="Picture 6" descr="http://www.knigosklad.ru/det/bd1424.jpg"/>
          <p:cNvPicPr/>
          <p:nvPr/>
        </p:nvPicPr>
        <p:blipFill>
          <a:blip r:embed="rId9"/>
          <a:stretch/>
        </p:blipFill>
        <p:spPr>
          <a:xfrm>
            <a:off x="455760" y="2576520"/>
            <a:ext cx="1325520" cy="1762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2" name="Picture 10" descr="http://pictures.bookshop.ua/TitleBooks/bs0003706716.jpg"/>
          <p:cNvPicPr/>
          <p:nvPr/>
        </p:nvPicPr>
        <p:blipFill>
          <a:blip r:embed="rId10"/>
          <a:stretch/>
        </p:blipFill>
        <p:spPr>
          <a:xfrm>
            <a:off x="2301840" y="4807080"/>
            <a:ext cx="1301760" cy="1671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Picture 12" descr="http://static.ozone.ru/multimedia/books_covers/1000574223.jpg"/>
          <p:cNvPicPr/>
          <p:nvPr/>
        </p:nvPicPr>
        <p:blipFill>
          <a:blip r:embed="rId11"/>
          <a:stretch/>
        </p:blipFill>
        <p:spPr>
          <a:xfrm>
            <a:off x="3875040" y="4807080"/>
            <a:ext cx="1181160" cy="1606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3A54-7712-472A-992A-B20F347962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6487EA9"/>
          <p:cNvPicPr/>
          <p:nvPr/>
        </p:nvPicPr>
        <p:blipFill>
          <a:blip r:embed="rId1"/>
          <a:srcRect l="8486" t="8333" r="4096" b="57742"/>
          <a:stretch/>
        </p:blipFill>
        <p:spPr>
          <a:xfrm>
            <a:off x="108000" y="549360"/>
            <a:ext cx="8780400" cy="4464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97240" y="5589720"/>
            <a:ext cx="81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Ухоронки – хранятся, хоронятся (прячутс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6487EA9"/>
          <p:cNvPicPr/>
          <p:nvPr/>
        </p:nvPicPr>
        <p:blipFill>
          <a:blip r:embed="rId1"/>
          <a:srcRect l="14561" t="42260" r="4096" b="45711"/>
          <a:stretch/>
        </p:blipFill>
        <p:spPr>
          <a:xfrm>
            <a:off x="250920" y="476280"/>
            <a:ext cx="8712000" cy="1689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403280" y="273528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Чёлн – небольшая лодка, выдолбленная из куска дер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i?id=0247a9881ee595359a98e561a9c9760c-130-144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446720"/>
            <a:ext cx="1952640" cy="142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Picture 7" descr="i?id=94edf4caa924ebe6d3742f396626c653-84-144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75080" y="4460760"/>
            <a:ext cx="190512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Picture 9" descr="i?id=126ce95676c71a4a8c5d6a1cc93bbd2b-10-144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219720" y="4475160"/>
            <a:ext cx="228600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3" name="Text Box 10"/>
          <p:cNvSpPr/>
          <p:nvPr/>
        </p:nvSpPr>
        <p:spPr>
          <a:xfrm>
            <a:off x="160200" y="6012000"/>
            <a:ext cx="28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Жаба бородавча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146400" y="6012000"/>
            <a:ext cx="280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Бабочка траур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5816520" y="6054840"/>
            <a:ext cx="32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Лягушка золотоглаз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11" descr="челн.jpg"/>
          <p:cNvPicPr/>
          <p:nvPr/>
        </p:nvPicPr>
        <p:blipFill>
          <a:blip r:embed="rId8"/>
          <a:stretch/>
        </p:blipFill>
        <p:spPr>
          <a:xfrm>
            <a:off x="5380200" y="2165400"/>
            <a:ext cx="2736720" cy="20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72880" y="126792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  <a:ea typeface="Calibri"/>
              </a:rPr>
              <a:t>ухоронки, хоронить, хранить, охра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бъект 2"/>
          <p:cNvSpPr/>
          <p:nvPr/>
        </p:nvSpPr>
        <p:spPr>
          <a:xfrm>
            <a:off x="272880" y="2278080"/>
            <a:ext cx="82296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  <a:ea typeface="Calibri"/>
              </a:rPr>
              <a:t>золото, злато, золотисты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бъект 2"/>
          <p:cNvSpPr/>
          <p:nvPr/>
        </p:nvSpPr>
        <p:spPr>
          <a:xfrm>
            <a:off x="272880" y="328464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  <a:ea typeface="Calibri"/>
              </a:rPr>
              <a:t>борода, бородавка, брадоб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3FB9-635C-4636-97BE-AF580A709F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http://kartin.fastimagess.ru/img-q5y5x5n4g40414r513v2q2u5q5s5a4k4i426r2r4r4/22/82/368222/68/7538168/_3.png"/>
          <p:cNvPicPr/>
          <p:nvPr/>
        </p:nvPicPr>
        <p:blipFill>
          <a:blip r:embed="rId1"/>
          <a:stretch/>
        </p:blipFill>
        <p:spPr>
          <a:xfrm>
            <a:off x="3132000" y="4508640"/>
            <a:ext cx="3095640" cy="15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6487EA9"/>
          <p:cNvPicPr/>
          <p:nvPr/>
        </p:nvPicPr>
        <p:blipFill>
          <a:blip r:embed="rId1"/>
          <a:srcRect l="14561" t="61724" r="4096" b="27165"/>
          <a:stretch/>
        </p:blipFill>
        <p:spPr>
          <a:xfrm>
            <a:off x="395280" y="1312920"/>
            <a:ext cx="8447040" cy="1511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6487EA9"/>
          <p:cNvPicPr/>
          <p:nvPr/>
        </p:nvPicPr>
        <p:blipFill>
          <a:blip r:embed="rId2"/>
          <a:srcRect l="15766" t="58088" r="19888" b="37276"/>
          <a:stretch/>
        </p:blipFill>
        <p:spPr>
          <a:xfrm>
            <a:off x="1187280" y="404640"/>
            <a:ext cx="6861240" cy="6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6487EA9"/>
          <p:cNvPicPr/>
          <p:nvPr/>
        </p:nvPicPr>
        <p:blipFill>
          <a:blip r:embed="rId3"/>
          <a:srcRect l="14561" t="71916" r="4096" b="20691"/>
          <a:stretch/>
        </p:blipFill>
        <p:spPr>
          <a:xfrm>
            <a:off x="395280" y="5661000"/>
            <a:ext cx="7854840" cy="936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119480" y="380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8" descr="жук.png"/>
          <p:cNvPicPr/>
          <p:nvPr/>
        </p:nvPicPr>
        <p:blipFill>
          <a:blip r:embed="rId4"/>
          <a:stretch/>
        </p:blipFill>
        <p:spPr>
          <a:xfrm>
            <a:off x="5076720" y="3090960"/>
            <a:ext cx="3098880" cy="247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Содержимое 4" descr="паук.jpg"/>
          <p:cNvPicPr/>
          <p:nvPr/>
        </p:nvPicPr>
        <p:blipFill>
          <a:blip r:embed="rId5"/>
          <a:stretch/>
        </p:blipFill>
        <p:spPr>
          <a:xfrm>
            <a:off x="1187280" y="3105000"/>
            <a:ext cx="3016440" cy="250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826920" y="476280"/>
            <a:ext cx="75614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1.Каждый прячется, как ум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2.Под челном – тро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3.Паук в яичной скорлупе посел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4.Жук – навозник в гриб спрята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челн.jpg"/>
          <p:cNvPicPr/>
          <p:nvPr/>
        </p:nvPicPr>
        <p:blipFill>
          <a:blip r:embed="rId1"/>
          <a:stretch/>
        </p:blipFill>
        <p:spPr>
          <a:xfrm>
            <a:off x="468360" y="3108240"/>
            <a:ext cx="3313080" cy="248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Picture 5" descr="i?id=0247a9881ee595359a98e561a9c9760c-130-144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25720" y="5126040"/>
            <a:ext cx="195264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Picture 7" descr="i?id=94edf4caa924ebe6d3742f396626c653-84-144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2920" y="5094360"/>
            <a:ext cx="190512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" name="Picture 9" descr="i?id=126ce95676c71a4a8c5d6a1cc93bbd2b-10-144&amp;n=21"/>
          <p:cNvPicPr/>
          <p:nvPr/>
        </p:nvPicPr>
        <p:blipFill>
          <a:blip r:embed="rId6"/>
          <a:stretch/>
        </p:blipFill>
        <p:spPr>
          <a:xfrm>
            <a:off x="4160880" y="3174840"/>
            <a:ext cx="228600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Содержимое 8" descr="жук.png"/>
          <p:cNvPicPr/>
          <p:nvPr/>
        </p:nvPicPr>
        <p:blipFill>
          <a:blip r:embed="rId7"/>
          <a:stretch/>
        </p:blipFill>
        <p:spPr>
          <a:xfrm>
            <a:off x="5584680" y="4981680"/>
            <a:ext cx="1970280" cy="157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6" name="Содержимое 4" descr="паук.jpg"/>
          <p:cNvPicPr/>
          <p:nvPr/>
        </p:nvPicPr>
        <p:blipFill>
          <a:blip r:embed="rId8"/>
          <a:stretch/>
        </p:blipFill>
        <p:spPr>
          <a:xfrm rot="1416000">
            <a:off x="6765480" y="3281400"/>
            <a:ext cx="1949400" cy="161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24000" y="765000"/>
            <a:ext cx="8493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У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всяк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ого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св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ух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оро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ки, каждый пряче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тся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, как ум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с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ь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ю на б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у  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под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м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м ч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ном повад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ись прятат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ься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расавица траурница, лягу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ш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 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золото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лазая  и жаба б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оро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ав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ча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ая. Вернусь с рыбалки, чёлн на но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чь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пере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ерну – 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наутро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под  ним  та  же троица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аук в 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чн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й ск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лупе п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ился, в  х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оро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ах бел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ме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ых  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жи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 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ин жук- навозни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к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гри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б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спр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ался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!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ры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з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в но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ж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хо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д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и  к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оши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ся   </a:t>
            </a:r>
            <a:r>
              <a:rPr b="1" lang="ru-RU" sz="2800" spc="-1" strike="noStrike">
                <a:solidFill>
                  <a:srgbClr val="ff5050"/>
                </a:solidFill>
                <a:latin typeface="Comic Sans MS"/>
              </a:rPr>
              <a:t>внутри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68000" y="620640"/>
            <a:ext cx="8351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У всякого свои …, каждый прячется как уме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Осенью на берегу под моим … повадились прятаться …, … и … . Вернусь с  рыбалки, … на ночь переверну — наутро под ним та же …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…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в яичной скорлупе поселился, в … белокаменных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А один … в гриб спрятался! Прогрыз в ножке … и копошился …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6343-63D9-47F2-ACFE-56B89F36F2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2T12:40:04Z</dcterms:created>
  <dc:creator>Марина</dc:creator>
  <dc:description/>
  <dc:language>en-US</dc:language>
  <cp:lastModifiedBy>Пользователь</cp:lastModifiedBy>
  <dcterms:modified xsi:type="dcterms:W3CDTF">2017-11-27T18:11:23Z</dcterms:modified>
  <cp:revision>14</cp:revision>
  <dc:subject/>
  <dc:title>Слайд 1</dc:title>
</cp:coreProperties>
</file>