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BF20-96F7-445D-AE74-BE3C3A4A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622-3243-4894-8DAE-94136AB2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A44-A5F3-4590-A92A-A5753D6E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239-DF38-418E-88CC-F46032A9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E34-E683-4CC5-B19A-55CA26F0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487-8B7F-479E-AA96-124BF49A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EF5-06B0-44AB-A8C4-F0EF8FA7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643-C6B3-4AE6-90E4-274DD9DC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301-D18E-4A3F-810B-1F5A0659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252-BE03-4C02-8B5F-22BDB0BD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6449-875D-4DAD-85E2-A3AB3086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C373-F49E-438A-8882-0ED5819D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E888-20F3-4E8E-9758-9F0D8774EE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то такие птицы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3068640"/>
            <a:ext cx="9144000" cy="3789360"/>
          </a:xfrm>
          <a:prstGeom prst="rect">
            <a:avLst/>
          </a:prstGeom>
          <a:gradFill rotWithShape="0">
            <a:gsLst>
              <a:gs pos="0">
                <a:srgbClr val="467517"/>
              </a:gs>
              <a:gs pos="50000">
                <a:srgbClr val="99ff33"/>
              </a:gs>
              <a:gs pos="100000">
                <a:srgbClr val="467517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ружающий мир . 1 клас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учебнику А.А.Плешак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50000">
                <a:srgbClr val="ffffff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птиц всего две ноги. Ногами птицы хватают, гребут, защищаются и нападают, держатся за ветку. Обычно на птичьей ноге четыре пальц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6852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ылья поднимают птицу в воздух. Крыло по своему строению напоминает руку. Она тоже сгибается в двух местах. Когда птице нужно взлететь, она подскакивает повыше и очень быстро машет крыль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gradFill rotWithShape="0">
            <a:gsLst>
              <a:gs pos="0">
                <a:srgbClr val="666633"/>
              </a:gs>
              <a:gs pos="50000">
                <a:srgbClr val="ffffff"/>
              </a:gs>
              <a:gs pos="100000">
                <a:srgbClr val="666633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ё тело у птиц покрыто перьями. Ни у каких других животных перьев нет. Они спасают её от ушибов, от холода и жары, маскируют от врагов. Перья- это одежда пти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6294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енькие и пушистые пуховые перья помогают птицам сохранять тепло. Летают птицы с помощью жёстких и упругих кроющих и маховых перь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80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ья отличаются друг от друга по форме, размеру и цвет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А что у них общег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ние летать не является отличительным признаком птиц. Страус- самая крупная в мире птица. Для полётов он слишком тяжёлый, а перья на крыльях- короткие..Но у него длинные ноги с сильными мышцами, которые помогают ему бегать быстрее своих враг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247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страус не убежит, а встретиться со своим врагом, то своим крепким клювом может проломить врагу череп. На большом пальце у него есть опасный коготь, которым он может забить нападающего до смер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4211640" cy="5300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4932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610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нгвин тоже не может летать. Крылья он использует, как ласты, в воде и под водой. С помощью крыльев пингвин сохраняет равновесие. Крылья и клюв оружие в дра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84720" y="2565360"/>
            <a:ext cx="4859280" cy="429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1844640"/>
            <a:ext cx="4319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 какой группой животных вы познакомились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зовите отличительные признаки птиц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00ff"/>
              </a:gs>
              <a:gs pos="50000">
                <a:srgbClr val="ffffff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4936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то такие птицы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м они отличаются от других животных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из этих животных умеют лета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716360" cy="2952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005360"/>
            <a:ext cx="3311640" cy="2852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932360" y="981000"/>
            <a:ext cx="4211640" cy="2981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292720" y="4005360"/>
            <a:ext cx="3305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, кто летает –птиц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643280" cy="5589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500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какому отличительном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знак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но безошибочно узнать птиц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5232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оение птиц на примере голуб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4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тица похожа на самолёт. Форма тела помогает ей быстро лет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4859280" cy="4508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59280" y="2349360"/>
            <a:ext cx="42847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тичий нос не только нос, но ещё и рот, поэтому его назвали клювом. Клюв бывает только у птиц. Клювы у птиц разные, потому что пища у них тоже разна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407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1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ый большой нос- у пеликана, а самый маленький – у ласточки. Без носа птица – как мы без ру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4643280" cy="4581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2276640"/>
            <a:ext cx="44956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1-10-17T18:19:02Z</dcterms:modified>
  <cp:revision>1</cp:revision>
  <dc:subject/>
  <dc:title>PowerPoint Presentation</dc:title>
</cp:coreProperties>
</file>