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164304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спех меняет человека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н делает человек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веренным в себе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идает ему достоинство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и человек обнаруживает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 в себе качества, о которых не подозревал раньше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жой Бразерс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357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194d"/>
                </a:solidFill>
                <a:latin typeface="Arial"/>
              </a:rPr>
              <a:t>Создание ситуации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194d"/>
                </a:solidFill>
                <a:latin typeface="Arial"/>
              </a:rPr>
              <a:t>успеха</a:t>
            </a:r>
            <a:r>
              <a:rPr b="1" i="1" lang="en-US" sz="6000" spc="-1" strike="noStrike">
                <a:solidFill>
                  <a:srgbClr val="00194d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194d"/>
                </a:solidFill>
                <a:latin typeface="Arial"/>
              </a:rPr>
              <a:t>на уроке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840" y="356760"/>
            <a:ext cx="8534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и таком стиле обучения характерно равноправие позиций учителя и ученика. </a:t>
            </a:r>
            <a:r>
              <a:rPr b="1" i="1" lang="ru-RU" sz="2000" spc="-1" strike="noStrike">
                <a:solidFill>
                  <a:srgbClr val="262626"/>
                </a:solidFill>
                <a:latin typeface="Arial"/>
              </a:rPr>
              <a:t>Центральной фигурой урока должен являться не учитель, а учащийс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 В силу специализации моего предмета (история, обществознание), одной из проблем может выступать засилье слова учителя, поэтому главной задачей  на уроке является активизировать учебную деятельность ребят, создать общую морально-психологическую атмосферу выполнения тех и иных заданий, поскольку это в значительной мере снимает чувство неуверенности, боязни приступить к внешне сложным заданиям. Важно научить их не бояться высказываться.  Дети не должны стесняться отвечать, даже если их ответ ошибочный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переживании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итуации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особенно нуждаются учащиеся, испытывающие определенные затруднения в учении. В связи с этим необходимо подбирать такие задания, с которыми учащиеся этой категории могли бы справиться без особых затруднений и лишь, потом переходить к более сложным упражнениям. Хорошим помощником здесь является учебник, я часто ребят прошу найти ответ на поставленный вопрос  в учебнике, а затем прошу вспомнить аналогичное событие или явление из пройденного материал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Первое экспериментальное психологическое исследование стилей руководства было проведено в 1938 году немецким психологом К. Левином, впоследствии с приходом к власти в Германии нацистов, эмигрировавшим в США. В этом же исследовании была введена классификация стилей руководства, которую принято использовать и в наши дни: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1. Авторитарный.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2. Демократический.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3. Попустительский.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Под стилем общения понимается индивидуально-типологические особенности социально-психологического взаимодействия педагога и обучающихся.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В стиле общения находят выражение: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- особенности коммуникативных возможностей учителя;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- сложившийся характер взаимоотношений педагога и воспитанников;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d4d4d"/>
                </a:solidFill>
                <a:latin typeface="Arial"/>
              </a:rPr>
              <a:t>- творческая индивидуальность педагога.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35712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Эффективное педагогическое общение всегда направлено на формирование </a:t>
            </a:r>
            <a:r>
              <a:rPr b="1" lang="ru-RU" sz="1700" spc="-1" strike="noStrike">
                <a:solidFill>
                  <a:srgbClr val="4d4d4d"/>
                </a:solidFill>
                <a:latin typeface="Arial"/>
              </a:rPr>
              <a:t>позитивной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Я- концепции</a:t>
            </a:r>
            <a:r>
              <a:rPr b="1" lang="ru-RU" sz="1700" spc="-1" strike="noStrike">
                <a:solidFill>
                  <a:srgbClr val="4d4d4d"/>
                </a:solidFill>
                <a:latin typeface="Arial"/>
              </a:rPr>
              <a:t> личности</a:t>
            </a: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, на развитие у учащегося уверенности в себе, в своих силах, в своём потенциале.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«Я – КОНЦЕПЦИЯ» </a:t>
            </a: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- это система осознанных и неосознанных представлений личности о самой себе, на основе которых она строит свое поведение. Положительная "Я - концепция" - я нравлюсь, я способен, я значу - способствует успеху, эффективной деятельности, положительным проявлениям  личности.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В теории «Я-концепции» существует такой феномен – «Эффект Пигмалиона», который формулируется следующим образом: если к какому-нибудь событию или явлению относиться, как к реально совершившемуся, оно и в самом деле происходит. Проецируя на Я– концепцию ребёнка, получаем: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- Мы относимся к ребёнку,  как к ответственному, дисциплинированному и даём ему это понять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- Тем самым создаём предпосылки для того, чтобы он и в самом деле таковым становился. Сомневающимся в себе, такая подготовка создает психологическую установку на успех, дает уверенность в силах. Перед выполнением задания обязательно надо внушить ребенку веру в себя, сказать, что все получиться. Большое влияние могут оказать слова учителя: «Я верю в тебя», «Если ты постараешься, у тебя обязательно все получится»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кон успешности» </a:t>
            </a: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гласит: </a:t>
            </a:r>
            <a:r>
              <a:rPr b="1" i="1" lang="ru-RU" sz="1700" spc="-1" strike="noStrike">
                <a:solidFill>
                  <a:srgbClr val="262626"/>
                </a:solidFill>
                <a:latin typeface="Arial"/>
              </a:rPr>
              <a:t>успех школьнику </a:t>
            </a:r>
            <a:r>
              <a:rPr b="0" i="1" lang="ru-RU" sz="1700" spc="-1" strike="noStrike">
                <a:solidFill>
                  <a:srgbClr val="4d4d4d"/>
                </a:solidFill>
                <a:latin typeface="Arial"/>
              </a:rPr>
              <a:t>может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создать учитель</a:t>
            </a:r>
            <a:r>
              <a:rPr b="0" i="1" lang="ru-RU" sz="1700" spc="-1" strike="noStrike">
                <a:solidFill>
                  <a:srgbClr val="4d4d4d"/>
                </a:solidFill>
                <a:latin typeface="Arial"/>
              </a:rPr>
              <a:t>, который сам переживает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радость успеха</a:t>
            </a:r>
            <a:r>
              <a:rPr b="0" i="1" lang="ru-RU" sz="17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d4d4d"/>
                </a:solidFill>
                <a:latin typeface="Arial"/>
              </a:rPr>
              <a:t>счастливого человека может воспитать только счастливый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Создание ситуаций успеха можно осуществлять через  использование эффектов на уроке, развивающих интерес к учебе: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новизны;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разнообразия;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занимательности;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увлекательности форм и метода изложения;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использования ярких художественных средств;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образности;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игры;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удивления школьника;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поиска; 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Эффект парадоксальности.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Третьим китом сотрудничества ученика и учителя, является «</a:t>
            </a:r>
            <a:r>
              <a:rPr b="0" i="1" lang="ru-RU" sz="1500" spc="-1" strike="noStrike">
                <a:solidFill>
                  <a:srgbClr val="4d4d4d"/>
                </a:solidFill>
                <a:latin typeface="Arial"/>
              </a:rPr>
              <a:t>принцип открытых перспектив</a:t>
            </a: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». В моем понимании это набор приемов позволяющих ученику самостоятельно управлять направлением своего движения в ходе уроков, которое будет зависеть от его личных целей, самочувствия и настроения в тот или иной период времени. Он включает в себя:  самооценку,  планирование своей (ученической) деятельности.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d4d4d"/>
                </a:solidFill>
                <a:latin typeface="Arial"/>
              </a:rPr>
              <a:t>Самооценка</a:t>
            </a:r>
            <a:r>
              <a:rPr b="0" i="1" lang="ru-RU" sz="15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– это тот </a:t>
            </a:r>
            <a:r>
              <a:rPr b="1" lang="ru-RU" sz="1500" spc="-1" strike="noStrike">
                <a:solidFill>
                  <a:srgbClr val="4d4d4d"/>
                </a:solidFill>
                <a:latin typeface="Arial"/>
              </a:rPr>
              <a:t>результат</a:t>
            </a: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, к </a:t>
            </a:r>
            <a:r>
              <a:rPr b="1" lang="ru-RU" sz="1500" spc="-1" strike="noStrike">
                <a:solidFill>
                  <a:srgbClr val="4d4d4d"/>
                </a:solidFill>
                <a:latin typeface="Arial"/>
              </a:rPr>
              <a:t>которому движется ученик в течение всего года или четверти</a:t>
            </a: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. Его можно выбирать самостоятельно, и оповестив о цели учителя, ученик получает возможность самостоятельно решать, как ему готовиться, а учитель понимает, что не стоит пытаться вытянуть </a:t>
            </a:r>
            <a:r>
              <a:rPr b="0" i="1" lang="ru-RU" sz="1500" spc="-1" strike="noStrike">
                <a:solidFill>
                  <a:srgbClr val="4d4d4d"/>
                </a:solidFill>
                <a:latin typeface="Arial"/>
              </a:rPr>
              <a:t>условного Иванова </a:t>
            </a:r>
            <a:r>
              <a:rPr b="0" lang="ru-RU" sz="1500" spc="-1" strike="noStrike">
                <a:solidFill>
                  <a:srgbClr val="4d4d4d"/>
                </a:solidFill>
                <a:latin typeface="Arial"/>
              </a:rPr>
              <a:t>на четыре, если его удовлетворяет тройка. В итоге «заключается» договор о взаимных ожиданиях. Что снижает тревожность ученика с одной стороны и учителя с другой. </a:t>
            </a:r>
            <a:r>
              <a:rPr b="1" lang="ru-RU" sz="1500" spc="-1" strike="noStrike">
                <a:solidFill>
                  <a:srgbClr val="4d4d4d"/>
                </a:solidFill>
                <a:latin typeface="Arial"/>
              </a:rPr>
              <a:t>По итогам четверти можно совместно провести рефлексию и узнать, почему полученный результат не достигнут/достигнут и можно ли ставить перед собой более высокие цели, а может нужно снизить на какое-то время планку требований к себе?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3840" y="500040"/>
            <a:ext cx="86058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Никакая </a:t>
            </a:r>
            <a:r>
              <a:rPr b="0" i="1" lang="ru-RU" sz="1600" spc="-1" strike="noStrike">
                <a:solidFill>
                  <a:srgbClr val="4d4d4d"/>
                </a:solidFill>
                <a:latin typeface="Arial"/>
              </a:rPr>
              <a:t>запланированная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цель не может быть достигнута без представления того, какой путь предстоит пройти, для этого ученик должен знать не только, что он «выучит» весь учебник, но и какие действия ему потребуются для того чтобы этого достигнуть. Здесь на помощь учителю и ученику могут прийти прием «Анонсирование» и УМК-ученика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Прием «Анонсирование»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- учитель заранее предупреждает школьника о предстоящей самостоятельной контрольной работе, о проверке знаний и предварительно обсуждают то, что должен сделать ученик: например, рассмотреть план сочинения, прослушать первый вариант ответа. Чем-то он напоминает репетицию предстоящего действия. Сомневающимся такая подготовка создает психологическую подготовку на успех, дает уверенность в силах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В УМК-ученика прописываются задания к параграфам, картам и т.д., ознакомившись с которыми ребенок может более адекватно подойти к оценке своих возможностей и распределить свои силы, а, значит, поможет избежать ненужных стрессовых ситуаций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Таким образом, соблюдая все выше изложенное, мы можем прийти к ситуации, когда ученик — это не тот, кого учит учитель, а тот, кто у него учится. Учитель выступает не как специалист, передающий ученикам новую информацию, а как организатор процесса учения, руководитель самодеятельности учащихся, оказывающий им нужную помощь и поддержку. Это урок, на котором главным “работником” в процессе обучения является ученик, учебная деятельность которого объективно направлена на образование и формирование своей личности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стоящий учитель, всегда стремится создать любому,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аже не очень способному ребенку  «ситуацию успеха», позволяющую и ему ощутить эту радость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2920" y="135684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вая мысль А. Сухомлинского прост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: успех открытия не может возникнуть на пустом месте. Его надо долго  и терпеливо готовить, открывая ребенку, возможность  связи, отношения между тем, что он достиг, и тем, что ему пока достичь не удалос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торая мысль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ребенку следует постоянно внушать, что он может достичь недостигнутого, что в нем хватит сил, ума. Здесь не нужен ни кнут, ни пряник. Нужно внушение, поддержка, установка на завтрашнюю рад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ретья мысль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Ребенок должен быть убежден, что успехом он обязан, прежде всего, самому себе. Помощь учителя, какой бы эффективной   ни была, все равно должна быть скрытной. Ребенок должен впитать ее в себя, не замечая, точно так же, как вдыхает воздух, не замечая его. Стоит ребенку почувствовать, что открытие сделано с подачи учителя, что заслуга его лишь в том, что он послушно шел за своим наставником, радость успеха может померкнуть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отношение к учебе улучшится если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1000080"/>
          <a:ext cx="8715600" cy="5821560"/>
        </p:xfrm>
        <a:graphic>
          <a:graphicData uri="http://schemas.openxmlformats.org/drawingml/2006/table">
            <a:tbl>
              <a:tblPr/>
              <a:tblGrid>
                <a:gridCol w="285840"/>
                <a:gridCol w="4429080"/>
                <a:gridCol w="1143000"/>
                <a:gridCol w="1428840"/>
                <a:gridCol w="142884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можно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ет возможность свободного выбора глубины изучения  некоторых предметов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я между учениками и учителями будут носить  более свободный характер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тся количество предметов, которые будут   готовить к реальной жизни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буду уверен, что тот, кто лучше учится, будет  лучше жить.  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школе всегда можно найти взрослого человека, который     поможет мне решить мои личные проблемы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будем не просто заучивать материал, а что-то делать самостоятельно             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5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248320" cy="4665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571920" y="64296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428760" y="1429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отношение к учебе улучшится если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4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215200" cy="5643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357120" y="28584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отношение к учебе улучшится если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857160"/>
            <a:ext cx="7456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озможн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391240" cy="48798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285840" y="2858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отношение к учебе улучшится если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«Успех в учении – единственный источник внутренних сил, рождающий энергию для преодоления трудностей, желания учиться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В.А.Сухомлинский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СТРОЕНИЕ, С   КОТОРЫМ   Я  ИДУ  НА УРОК ИСТОРИИ</a:t>
            </a:r>
            <a:br>
              <a:rPr sz="2000"/>
            </a:br>
            <a:br>
              <a:rPr sz="16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4200" y="714240"/>
          <a:ext cx="8715600" cy="5894640"/>
        </p:xfrm>
        <a:graphic>
          <a:graphicData uri="http://schemas.openxmlformats.org/drawingml/2006/table">
            <a:tbl>
              <a:tblPr/>
              <a:tblGrid>
                <a:gridCol w="343080"/>
                <a:gridCol w="5078520"/>
                <a:gridCol w="1098360"/>
                <a:gridCol w="1028880"/>
                <a:gridCol w="116676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3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ащихся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6-А,Б;7-А,7-Б;8-А;9-А,9-Б;11-А,11-Б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опасением, что не выучил урок    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 удовольствием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73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 радостью,  что я  заработаю хорошую оценку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желанием получить новые знания 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опасением встретить вредного учителя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юсь не справиться с контрольной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ду потому, что так надо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не безразлично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ба меня тяготит, портит настроение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АСТРОЕНИЕ, С   КОТОРЫМ   Я  ИДУ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А УРОК ИСТОРИИ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(133 учащихся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Содержимое 5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НАСТРОЕНИЕ, С   КОТОРЫМ   Я  ИДУ  НА УРОК ИСТОРИИ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31996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68929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поведи учител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оспитание может быть только гуманистически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лавный метод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гуманистического воспитания –доставлять ребенку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дость общени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Общение друг с другом должно быть образцом подражания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Обязан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вивать и беречь в ребенке веру в себ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го,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 учител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оспитательный процесс должен быть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низан уважением к личности ребенк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язаны понимать ребенка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и строить наши планы с учетом движения его душ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ами долж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оводить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чуткость, отзывчивость, доброта души, любовь, нежность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Мы должны прийт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гда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на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помощь ученику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е винить других, а научиться приносить извинени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е быть чересчур критичны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ейтесь! Обязательно все получитс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В заключении хочется отметить, </a:t>
            </a: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ребенок приходит в школу преисполненный желания учиться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. Если ребенок теряет интерес к учебе, в этом нужно винить не только семью, но и школу, и ее методы обучения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спех является источником внутренних сил ребенка, рождающий энергию для преодоления трудностей, желания учиться. Ребенок испытывает уверенность в себе и внутреннее удовлетворение. На основе всего этого, можно сделать вывод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успех в учебе –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втрашний успех в жизни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0040" y="928800"/>
            <a:ext cx="8215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  <a:ea typeface="Angsana New"/>
              </a:rPr>
              <a:t>БЛАГОДАРЮ ЗА ВНИМАНИЕ </a:t>
            </a:r>
            <a:endParaRPr b="0" lang="en-US" sz="8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4200" y="142560"/>
            <a:ext cx="8715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ля начала предлагаю разобраться с терминологией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ТУАЦИ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-это сочетание условий, которые обеспечивают достижение цел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ПЕХ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- это положительный результат деятельност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ЖИДАНИЕ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– стремление заслужить одобрение; стремление утвердить свое «Я», свою позицию, сделать заявку на будущее, ожидание окружающих, личности, результат деятельности личност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ПЕХ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с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сихологической точки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рения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– это переживание состояния радости, удовлетворение от того, что результат, к которому стремилась личность в своей деятельности, либо совпал с ее ожиданиями, надеждами, либо превзошел их. В том случае, когда успех делается устойчивым, постоянным, может начаться своего рода реакция, высвобождающая огромные, скрытые до поры возможности личност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С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педагогической точки зрени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итуация успеха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– это тако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целенаправленное, организованное сочетание условий, при которы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создается возможность достичь значительных результатов в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деятельности как отдельно взятой личности, так и коллектива в целом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d4d4d"/>
                </a:solidFill>
                <a:latin typeface="Arial"/>
              </a:rPr>
              <a:t>Как и любой педагог, целью моей педагогической деятельности является добиться усвоения материала учащимися и сделать эти знания устойчивыми. Достичь этой цели не просто: все дети очень разные, классы разноуровневые. Тем не менее, не для кого не секрет, что дети более успешно воспринимают то, что им интересно.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d4d4d"/>
                </a:solidFill>
                <a:latin typeface="Arial"/>
              </a:rPr>
              <a:t>Поэтому  в  6 – 7-х классах добиться интереса не сложно, они любопытны в силу своего возраста, на уроках порой достаточно организовать игру, 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d4d4d"/>
                </a:solidFill>
                <a:latin typeface="Arial"/>
              </a:rPr>
              <a:t>т. е. то, что им более близко и знакомо. А в 8 – 11-х классах  просто игры недостаточно. В этом возрасте дети стремятся лишь к тому, что у них лучше получается. 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d4d4d"/>
                </a:solidFill>
                <a:latin typeface="Arial"/>
              </a:rPr>
              <a:t>В каждом классе есть свои «звездочки» и ребята, не совсем успешно усваивающие программу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57120" y="-360"/>
            <a:ext cx="846288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Задача учителя состоит в том, чтобы дать каждому из своих воспитанников возможность пережить радость достижения, осознать свои возможности, поверить в себя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Итак, как же создать на уроке ситуацию успеха? Основная парадигма в работе учителя </a:t>
            </a:r>
            <a:r>
              <a:rPr b="0" i="1" lang="ru-RU" sz="1600" spc="-1" strike="noStrike">
                <a:solidFill>
                  <a:srgbClr val="4d4d4d"/>
                </a:solidFill>
                <a:latin typeface="Arial"/>
              </a:rPr>
              <a:t>«Дать каждому ребенку шанс проявить себя».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Для реализации основной цели своего педагогического творчества учитель большое внимание уделяет создании ситуации успеха на уроке. Ситуация успеха рассматривается как проживание учеником своих личностных достижений в контексте (истории, или другой предмет) его собственной жизни. Учитывая, что данная ситуация всегда субъективна, результат усилий расценивается только в сопоставлении с вчерашними достижениями, с позиций завтрашних перспектив. Проживая ситуацию успеха, ребенок обретает достоинство, удовлетворенность жизнью на данный момент, а это есть ни что иное, как счастье в его разновидности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Исходя из этого учителю необходимо продумать так свою деятельность, чтобы обеспечить на уроке: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снятие тревожности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высокую мотивацию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авансирование достоинств ученик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преобладание скрытой инструкции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поддержку индивидуальности (исключительности) школьника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объективность и доброжелательность педагогического внушения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высокую оценку успешно выполненной каждой детали деятельности школьник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213840"/>
            <a:ext cx="8820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 если «научить истории» всех детей практически невозможно, то научить не бояться истории, научить любить её - это цель, которую можно реализова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менно этой цели и подчиняется моя деятельность на уроке. В чем же конкретно это проявляется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создании ситуации успеха я выделяю две основных составляющих с точки зрения ученика, во-первых, «внешние» условия на уроке, которые задаются учителем, во-вторых, «внутренние» условия ,которые зависят от учащегося. Иначе говоря на уроке необходимо обеспечить снятие тревожности и высокую мотивацию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сходя из этой идеи я и подбираю средства достижения ситуации успеха, которые можно разбить на четыре блока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1. средства организации сотрудничества учителя и ученика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2. средства организации комфорта для ученика в учебном классе и дома, при подготовке к уроку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3. средства контроля усвоения знаний, умений и навыков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4. создание такого алгоритма урока, который позволял бы реализовать все эти средства на практик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схематичном виде, это может выглядеть ТАК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онспект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 Успех школьнику создает учитель, который сам переживает радость успеха»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920" y="857160"/>
            <a:ext cx="8858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Главный смысл деятельности учителя состоит в том, чтобы создать каждому воспитаннику ситуацию успеха. Здесь важно разделить понятия: «успех» и «ситуация успеха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оэтому, на любой ступени образования необходимо стимулирование учащихся в их учебной деятельности, создавая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итуацию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для каждого ученика. А что значит ситуация успеха? Это вера в себ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ольшое внимание созданию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итуаций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уделяет А.С. Белкин, доктор педагогических наук. Он утверждал, что если ребенка лишить веры в себя, трудно надеяться на его «светлое будущее». Одно неосторожное слово, один непродуманный шаг учителя могут надломить ребенка так, что потом не помогут никакие воспитательные ухищрения и учителя. Каким образом необходимо создавать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итуацию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? На мой взгляд,  создание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итуаций успеха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невозможно без  сотрудничества учителя с учащимися. Такая форма работы предполагает создание на уроке доброжелательной атмосферы и взаимопомощи при выполнении учебных задач, формирование у учеников внутреннего психологического покоя и уверенности в своих сил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От чего зависит сотрудничество на уроке?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На мой взгляд, первостепенное значение имеет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доброжелательный климат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на уроке,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решающую роль в создании которого играет учитель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Во-первых, это лидер образовательного процесса. Во-вторых, это то на что он может влиять. Связан он с психологической обстановкой на уроке, которую определяют:  внешний вид учителя, жесты и мимика,  стиль общения учителя,  стиль руководства классом и т.д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Урок – это, прежде всего</a:t>
            </a:r>
            <a:r>
              <a:rPr b="0" i="1" lang="ru-RU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деловое общение </a:t>
            </a:r>
            <a:r>
              <a:rPr b="0" i="1" lang="ru-RU" sz="1600" spc="-1" strike="noStrike">
                <a:solidFill>
                  <a:srgbClr val="4d4d4d"/>
                </a:solidFill>
                <a:latin typeface="Arial"/>
              </a:rPr>
              <a:t>учителя с классом, как с коллективом и с каждым учеником в отдельности. Мы должны минимизировать личное начало в этом процессе, либо «сообщать» детям, что у нас все нормально, мы бодры и готовы к занятиям, тем самым, побуждая их следовать нашему примеру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Как жесты и мимика могут повлиять на успешность процесса обучения, спросите вы? Отношение к ученикам всегда проявляется учителем в общении с ними и осуществляется оно не только в словесной форме. Взгляд, жест, поза, даже молчание - тоже ответ или обращение к партнеру. Как мы владеем собой, как используем невербальные средства коммуникации,  в значительной степени, влияет на возможность сотрудничества с ребенком, на его доверие нам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оэтому учитель должен, на мой взгляд, быть постоянно виден ученикам, показывая, что ему нечего скрывать (никакого отгораживания столом от класса во время разговора). При этом не допускаются «закрытые» жесты: скрещивание рук и ног, приветствуется улыбка, а не нахмуренные брови, открытые ладони, а не сжатые кулаки… Учитель должен следить за своим настроением. Он обязан немедленно перестраивать своё грустное, подавленное, пониженное настроение. Ребята более всего тянутся к людям, которым свойственно повышенное, веселое, жизнерадостное настроение. Они наоборот избегают людей хмурых, неулыбчивых, скучающих. Детей сковывает настроение грусти, подавленности взрослых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7:50:33Z</dcterms:created>
  <dc:creator>Tolik</dc:creator>
  <dc:description/>
  <dc:language>en-US</dc:language>
  <cp:lastModifiedBy>XTreme.ws</cp:lastModifiedBy>
  <dcterms:modified xsi:type="dcterms:W3CDTF">2017-12-15T03:13:15Z</dcterms:modified>
  <cp:revision>46</cp:revision>
  <dc:subject/>
  <dc:title>Создание ситуации успеха на уроке</dc:title>
</cp:coreProperties>
</file>