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C08B-BE5C-45CC-8BF3-78B4664A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B95-B0E5-443F-9501-FF6E0B70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48C-98EE-4A1C-8998-6D1D4825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E1C1-4470-4E00-997D-2ACBFE0F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1852-B297-4BD1-8CC8-D99C859D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758A-2B6A-4387-8ABA-19538011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F831-8B33-4EC6-9B7C-8353D159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0060-A655-478D-A0C0-5EC3427B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75E7-5255-4632-BDD4-81361615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0574-5C36-4814-B32B-6B1263BF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E1B5-CED2-4109-B926-86DAB27F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A90B-AC23-40DF-AA13-C754E9DC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23D9-42DB-4BDB-81A9-6AF20A7F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552E-66FF-442A-AD24-231593D3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EA5C-C891-4B02-9946-86C77D70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1DF2-9F29-4C98-A092-EFAAD79F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6FC8-8C52-45FC-A297-CAE888F4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B7A-75D6-4E87-BE0A-224ADB74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695-0AFC-4A8F-9369-7DDEDB0E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93F-E798-4158-B9B2-377A7A51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ABC-3F59-4CE6-B8DD-DC2C2DDE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097-C12B-4B42-B116-113D7DBF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CB09-7627-42F8-9FB4-0D592E48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2EA-596E-4B1C-AB5B-6C65EC2B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6E26-5F5F-4D94-967C-6855267A380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46C7-FC35-4FDF-A6A2-98E2DDBB612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483920"/>
            <a:ext cx="878544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ahoma"/>
              </a:rPr>
              <a:t>Now I know!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424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A. Hello. I’m Pa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Hello, I Pa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A. What thi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What’s thi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A. My name’s Lar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My name Lar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11640" y="981000"/>
            <a:ext cx="4711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A. This my pet, Max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This is my pet, Max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A. What’s your nam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What your nam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A. It’s a school ba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It a school ba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’ s your name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ow old are you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year are you in at school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’s your favourite subject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1:31:58Z</dcterms:created>
  <dc:creator>cabin218</dc:creator>
  <dc:description/>
  <dc:language>en-US</dc:language>
  <cp:lastModifiedBy>cabin218</cp:lastModifiedBy>
  <dcterms:modified xsi:type="dcterms:W3CDTF">2017-09-28T11:42:08Z</dcterms:modified>
  <cp:revision>5</cp:revision>
  <dc:subject/>
  <dc:title>Now I know!</dc:title>
</cp:coreProperties>
</file>