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052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1E25F-E12D-4617-B6F6-2A73996B2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FC657-B9E5-48CB-B3E6-F90050D78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F52DE-2F21-4D42-BF3E-A34CFE5A6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2F4E8-697D-406B-9BAD-D93226B6B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B93F1-5A4C-4BB3-A67B-B2B5A9552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94363-CE9E-43FA-AB92-2D7AC9D40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24F75-0CF0-4534-BE6B-73C1B46A9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23F6D-E468-4E7E-88D1-0FA0578A4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B296F-62A5-4EBF-A9C0-A0DE50C9D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81EBF-2073-478F-B19B-A2A205593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66E64-92F2-4EB5-A8AB-B9E9D6B9D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FF18C-7342-4F54-9C05-8992AD3AD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A1912-D81B-4A49-BCEE-DA1F533CF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F3E66-C021-40CE-B07E-1E268F897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A5F6E-8493-4C52-8639-EDC033BD8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FFC2C-6651-4122-8936-FCC911F1C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40D74-1092-4CA6-8AAB-30B0AED63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8FEA5-7C2E-4FED-B690-8AE69AB44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CD896-8F28-4248-9F23-F901576DC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F6723-1A1B-40D8-B577-69983F5C2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04A66-4D7B-439F-B2CD-6CE259826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1080"/>
            <a:ext cx="905652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4935-D187-4774-91A7-73C5247EA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108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3680" y="405108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0F337-921F-48E7-8D85-0F5FFCD93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600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080" y="1768320"/>
            <a:ext cx="291600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768320"/>
            <a:ext cx="291600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1080"/>
            <a:ext cx="291600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080" y="4051080"/>
            <a:ext cx="291600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4051080"/>
            <a:ext cx="291600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9AFC-4EB8-4392-A236-746F94E32E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6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477E-24FE-4CCC-9140-60DD833327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4A24-932A-4B43-8F1E-467A0C105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9DEA0-45D7-42FC-9C8B-2F8025A46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844C-3455-4340-8AF1-0E63C5BF1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565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6B6F-B0AB-49BA-AFF8-62022C5BC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108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ECE4-DAD3-4F93-BF25-FE013F698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3680" y="405108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FBE2-44D3-43EC-8048-2C2A8192A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1080"/>
            <a:ext cx="905652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87C3-D853-4512-90B3-6214796E6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6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1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89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3388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B5873-456C-4A2C-8348-A7F41FD4C1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574560"/>
            <a:ext cx="3853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урсы повы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валифик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79640" y="2519280"/>
            <a:ext cx="37065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40360" y="1979640"/>
            <a:ext cx="450036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dc2300"/>
                </a:solidFill>
                <a:latin typeface="Comic Sans MS"/>
              </a:rPr>
              <a:t>Оптимиз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dc23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dc2300"/>
                </a:solidFill>
                <a:latin typeface="Comic Sans MS"/>
              </a:rPr>
              <a:t>форм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dc2300"/>
                </a:solidFill>
                <a:latin typeface="Comic Sans MS"/>
              </a:rPr>
              <a:t>взаимодействия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dc2300"/>
                </a:solidFill>
                <a:latin typeface="Comic Sans MS"/>
              </a:rPr>
              <a:t>ДОУ с семь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0096560" cy="7559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40000" y="-216000"/>
            <a:ext cx="8640720" cy="77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ринципы (правила) взаимодействия родителей и ДО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инцип добровольности и открыто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инцип равенст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инцип общно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инцип уважения и понимания друг друг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инцип активно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инцип конфиденциально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инцип учета пожеланий и предложений каждого члена клуб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инцип доброжелательности, поддержки и взаимопомощ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инцип стремления к здоровому образу жизн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280099"/>
                </a:solidFill>
                <a:latin typeface="Comic Sans MS"/>
              </a:rPr>
              <a:t>~9~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dur="indefinite" fill="hold">
                      <p:stCondLst>
                        <p:cond delay="0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96560" cy="7559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40000" y="179280"/>
            <a:ext cx="8640720" cy="77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роки реал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 u="sng">
                <a:solidFill>
                  <a:srgbClr val="280099"/>
                </a:solidFill>
                <a:uFillTx/>
                <a:latin typeface="Comic Sans MS"/>
              </a:rPr>
              <a:t>Зона актуального развития</a:t>
            </a:r>
            <a:r>
              <a:rPr b="0" lang="ru-RU" sz="3200" spc="-1" strike="noStrike">
                <a:solidFill>
                  <a:srgbClr val="28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015-2016 учебный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 u="sng">
                <a:solidFill>
                  <a:srgbClr val="280099"/>
                </a:solidFill>
                <a:uFillTx/>
                <a:latin typeface="Comic Sans MS"/>
              </a:rPr>
              <a:t>Зона ближайшего развития</a:t>
            </a:r>
            <a:r>
              <a:rPr b="0" lang="ru-RU" sz="3200" spc="-1" strike="noStrike">
                <a:solidFill>
                  <a:srgbClr val="280099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015-2018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80099"/>
                </a:solidFill>
                <a:latin typeface="Comic Sans MS"/>
              </a:rPr>
              <a:t>~10~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dur="indefinite" fill="hold">
                      <p:stCondLst>
                        <p:cond delay="0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96560" cy="7559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40000" y="0"/>
            <a:ext cx="8640720" cy="78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Алгоритм проведения первой родительской вст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Организация встре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 Введение в тему (актуализац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. Презентация нормативных докумен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. Формулирование проблем в образовании де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. Выделение приоритетов по ликвидации пробл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. Планирование сроков реализации, выбор ответственных, вовлечение (включение) род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7.   Выбор и утверждение совместной формы рабо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8. Корректирование плана мероприятия (раздача печатного варианта каждой семь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80099"/>
                </a:solidFill>
                <a:latin typeface="Comic Sans MS"/>
              </a:rPr>
              <a:t>~11~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dur="indefinite" fill="hold">
                      <p:stCondLst>
                        <p:cond delay="0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10096560" cy="755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1096920" y="493560"/>
          <a:ext cx="8943480" cy="6918120"/>
        </p:xfrm>
        <a:graphic>
          <a:graphicData uri="http://schemas.openxmlformats.org/drawingml/2006/table">
            <a:tbl>
              <a:tblPr/>
              <a:tblGrid>
                <a:gridCol w="1917000"/>
                <a:gridCol w="2649240"/>
                <a:gridCol w="815400"/>
                <a:gridCol w="925560"/>
                <a:gridCol w="996840"/>
                <a:gridCol w="1639440"/>
              </a:tblGrid>
              <a:tr h="10346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ор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ветстве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</a:tr>
              <a:tr h="19411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ализация программы «Игра в театр» по ведущему художественно-эстетическому  направлению в ДО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оль семьи в различных формах образовательной деятель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нферен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дагог дополнительного образ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 января 20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одители-участники образовательной деятель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143172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зучить возрастные особенности детей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сихолого-физиологические особенности детей дошкольного возрас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руглый сто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сихо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ед. сест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 ноября 2015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формированность роди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мят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укле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25106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зучить нормативно-правовую баз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786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 организации воспитательно-образовательного процесса в ДОУ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4700b8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емейный кодекс РФ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Закон «Об основных гарантиях прав ребенка в Российской Федерации»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кон «Об образовании в Российской Федерации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нферен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юри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дминистрация учреж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 ноября 2015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свещение  роди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1440000" y="-81000"/>
            <a:ext cx="864072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лан проведения семейного клу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000" y="-81000"/>
            <a:ext cx="864072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лан проведения семейного клу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0000" y="7199280"/>
            <a:ext cx="8640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80099"/>
                </a:solidFill>
                <a:latin typeface="Comic Sans MS"/>
              </a:rPr>
              <a:t>~12~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dur="indefinite" fill="hold">
                      <p:stCondLst>
                        <p:cond delay="0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96560" cy="755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1150920" y="108000"/>
          <a:ext cx="8898120" cy="7227720"/>
        </p:xfrm>
        <a:graphic>
          <a:graphicData uri="http://schemas.openxmlformats.org/drawingml/2006/table">
            <a:tbl>
              <a:tblPr/>
              <a:tblGrid>
                <a:gridCol w="2171880"/>
                <a:gridCol w="1434960"/>
                <a:gridCol w="1398600"/>
                <a:gridCol w="1014480"/>
                <a:gridCol w="977760"/>
                <a:gridCol w="1900440"/>
              </a:tblGrid>
              <a:tr h="251460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азработать рекомендации по созданию благоприятных условий для развития детей (в соответствии ФГОС) в семь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91840" bIns="3600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обходимые компоненты РПП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руглый сто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абота в групп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спита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декабря 2015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лучение знаний по проектированию развивающей среды в семьях воспитаннико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9852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планировать предметно-пространственную среду в каждой возрастной группе  (в соответствии ФГОС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обходимые компоненты РПП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руглый сто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абота в групп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спита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 сентября 20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лучение знаний по проектированию развивающей среды в групп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251460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рганизовать проектно-исследовательскую деятельность для развития конструктивного взаимодействия с семье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ребование Стандарта к усвоению целевых ориентир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нсультация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05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комендации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05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актику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дагог дополнительного образования,воспита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 февра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мар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 апрел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 м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вместная творческая деятельность Возможные достижения реб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свещение в С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1440000" y="7110360"/>
            <a:ext cx="8640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80099"/>
                </a:solidFill>
                <a:latin typeface="Comic Sans MS"/>
              </a:rPr>
              <a:t>~13~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dur="indefinite" fill="hold">
                      <p:stCondLst>
                        <p:cond delay="0"/>
                      </p:stCondLst>
                      <p:childTnLst>
                        <p:par>
                          <p:cTn id="2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96560" cy="755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1150920" y="108000"/>
          <a:ext cx="8898120" cy="3066840"/>
        </p:xfrm>
        <a:graphic>
          <a:graphicData uri="http://schemas.openxmlformats.org/drawingml/2006/table">
            <a:tbl>
              <a:tblPr/>
              <a:tblGrid>
                <a:gridCol w="2171880"/>
                <a:gridCol w="1434960"/>
                <a:gridCol w="1398600"/>
                <a:gridCol w="1014480"/>
                <a:gridCol w="977760"/>
                <a:gridCol w="1900440"/>
              </a:tblGrid>
              <a:tr h="131796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Segoe UI"/>
                        </a:rPr>
                        <a:t>осваивать технологию «Сценическое мастерство» (автор Каныгина Г.А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18252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ектирование сценариев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вместный конце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дагог дополнительного образ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3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Segoe UI"/>
                        </a:rPr>
                        <a:t>2015-2016 уч.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Segoe UI"/>
                        </a:rPr>
                        <a:t>Умение создавать проек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05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323440">
                <a:tc>
                  <a:txBody>
                    <a:bodyPr lIns="36000" rIns="36000" tIns="45000" bIns="360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Segoe UI"/>
                        </a:rPr>
                        <a:t>создать психологически-комфортную атмосферу, способствующую творческому самовыражению каждого участника процес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Segoe UI"/>
                        </a:rPr>
                        <a:t>Освоение деятельностных технологий (Л.С. Выготский, Л. Д. Б.Эльконин и др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Segoe UI"/>
                        </a:rPr>
                        <a:t>серия тренинг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сихо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3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5-2016 уч.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3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Segoe U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Segoe UI"/>
                        </a:rPr>
                        <a:t>Освоили технологии и приема общ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1440000" y="7110360"/>
            <a:ext cx="8640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80099"/>
                </a:solidFill>
                <a:latin typeface="Comic Sans MS"/>
              </a:rPr>
              <a:t>~13~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dur="indefinite" fill="hold">
                      <p:stCondLst>
                        <p:cond delay="0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0096560" cy="755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440000" y="900000"/>
            <a:ext cx="856584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Творческая мастерска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одна из  форм организации воспитательно-образовательного процесса, где каждому участнику предоставляется возможность для удовлетворения своих желаний и потребностей в творческ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80099"/>
                </a:solidFill>
                <a:latin typeface="Comic Sans MS"/>
              </a:rPr>
              <a:t>http://nsportal.ru/detskiy-sad/raznoe/2012/05/22/tvorcheskaya-masterska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Творческая мастерская</a:t>
            </a:r>
            <a:r>
              <a:rPr b="1" lang="ru-RU" sz="2400" spc="-1" strike="noStrike">
                <a:solidFill>
                  <a:srgbClr val="280099"/>
                </a:solidFill>
                <a:latin typeface="Comic Sans MS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сто, где есть все необходимые условия для реализации всех участников процесса в творческом направлении (изобразительном, декоративно-прикладном искусстве, литературной деятельности, изготовление игрушек, сочинение сказок, постановка мини сценок и т. 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80099"/>
                </a:solidFill>
                <a:latin typeface="Comic Sans MS"/>
              </a:rPr>
              <a:t>Определение груп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0000" y="12600"/>
            <a:ext cx="86407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Творческая мастерск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0000" y="7110360"/>
            <a:ext cx="8640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80099"/>
                </a:solidFill>
                <a:latin typeface="Comic Sans MS"/>
              </a:rPr>
              <a:t>~14~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dur="indefinite" fill="hold">
                      <p:stCondLst>
                        <p:cond delay="0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96560" cy="7559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40000" y="-36360"/>
            <a:ext cx="84596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ширение кругозора в различных сферах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учить доводить начатое дело до кон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довлетворение от проделанной работы и получение результата, в виде своего изобрет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становление эмоционального контакта между педагогами,  родителями, детьми, взаимосвязь между поколени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крытие творческих способностей, воображения, фантаз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лучшение детско-родительских отношений на основе предметной совместн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0000" y="7122960"/>
            <a:ext cx="8640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80099"/>
                </a:solidFill>
                <a:latin typeface="Comic Sans MS"/>
              </a:rPr>
              <a:t>~15~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dur="indefinite" fill="hold">
                      <p:stCondLst>
                        <p:cond delay="0"/>
                      </p:stCondLst>
                      <p:childTnLst>
                        <p:par>
                          <p:cTn id="3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0096560" cy="7559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60360" y="357120"/>
            <a:ext cx="86407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ланируемые результа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здавать и преобразовывать схемы и модели для решения творческих зад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нимать культурно – историческую ценность традиций, отраженных предметном мире, и уважать 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уществлять совместную продуктивную деятельности(изготовление декораций, костюмов, составление сценариев, презентация проект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трудничать и оказывать взаимопомощь, доброжелательно и уважительно строить свое общение со сверстниками и взрослы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40000" y="7110360"/>
            <a:ext cx="8640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80099"/>
                </a:solidFill>
                <a:latin typeface="Comic Sans MS"/>
              </a:rPr>
              <a:t>~16~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dur="indefinite" fill="hold">
                      <p:stCondLst>
                        <p:cond delay="0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9640" y="2417760"/>
            <a:ext cx="414036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спасибо за внимани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2717640"/>
            <a:ext cx="414036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конец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dur="indefinite" fill="hold">
                      <p:stCondLst>
                        <p:cond delay="0"/>
                      </p:stCondLst>
                      <p:childTnLst>
                        <p:par>
                          <p:cTn id="3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9656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63760" y="54000"/>
            <a:ext cx="8640720" cy="79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одель взаимодействия ДОУ с семьей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dc2300"/>
                </a:solidFill>
                <a:latin typeface="Comic Sans MS"/>
              </a:rPr>
              <a:t>Семейный клуб «Радуга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Разработчик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Юрова Н.Ю.,  воспитатель МАОУ СОШ № 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ошкольные группы г. Сосновобор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80099"/>
                </a:solidFill>
                <a:latin typeface="Comic Sans MS"/>
              </a:rPr>
              <a:t>~1~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009656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19280" y="1220760"/>
            <a:ext cx="809784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Берегите своих детей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Их за шалости не ругайте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Зло своих неудачных дне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Никогда на них не срывайт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80000" y="4741920"/>
            <a:ext cx="3780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дуард Аса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60360" y="7199280"/>
            <a:ext cx="8640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80099"/>
                </a:solidFill>
                <a:latin typeface="Comic Sans MS"/>
              </a:rPr>
              <a:t>~2~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0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0096560" cy="7559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49280" y="0"/>
            <a:ext cx="8731440" cy="80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Клуб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от англ. clob или club через нем. club) — место встречи людей с едиными интересами (деловыми, познавательными, развивающими, развлекательными, коллекционированием и п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ru-RU" sz="2400" spc="-1" strike="noStrike">
                <a:solidFill>
                  <a:srgbClr val="280099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280099"/>
                </a:solidFill>
                <a:latin typeface="Comic Sans MS"/>
              </a:rPr>
              <a:t>https://ru.wikipedia.org/wiki/Клу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Клуб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щественная организация, объединяющая людей на основе общности, сходства, близости интересов заня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80099"/>
                </a:solidFill>
                <a:latin typeface="Comic Sans MS"/>
              </a:rPr>
              <a:t>С.И. Ожегов Толковый словарь русского я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емейный клуб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- одна из форм сотрудничества родителей, детей и специалистов учреждений социальной защиты населения, образования, культу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80099"/>
                </a:solidFill>
                <a:latin typeface="Comic Sans MS"/>
              </a:rPr>
              <a:t>http://www.familykras.ru/node/14.ph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80099"/>
                </a:solidFill>
                <a:latin typeface="Comic Sans MS"/>
              </a:rPr>
              <a:t>~3~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0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009656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40000" y="7199280"/>
            <a:ext cx="8640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80099"/>
                </a:solidFill>
                <a:latin typeface="Comic Sans MS"/>
              </a:rPr>
              <a:t>~4~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733320"/>
            <a:ext cx="8280360" cy="32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емейный клуб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спективная форма работы с родителями, учитывающая актуальные потребности семей и способствующая формированию активной жизненной позиции участников процесса, укреплению института семьи, передаче опыта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спитании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80099"/>
                </a:solidFill>
                <a:latin typeface="Comic Sans MS"/>
              </a:rPr>
              <a:t>Определение груп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fill="hold">
                      <p:stCondLst>
                        <p:cond delay="0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009656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40000" y="0"/>
            <a:ext cx="8577000" cy="76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Актуально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емья и детский сад – два общественных института, которые стоят у истоков нашего будущего. Необходимо обеспечить психолого-педагогическую поддержку семьи и повысить компетентность родителей (законных представителей) в вопросах развития и образования, охраны и укрепления здоровья детей. (ФГОС ДО раздел 1,6 п. 9)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80099"/>
                </a:solidFill>
                <a:latin typeface="Comic Sans MS"/>
              </a:rPr>
              <a:t>~5~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0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0096560" cy="7559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60360" y="733320"/>
            <a:ext cx="8672760" cy="68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Це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оздать единую образовательную среду со всеми участниками образовательного процесса , посредств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еатральной игры, для раскрытия творческого потенциала воспитанников группы «Радуг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80099"/>
                </a:solidFill>
                <a:latin typeface="Comic Sans MS"/>
              </a:rPr>
              <a:t>~6~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0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96560" cy="7559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440000" y="179280"/>
            <a:ext cx="8678880" cy="80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Зада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Взаимодействие и объединение  всех участников образовательного процесса в одну команду «Радуг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резентация и реализация парциальной    образовательной программы            «Игра в театр» по художественно-эстетическому     направления для повышения  педагогической         культуры род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80099"/>
                </a:solidFill>
                <a:latin typeface="Comic Sans MS"/>
              </a:rPr>
              <a:t>~7~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dur="indefinite" fill="hold">
                      <p:stCondLst>
                        <p:cond delay="0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96560" cy="7559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19280" y="0"/>
            <a:ext cx="8388360" cy="82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Участн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воспитат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родители (законные представители) и члены семь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воспитан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администр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специалисты (медицинская сестра, физ. инструктор, логопед, психолог и друг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социальные партн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80099"/>
                </a:solidFill>
                <a:latin typeface="Comic Sans MS"/>
              </a:rPr>
              <a:t>~8~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dur="indefinite" fill="hold">
                      <p:stCondLst>
                        <p:cond delay="0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4:32:32Z</dcterms:created>
  <dc:creator/>
  <dc:description/>
  <dc:language>en-US</dc:language>
  <cp:lastModifiedBy>user_c35a</cp:lastModifiedBy>
  <dcterms:modified xsi:type="dcterms:W3CDTF">2015-10-27T08:32:40Z</dcterms:modified>
  <cp:revision>14</cp:revision>
  <dc:subject/>
  <dc:title>Слайд 1</dc:title>
</cp:coreProperties>
</file>