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3D09-E34F-4F3D-BE57-86A8F21D8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A10-5B6A-4197-8A7E-F1A3B4AD0C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A92-BC61-4D49-A22D-5A1C9D82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CDC-4ED1-403D-BCA3-4E461A38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B2D-C99C-48BB-83CA-CCF7780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C59-1804-4DBC-BFF2-AE72F829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F8C-C791-4484-B58A-10DD8965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FA0-4D69-4B95-A050-2045F14F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3F1-F25A-4457-9280-BCCF9E5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4F2-4FDD-466A-AE19-84678E14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84C-CB4A-4219-B2D7-EF874EE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ACE-202E-443D-8CB5-F0C3F9F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3EE-65BA-42E1-A9CF-7C085063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BF7-6487-4229-BF0B-160332E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D51-AABF-4B91-B59B-D09A8A7E8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 Narrow"/>
              </a:rPr>
              <a:t>Первые шаги в обуч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FNOc0SU5RI"/>
          <p:cNvPicPr/>
          <p:nvPr/>
        </p:nvPicPr>
        <p:blipFill>
          <a:blip r:embed="rId2"/>
          <a:stretch/>
        </p:blipFill>
        <p:spPr>
          <a:xfrm>
            <a:off x="179280" y="1484280"/>
            <a:ext cx="4056120" cy="269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up9HTIqpn94"/>
          <p:cNvPicPr/>
          <p:nvPr/>
        </p:nvPicPr>
        <p:blipFill>
          <a:blip r:embed="rId3"/>
          <a:stretch/>
        </p:blipFill>
        <p:spPr>
          <a:xfrm>
            <a:off x="2340000" y="4365720"/>
            <a:ext cx="1754280" cy="2492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rGZdCI0v-qs"/>
          <p:cNvPicPr/>
          <p:nvPr/>
        </p:nvPicPr>
        <p:blipFill>
          <a:blip r:embed="rId4"/>
          <a:stretch/>
        </p:blipFill>
        <p:spPr>
          <a:xfrm>
            <a:off x="755640" y="4365720"/>
            <a:ext cx="171612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ZvKk4RE9P0k"/>
          <p:cNvPicPr/>
          <p:nvPr/>
        </p:nvPicPr>
        <p:blipFill>
          <a:blip r:embed="rId5"/>
          <a:stretch/>
        </p:blipFill>
        <p:spPr>
          <a:xfrm>
            <a:off x="3995640" y="4365720"/>
            <a:ext cx="1765440" cy="24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jFBdufpasT0"/>
          <p:cNvPicPr/>
          <p:nvPr/>
        </p:nvPicPr>
        <p:blipFill>
          <a:blip r:embed="rId6"/>
          <a:stretch/>
        </p:blipFill>
        <p:spPr>
          <a:xfrm>
            <a:off x="5724360" y="4365720"/>
            <a:ext cx="1752840" cy="249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UL8VrkAKJ2M"/>
          <p:cNvPicPr/>
          <p:nvPr/>
        </p:nvPicPr>
        <p:blipFill>
          <a:blip r:embed="rId7"/>
          <a:stretch/>
        </p:blipFill>
        <p:spPr>
          <a:xfrm>
            <a:off x="7475400" y="4365720"/>
            <a:ext cx="1668600" cy="249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V4B7UeSZTIU"/>
          <p:cNvPicPr/>
          <p:nvPr/>
        </p:nvPicPr>
        <p:blipFill>
          <a:blip r:embed="rId8"/>
          <a:stretch/>
        </p:blipFill>
        <p:spPr>
          <a:xfrm>
            <a:off x="7523280" y="1844640"/>
            <a:ext cx="1620720" cy="243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d__ugvOZH0"/>
          <p:cNvPicPr/>
          <p:nvPr/>
        </p:nvPicPr>
        <p:blipFill>
          <a:blip r:embed="rId9"/>
          <a:stretch/>
        </p:blipFill>
        <p:spPr>
          <a:xfrm>
            <a:off x="5940360" y="1484280"/>
            <a:ext cx="16192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PWpO39TcnYs"/>
          <p:cNvPicPr/>
          <p:nvPr/>
        </p:nvPicPr>
        <p:blipFill>
          <a:blip r:embed="rId10"/>
          <a:stretch/>
        </p:blipFill>
        <p:spPr>
          <a:xfrm>
            <a:off x="4356000" y="1844640"/>
            <a:ext cx="1621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Arial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250020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99720" y="1571760"/>
            <a:ext cx="73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http://school25-1.nichost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папка «ЦИО Университетского округа ПГГП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4"/>
              </a:rPr>
              <a:t>http://fppkdo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5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 курсы ЦИО. Тема: «Развит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языковой и речевой и речевой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 детей – мигрантов начальной шк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27e00"/>
                </a:solidFill>
                <a:latin typeface="Arial"/>
              </a:rPr>
              <a:t>Состав 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00000" y="980640"/>
            <a:ext cx="7858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е – 17 (Один ребенок из смешанной семьи. Воспитывается как по русским, так и по узбекский традиция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офонов – 1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 ни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ргизы – 3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беки – 5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джики – 1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7e00"/>
                </a:solidFill>
                <a:latin typeface="Arial Unicode MS"/>
              </a:rPr>
              <a:t>Трудности</a:t>
            </a:r>
            <a:r>
              <a:rPr b="0" lang="ru-RU" sz="4000" spc="-1" strike="noStrike">
                <a:solidFill>
                  <a:srgbClr val="f27e00"/>
                </a:solidFill>
                <a:latin typeface="Arial"/>
              </a:rPr>
              <a:t> обучения и воспитания детей - инофо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4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й уровень развития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онимание некоторыми детьми русского языка. Бедный словарный запа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мение чита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со звукопроизношени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фонематического слух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мках внеклассной и воспитательной работы происходит столкновение культу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мания и принятия культурных цен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6358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 Narrow"/>
              </a:rPr>
              <a:t>Проблемы обучения русскому языку как неродно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28800" y="2143080"/>
            <a:ext cx="761976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бучение детей-инофонов ведётся по учебникам для русскоговорящих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ребования к уровню подготовленности учащихся предъявляются одинаков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знаний методики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преподавания русского языка как иностранн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e00"/>
                </a:solidFill>
                <a:latin typeface="Calibri"/>
              </a:rPr>
              <a:t>Шаги по началу обуч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412640"/>
            <a:ext cx="78710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овела диагностику детей (присутствовали родител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овела консультацию родителей и выдала рекоменд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аправила родителей в школьный клуб «Азбука успех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аправила родителей на занятия в центр образования «Академия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оведение занятий в малых групп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Разделила группу на два уровня (средний и низкий). Проведение занятий в группах в разное время, по разным програм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а данный момент в процессе создания индивидуального маршрута сопровож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оведение консультаций по запросу родителей в том числе и со специалис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 Narrow"/>
              </a:rPr>
              <a:t>Два напра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2143080"/>
            <a:ext cx="4033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полнение словарного запа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строение фраз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коммуникатив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Уроки грам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16360" y="2133360"/>
            <a:ext cx="3897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знакомство и отработка орфограм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строение предлож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особенности морфологии русского я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ботка навыка чт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 Narrow"/>
              </a:rPr>
              <a:t>Уроки грамматики</a:t>
            </a:r>
            <a:br>
              <a:rPr sz="4000"/>
            </a:br>
            <a:r>
              <a:rPr b="1" lang="ru-RU" sz="2700" spc="-1" strike="noStrike">
                <a:solidFill>
                  <a:srgbClr val="e46c0a"/>
                </a:solidFill>
                <a:latin typeface="Arial Narrow"/>
              </a:rPr>
              <a:t>(учебные пособия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00080" y="1571400"/>
            <a:ext cx="77580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учебник «Азбука» Горецкий В.Г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дидактические материалы, созданные творческим коллективом педагогов школ г. Перми № 25, № 42, № 72, МАОУ Култаевская средняя шко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609480" y="175248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26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Используемые упражн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5880" y="1213920"/>
            <a:ext cx="8137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ртикуляционная гимнаст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развитие фонематического слух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словообразовани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составление тематических групп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объяснение лексического значения сло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включение нового слова в словосочетание, предложение, в текс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картинками (группировка, объяснение деталей, объяснение слов, составление рассказа по серии картинок или вокруг одно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e00"/>
                </a:solidFill>
                <a:latin typeface="Arial"/>
              </a:rPr>
              <a:t>Наш научный деб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ksbAe67xqhs"/>
          <p:cNvPicPr/>
          <p:nvPr/>
        </p:nvPicPr>
        <p:blipFill>
          <a:blip r:embed="rId1"/>
          <a:stretch/>
        </p:blipFill>
        <p:spPr>
          <a:xfrm>
            <a:off x="1042920" y="1628640"/>
            <a:ext cx="2544840" cy="381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bp_Caq59GE"/>
          <p:cNvPicPr/>
          <p:nvPr/>
        </p:nvPicPr>
        <p:blipFill>
          <a:blip r:embed="rId2"/>
          <a:stretch/>
        </p:blipFill>
        <p:spPr>
          <a:xfrm>
            <a:off x="3780000" y="177336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User</cp:lastModifiedBy>
  <dcterms:modified xsi:type="dcterms:W3CDTF">2017-11-17T07:56:03Z</dcterms:modified>
  <cp:revision>117</cp:revision>
  <dc:subject/>
  <dc:title>Развитие  языковой и  речевой  компетентности  детей  мигрантов</dc:title>
</cp:coreProperties>
</file>