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95F4-BF2D-4D1C-ACBF-44B2F7F6BB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55D2-2D5D-4A0F-ADE3-70A08A669F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5E97-E22B-49F0-948B-91C0895CA2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4236-5ECD-4875-8A5F-1BBA21A6CC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28B-AE78-4F61-A57C-9026953E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317-873E-4069-BE3B-3D00244F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606-1B24-4F97-93EE-9E1D22D4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AB6-4862-4059-AD39-6572EF07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8C6D-796F-464C-9DFD-82F53C82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EC08-B95D-4326-99E8-619A63C8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C368-BB16-4D3F-8306-A9231E82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6642-9F26-4407-92FC-45722F75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28F5-183D-4627-81A7-0E514D94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3EE7-5044-4084-8E8D-A6AF6008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E8DD-6B74-438E-BB9F-4616B90A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63A-4163-4EAF-B604-C8E544EC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61A8-711A-423A-A2D6-E267EBBF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F04A-4DAC-440B-9942-48C8D9EE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02A5-C675-4806-8822-906B22D5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B65A-BBB6-4933-8DC0-1EF00103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6918-8475-4CEB-959F-08AA74CA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E24-73CF-4CFC-A54E-66D14276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E40-96BF-4998-A9A6-38E30FAD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D7F-CEF1-4C2E-AD93-EBD82D82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B00-151A-4587-86D7-172DD165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593-8D0C-4897-AD0A-E3DC7538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370-97AA-4057-92ED-7180F8F8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9CD-93A3-471F-9393-D846BD4D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3F8B-C8B6-497F-A9D0-6341F21738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58CC-8426-4E6D-BE62-27085AD015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4000" y="98100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Что Это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Прямая со стрелкой 5"/>
          <p:cNvCxnSpPr/>
          <p:nvPr/>
        </p:nvCxnSpPr>
        <p:spPr>
          <a:xfrm>
            <a:off x="2916000" y="1773360"/>
            <a:ext cx="1369080" cy="2736000"/>
          </a:xfrm>
          <a:prstGeom prst="straightConnector1">
            <a:avLst/>
          </a:prstGeom>
          <a:ln cap="sq" w="1260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1" name="Прямая со стрелкой 9"/>
          <p:cNvCxnSpPr/>
          <p:nvPr/>
        </p:nvCxnSpPr>
        <p:spPr>
          <a:xfrm>
            <a:off x="4788000" y="5013000"/>
            <a:ext cx="57636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Прямоугольник 12"/>
          <p:cNvSpPr/>
          <p:nvPr/>
        </p:nvSpPr>
        <p:spPr>
          <a:xfrm>
            <a:off x="1403280" y="4581360"/>
            <a:ext cx="5977080" cy="935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50920" y="4581360"/>
            <a:ext cx="8610480" cy="998640"/>
          </a:xfrm>
          <a:prstGeom prst="rect">
            <a:avLst/>
          </a:prstGeom>
          <a:gradFill rotWithShape="0">
            <a:gsLst>
              <a:gs pos="0">
                <a:srgbClr val="a8a8e3"/>
              </a:gs>
              <a:gs pos="100000">
                <a:srgbClr val="e8e8f8"/>
              </a:gs>
            </a:gsLst>
            <a:lin ang="16200000"/>
          </a:gradFill>
          <a:ln w="9360">
            <a:solidFill>
              <a:srgbClr val="0000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3"/>
                </a:solidFill>
                <a:latin typeface="Arial"/>
              </a:rPr>
              <a:t>H</a:t>
            </a:r>
            <a:r>
              <a:rPr b="1" i="1" lang="en-US" sz="4000" spc="-1" strike="noStrike" baseline="-25000">
                <a:solidFill>
                  <a:srgbClr val="000073"/>
                </a:solidFill>
                <a:latin typeface="Arial"/>
              </a:rPr>
              <a:t>2</a:t>
            </a:r>
            <a:r>
              <a:rPr b="1" i="1" lang="en-US" sz="4000" spc="-1" strike="noStrike">
                <a:solidFill>
                  <a:srgbClr val="000073"/>
                </a:solidFill>
                <a:latin typeface="Arial"/>
              </a:rPr>
              <a:t>O+</a:t>
            </a:r>
            <a:r>
              <a:rPr b="1" i="1" lang="ru-RU" sz="40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73"/>
                </a:solidFill>
                <a:latin typeface="Arial"/>
              </a:rPr>
              <a:t>С</a:t>
            </a:r>
            <a:r>
              <a:rPr b="1" i="1" lang="en-US" sz="4000" spc="-1" strike="noStrike">
                <a:solidFill>
                  <a:srgbClr val="000073"/>
                </a:solidFill>
                <a:latin typeface="Arial"/>
              </a:rPr>
              <a:t>O</a:t>
            </a:r>
            <a:r>
              <a:rPr b="1" i="1" lang="en-US" sz="4000" spc="-1" strike="noStrike" baseline="-25000">
                <a:solidFill>
                  <a:srgbClr val="000073"/>
                </a:solidFill>
                <a:latin typeface="Arial"/>
              </a:rPr>
              <a:t>2          </a:t>
            </a:r>
            <a:r>
              <a:rPr b="1" i="1" lang="en-US" sz="4000" spc="-1" strike="noStrike">
                <a:solidFill>
                  <a:srgbClr val="000073"/>
                </a:solidFill>
                <a:latin typeface="Arial"/>
              </a:rPr>
              <a:t>H</a:t>
            </a:r>
            <a:r>
              <a:rPr b="1" i="1" lang="en-US" sz="4000" spc="-1" strike="noStrike" baseline="-25000">
                <a:solidFill>
                  <a:srgbClr val="000073"/>
                </a:solidFill>
                <a:latin typeface="Arial"/>
              </a:rPr>
              <a:t>2</a:t>
            </a:r>
            <a:r>
              <a:rPr b="1" i="1" lang="ru-RU" sz="4000" spc="-1" strike="noStrike">
                <a:solidFill>
                  <a:srgbClr val="000073"/>
                </a:solidFill>
                <a:latin typeface="Arial"/>
              </a:rPr>
              <a:t>С</a:t>
            </a:r>
            <a:r>
              <a:rPr b="1" i="1" lang="en-US" sz="4000" spc="-1" strike="noStrike">
                <a:solidFill>
                  <a:srgbClr val="000073"/>
                </a:solidFill>
                <a:latin typeface="Arial"/>
              </a:rPr>
              <a:t>O</a:t>
            </a:r>
            <a:r>
              <a:rPr b="1" i="1" lang="ru-RU" sz="4000" spc="-1" strike="noStrike" baseline="-25000">
                <a:solidFill>
                  <a:srgbClr val="000073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Стрелка вправо 15"/>
          <p:cNvSpPr/>
          <p:nvPr/>
        </p:nvSpPr>
        <p:spPr>
          <a:xfrm>
            <a:off x="4716360" y="4797360"/>
            <a:ext cx="647640" cy="432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0066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ПРОВЕРИМ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 =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Fe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KCl +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l +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 = Al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Zn +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Cl = ZnCl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u(Н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CuO +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gO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g + 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Ca(N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lgtp"/>
          <p:cNvPicPr/>
          <p:nvPr/>
        </p:nvPicPr>
        <p:blipFill>
          <a:blip r:embed="rId1"/>
          <a:stretch/>
        </p:blipFill>
        <p:spPr>
          <a:xfrm>
            <a:off x="6012000" y="2349360"/>
            <a:ext cx="2376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835344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Оценим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2781000"/>
            <a:ext cx="86104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                 </a:t>
            </a:r>
            <a:r>
              <a:rPr b="1" i="1" lang="ru-RU" sz="3600" spc="-1" strike="noStrike">
                <a:solidFill>
                  <a:srgbClr val="7030a0"/>
                </a:solidFill>
                <a:latin typeface="Comic Sans MS"/>
              </a:rPr>
              <a:t>«5» 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- без ошиб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           </a:t>
            </a: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«4»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 - 1-2 ошиб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d4"/>
                </a:solidFill>
                <a:latin typeface="Comic Sans MS"/>
              </a:rPr>
              <a:t>           </a:t>
            </a:r>
            <a:r>
              <a:rPr b="1" i="1" lang="ru-RU" sz="3600" spc="-1" strike="noStrike">
                <a:solidFill>
                  <a:srgbClr val="0000d4"/>
                </a:solidFill>
                <a:latin typeface="Comic Sans MS"/>
              </a:rPr>
              <a:t>«3»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 - 3-4 ошиб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изкультминутка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C:\Users\Анастасия\Desktop\gl4.jpg"/>
          <p:cNvPicPr/>
          <p:nvPr/>
        </p:nvPicPr>
        <p:blipFill>
          <a:blip r:embed="rId1"/>
          <a:stretch/>
        </p:blipFill>
        <p:spPr>
          <a:xfrm>
            <a:off x="507960" y="1773360"/>
            <a:ext cx="845676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421000"/>
            <a:ext cx="896472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Классификаци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пределение объектов и явлений по классам, группам на основе их общих признак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7416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Классификация химических реакций по числу и составу исходных и полученных вещест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11280" y="2637000"/>
            <a:ext cx="792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АКЦИИ СОЕДИ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АКЦИИ ЗАМЕ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РЕАКЦИИ СОЕДИН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+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4572000" y="2565360"/>
            <a:ext cx="50472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 rot="5400000">
            <a:off x="3491280" y="2348640"/>
            <a:ext cx="289080" cy="1297080"/>
          </a:xfrm>
          <a:custGeom>
            <a:avLst/>
            <a:gdLst>
              <a:gd name="textAreaLeft" fmla="*/ 0 w 289080"/>
              <a:gd name="textAreaRight" fmla="*/ 104400 w 2890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99"/>
                </a:lnTo>
                <a:cubicBezTo>
                  <a:pt x="10800" y="9499"/>
                  <a:pt x="16200" y="10399"/>
                  <a:pt x="21600" y="10399"/>
                </a:cubicBezTo>
                <a:cubicBezTo>
                  <a:pt x="16200" y="10399"/>
                  <a:pt x="10800" y="11299"/>
                  <a:pt x="10800" y="121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324000" y="3573360"/>
            <a:ext cx="2735280" cy="906480"/>
          </a:xfrm>
          <a:prstGeom prst="borderCallout2">
            <a:avLst>
              <a:gd name="adj1" fmla="val 18750"/>
              <a:gd name="adj2" fmla="val -8333"/>
              <a:gd name="adj3" fmla="val 12611"/>
              <a:gd name="adj4" fmla="val 112537"/>
              <a:gd name="adj5" fmla="val -35375"/>
              <a:gd name="adj6" fmla="val 122402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ескольк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ще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5940360" y="3500280"/>
            <a:ext cx="280836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-6615"/>
              <a:gd name="adj5" fmla="val -74189"/>
              <a:gd name="adj6" fmla="val -13736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дн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ол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е ве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971640" y="501336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акциями соеди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ют реакции, при которых из нескольких веществ образуется одно более сложное вещест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РЕАКЦИИ СОЕДИН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ch08_30_03 (1).wmv" descr=""/>
          <p:cNvPicPr/>
          <p:nvPr/>
        </p:nvPicPr>
        <p:blipFill>
          <a:blip r:embed="rId1"/>
          <a:stretch/>
        </p:blipFill>
        <p:spPr>
          <a:xfrm>
            <a:off x="1857240" y="1571760"/>
            <a:ext cx="6143760" cy="491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Users\Анастасия\Desktop\slide_19.jpg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611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Users\Анастасия\Desktop\img6.jpg"/>
          <p:cNvPicPr/>
          <p:nvPr/>
        </p:nvPicPr>
        <p:blipFill>
          <a:blip r:embed="rId3"/>
          <a:stretch/>
        </p:blipFill>
        <p:spPr>
          <a:xfrm>
            <a:off x="0" y="141300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333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РЕАКЦИИ РАЗЛОЖ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042920" y="2133720"/>
            <a:ext cx="626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СО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3635280" y="2421000"/>
            <a:ext cx="50328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395280" y="3573360"/>
            <a:ext cx="230508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07782"/>
              <a:gd name="adj5" fmla="val -91398"/>
              <a:gd name="adj6" fmla="val 112467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дн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ложное ве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5651640" y="3675240"/>
            <a:ext cx="2736720" cy="906120"/>
          </a:xfrm>
          <a:prstGeom prst="borderCallout2">
            <a:avLst>
              <a:gd name="adj1" fmla="val 18750"/>
              <a:gd name="adj2" fmla="val -8333"/>
              <a:gd name="adj3" fmla="val 12611"/>
              <a:gd name="adj4" fmla="val -6324"/>
              <a:gd name="adj5" fmla="val -52712"/>
              <a:gd name="adj6" fmla="val -9916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ескольк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ще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826920" y="5084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акциями раз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ют реакции, при которых из одного более сложного вещества образуется несколько более простых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2"/>
          <p:cNvSpPr/>
          <p:nvPr/>
        </p:nvSpPr>
        <p:spPr>
          <a:xfrm rot="5400000">
            <a:off x="5148000" y="2131920"/>
            <a:ext cx="431640" cy="1584360"/>
          </a:xfrm>
          <a:custGeom>
            <a:avLst/>
            <a:gdLst>
              <a:gd name="textAreaLeft" fmla="*/ 0 w 431640"/>
              <a:gd name="textAreaRight" fmla="*/ 155880 w 43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99"/>
                </a:lnTo>
                <a:cubicBezTo>
                  <a:pt x="10800" y="9499"/>
                  <a:pt x="16200" y="10399"/>
                  <a:pt x="21600" y="10399"/>
                </a:cubicBezTo>
                <a:cubicBezTo>
                  <a:pt x="16200" y="10399"/>
                  <a:pt x="10800" y="11299"/>
                  <a:pt x="10800" y="121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РЕАКЦИИ РАЗЛОЖ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ch08_29_03 (1).wmv" descr=""/>
          <p:cNvPicPr/>
          <p:nvPr/>
        </p:nvPicPr>
        <p:blipFill>
          <a:blip r:embed="rId1"/>
          <a:stretch/>
        </p:blipFill>
        <p:spPr>
          <a:xfrm>
            <a:off x="1643040" y="1571760"/>
            <a:ext cx="63579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054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РЕАКЦИИ ЗАМЕЩ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ZnCl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4140360" y="3068640"/>
            <a:ext cx="72072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 rot="398400">
            <a:off x="2317680" y="1996560"/>
            <a:ext cx="1441440" cy="935280"/>
          </a:xfrm>
          <a:custGeom>
            <a:avLst/>
            <a:gdLst>
              <a:gd name="textAreaLeft" fmla="*/ 252000 w 1441440"/>
              <a:gd name="textAreaRight" fmla="*/ 1045080 w 1441440"/>
              <a:gd name="textAreaTop" fmla="*/ 125280 h 935280"/>
              <a:gd name="textAreaBottom" fmla="*/ 810000 h 93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468360" y="4149720"/>
            <a:ext cx="1728720" cy="690480"/>
          </a:xfrm>
          <a:prstGeom prst="borderCallout2">
            <a:avLst>
              <a:gd name="adj1" fmla="val 18750"/>
              <a:gd name="adj2" fmla="val -8333"/>
              <a:gd name="adj3" fmla="val 16550"/>
              <a:gd name="adj4" fmla="val 108356"/>
              <a:gd name="adj5" fmla="val -118851"/>
              <a:gd name="adj6" fmla="val 112490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РОСТО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3851280" y="4149720"/>
            <a:ext cx="1940040" cy="690480"/>
          </a:xfrm>
          <a:prstGeom prst="borderCallout2">
            <a:avLst>
              <a:gd name="adj1" fmla="val 18750"/>
              <a:gd name="adj2" fmla="val -8333"/>
              <a:gd name="adj3" fmla="val 16550"/>
              <a:gd name="adj4" fmla="val -9412"/>
              <a:gd name="adj5" fmla="val -118851"/>
              <a:gd name="adj6" fmla="val -15055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ЛОЖНО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50920" y="551664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684360" y="508464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акциями замещ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ют реакции, при которых атомы простого вещества замещают один из элементов в сложном веществе, и образуется новое постое вещество и новое сложное вещ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имических реакций великое множество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навести в них порядок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РЕАКЦИИ ЗАМЕЩ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C:\Users\Анастасия\Desktop\0.jpg"/>
          <p:cNvPicPr/>
          <p:nvPr/>
        </p:nvPicPr>
        <p:blipFill>
          <a:blip r:embed="rId1"/>
          <a:stretch/>
        </p:blipFill>
        <p:spPr>
          <a:xfrm>
            <a:off x="1547640" y="1700280"/>
            <a:ext cx="648036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РЕАКЦИЯ ОБМЕН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N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H+Cu</a:t>
            </a: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SO</a:t>
            </a:r>
            <a:r>
              <a:rPr b="0" i="1" lang="en-US" sz="3200" spc="-1" strike="noStrike" baseline="-25000">
                <a:solidFill>
                  <a:srgbClr val="7030a0"/>
                </a:solidFill>
                <a:latin typeface="Arial"/>
              </a:rPr>
              <a:t>4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Na</a:t>
            </a:r>
            <a:r>
              <a:rPr b="0" i="1" lang="en-US" sz="3200" spc="-1" strike="noStrike" baseline="-25000">
                <a:solidFill>
                  <a:srgbClr val="7030a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SO</a:t>
            </a:r>
            <a:r>
              <a:rPr b="0" i="1" lang="en-US" sz="3200" spc="-1" strike="noStrike" baseline="-25000">
                <a:solidFill>
                  <a:srgbClr val="7030a0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 Cu(OH)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4284720" y="2565360"/>
            <a:ext cx="57636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1692360" y="1844640"/>
            <a:ext cx="1584360" cy="504720"/>
          </a:xfrm>
          <a:custGeom>
            <a:avLst/>
            <a:gdLst>
              <a:gd name="textAreaLeft" fmla="*/ 318960 w 1584360"/>
              <a:gd name="textAreaRight" fmla="*/ 1106640 w 158436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04" hR="21600" stAng="10800000" swAng="5400000"/>
                <a:lnTo>
                  <a:pt x="10737" y="0"/>
                </a:lnTo>
                <a:arcTo wR="8704" hR="21600" stAng="-5400000" swAng="2630971"/>
                <a:lnTo>
                  <a:pt x="20923" y="13245"/>
                </a:lnTo>
                <a:lnTo>
                  <a:pt x="18424" y="21600"/>
                </a:lnTo>
                <a:lnTo>
                  <a:pt x="14570" y="13245"/>
                </a:lnTo>
                <a:lnTo>
                  <a:pt x="16730" y="13245"/>
                </a:lnTo>
                <a:arcTo wR="8704" hR="21600" stAng="-2769029" swAng="-2468197"/>
                <a:lnTo>
                  <a:pt x="9720" y="148"/>
                </a:lnTo>
                <a:arcTo wR="8704" hR="21600" stAng="-5562774" swAng="-5237226"/>
                <a:close/>
              </a:path>
              <a:path fill="darkenLess" w="21600" h="21600">
                <a:moveTo>
                  <a:pt x="0" y="21600"/>
                </a:moveTo>
                <a:arcTo wR="8704" hR="21600" stAng="10800000" swAng="5400000"/>
                <a:lnTo>
                  <a:pt x="8704" y="0"/>
                </a:lnTo>
                <a:arcTo wR="8704" hR="21600" stAng="-5400000" swAng="162774"/>
                <a:lnTo>
                  <a:pt x="9720" y="148"/>
                </a:lnTo>
                <a:arcTo wR="8704" hR="21600" stAng="-5562774" swAng="-5237226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7"/>
          <p:cNvSpPr/>
          <p:nvPr/>
        </p:nvSpPr>
        <p:spPr>
          <a:xfrm rot="11012400">
            <a:off x="2123280" y="2852280"/>
            <a:ext cx="1730520" cy="432000"/>
          </a:xfrm>
          <a:custGeom>
            <a:avLst/>
            <a:gdLst>
              <a:gd name="textAreaLeft" fmla="*/ 318960 w 1730520"/>
              <a:gd name="textAreaRight" fmla="*/ 1173600 w 17305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65" hR="21600" stAng="10800000" swAng="5400000"/>
                <a:lnTo>
                  <a:pt x="10665" y="0"/>
                </a:lnTo>
                <a:arcTo wR="7965" hR="21600" stAng="-5400000" swAng="2772316"/>
                <a:lnTo>
                  <a:pt x="21144" y="14400"/>
                </a:lnTo>
                <a:lnTo>
                  <a:pt x="17280" y="21600"/>
                </a:lnTo>
                <a:lnTo>
                  <a:pt x="12504" y="14400"/>
                </a:lnTo>
                <a:lnTo>
                  <a:pt x="15474" y="14400"/>
                </a:lnTo>
                <a:arcTo wR="7965" hR="21600" stAng="-2627684" swAng="-2554595"/>
                <a:lnTo>
                  <a:pt x="9315" y="313"/>
                </a:lnTo>
                <a:arcTo wR="7965" hR="21600" stAng="-5617722" swAng="-5182278"/>
                <a:close/>
              </a:path>
              <a:path fill="darkenLess" w="21600" h="21600">
                <a:moveTo>
                  <a:pt x="0" y="21600"/>
                </a:moveTo>
                <a:arcTo wR="7965" hR="21600" stAng="10800000" swAng="5400000"/>
                <a:lnTo>
                  <a:pt x="7965" y="0"/>
                </a:lnTo>
                <a:arcTo wR="7965" hR="21600" stAng="-5400000" swAng="217722"/>
                <a:lnTo>
                  <a:pt x="9315" y="313"/>
                </a:lnTo>
                <a:arcTo wR="7965" hR="21600" stAng="-5617722" swAng="-5182278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900000" y="443700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акциями обм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ют реакции, при которых два сложных вещества обмениваются своими составными частями и получаются два новых сложных вещ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Прямая со стрелкой 8"/>
          <p:cNvCxnSpPr/>
          <p:nvPr/>
        </p:nvCxnSpPr>
        <p:spPr>
          <a:xfrm>
            <a:off x="8459280" y="2349360"/>
            <a:ext cx="1080" cy="432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РЕАКЦИЯ ОБМЕН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8323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ЗАКРЕПИМ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2124000" y="2781360"/>
            <a:ext cx="5184720" cy="1727280"/>
          </a:xfrm>
          <a:prstGeom prst="ellipse">
            <a:avLst/>
          </a:prstGeom>
          <a:solidFill>
            <a:srgbClr val="000066">
              <a:alpha val="20000"/>
            </a:srgbClr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ТИПЫ РЕАКЦ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5292720" y="1557360"/>
            <a:ext cx="3382920" cy="1297080"/>
          </a:xfrm>
          <a:prstGeom prst="wedgeEllipseCallout">
            <a:avLst>
              <a:gd name="adj1" fmla="val -31606"/>
              <a:gd name="adj2" fmla="val 57342"/>
            </a:avLst>
          </a:prstGeom>
          <a:solidFill>
            <a:srgbClr val="000066">
              <a:alpha val="20000"/>
            </a:srgbClr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РАЗ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В = А+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6"/>
          <p:cNvSpPr/>
          <p:nvPr/>
        </p:nvSpPr>
        <p:spPr>
          <a:xfrm rot="10800000">
            <a:off x="250920" y="4437000"/>
            <a:ext cx="3889440" cy="1944720"/>
          </a:xfrm>
          <a:prstGeom prst="wedgeEllipseCallout">
            <a:avLst>
              <a:gd name="adj1" fmla="val -47143"/>
              <a:gd name="adj2" fmla="val 46407"/>
            </a:avLst>
          </a:prstGeom>
          <a:solidFill>
            <a:srgbClr val="000066">
              <a:alpha val="20000"/>
            </a:srgbClr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ЗАМЕЩ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В+С=АС+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В+С=ВС+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4214880" y="4556160"/>
            <a:ext cx="4749840" cy="1873080"/>
          </a:xfrm>
          <a:prstGeom prst="wedgeEllipseCallout">
            <a:avLst>
              <a:gd name="adj1" fmla="val -34495"/>
              <a:gd name="adj2" fmla="val -51611"/>
            </a:avLst>
          </a:prstGeom>
          <a:solidFill>
            <a:srgbClr val="000066">
              <a:alpha val="20000"/>
            </a:srgbClr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ОБМ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В+СД=АД+В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В+СД=АС+В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 rot="10800000">
            <a:off x="-360" y="1500120"/>
            <a:ext cx="3714840" cy="1441440"/>
          </a:xfrm>
          <a:prstGeom prst="wedgeEllipseCallout">
            <a:avLst>
              <a:gd name="adj1" fmla="val -46185"/>
              <a:gd name="adj2" fmla="val -43064"/>
            </a:avLst>
          </a:prstGeom>
          <a:solidFill>
            <a:srgbClr val="000066">
              <a:alpha val="20000"/>
            </a:srgbClr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СОЕДИН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А + В = А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ЗАКРЕПИМ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O =2HP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Fe(OH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Fe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+ 3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KCl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2KCl + 3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Al + 3S = A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Zn + 2HCl = ZnC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Cu(Н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CuO + 2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+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HgO = 2Hg + 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Ca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HN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Ca(N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+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516720" y="1980720"/>
            <a:ext cx="239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со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раз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раз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со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зам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раз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раз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ОБОБЩИМ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30"/>
          <p:cNvSpPr/>
          <p:nvPr/>
        </p:nvSpPr>
        <p:spPr>
          <a:xfrm>
            <a:off x="1979640" y="2781360"/>
            <a:ext cx="374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ХИМ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1"/>
          <p:cNvSpPr/>
          <p:nvPr/>
        </p:nvSpPr>
        <p:spPr>
          <a:xfrm rot="20750400">
            <a:off x="293760" y="1531800"/>
            <a:ext cx="3384360" cy="1657440"/>
          </a:xfrm>
          <a:prstGeom prst="irregularSeal1">
            <a:avLst/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Е ВЕЩ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2"/>
          <p:cNvSpPr/>
          <p:nvPr/>
        </p:nvSpPr>
        <p:spPr>
          <a:xfrm>
            <a:off x="250920" y="3645000"/>
            <a:ext cx="2376360" cy="2736720"/>
          </a:xfrm>
          <a:prstGeom prst="borderCallout2">
            <a:avLst>
              <a:gd name="adj1" fmla="val 18750"/>
              <a:gd name="adj2" fmla="val -8333"/>
              <a:gd name="adj3" fmla="val 4175"/>
              <a:gd name="adj4" fmla="val 111023"/>
              <a:gd name="adj5" fmla="val -14907"/>
              <a:gd name="adj6" fmla="val 119240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d4"/>
                </a:solidFill>
                <a:uFillTx/>
                <a:latin typeface="Times New Roman"/>
              </a:rPr>
              <a:t>ПРИЗН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сад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3"/>
          <p:cNvSpPr/>
          <p:nvPr/>
        </p:nvSpPr>
        <p:spPr>
          <a:xfrm>
            <a:off x="5364000" y="1598760"/>
            <a:ext cx="3529080" cy="1830240"/>
          </a:xfrm>
          <a:prstGeom prst="borderCallout2">
            <a:avLst>
              <a:gd name="adj1" fmla="val 18750"/>
              <a:gd name="adj2" fmla="val -8333"/>
              <a:gd name="adj3" fmla="val 7407"/>
              <a:gd name="adj4" fmla="val -7712"/>
              <a:gd name="adj5" fmla="val 64662"/>
              <a:gd name="adj6" fmla="val -35328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УСЛО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Нагревание(давле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Перемеши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Катализ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Измель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4"/>
          <p:cNvSpPr/>
          <p:nvPr/>
        </p:nvSpPr>
        <p:spPr>
          <a:xfrm>
            <a:off x="5003640" y="3500280"/>
            <a:ext cx="3959280" cy="3029040"/>
          </a:xfrm>
          <a:prstGeom prst="borderCallout2">
            <a:avLst>
              <a:gd name="adj1" fmla="val 18750"/>
              <a:gd name="adj2" fmla="val -8333"/>
              <a:gd name="adj3" fmla="val 3773"/>
              <a:gd name="adj4" fmla="val -4412"/>
              <a:gd name="adj5" fmla="val -9171"/>
              <a:gd name="adj6" fmla="val -5972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c9056"/>
                </a:solidFill>
                <a:uFillTx/>
                <a:latin typeface="Times New Roman"/>
              </a:rPr>
              <a:t>ТИ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75fdf"/>
                </a:solidFill>
                <a:latin typeface="Times New Roman"/>
              </a:rPr>
              <a:t>по числу и составу исходных веществ и продуктов реа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еди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л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ме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ДОМАШНЕЕ ЗАДАНИ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7640" y="2276640"/>
            <a:ext cx="66438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§ 16, упр. 5, 6 (с. 47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j0432665"/>
          <p:cNvPicPr/>
          <p:nvPr/>
        </p:nvPicPr>
        <p:blipFill>
          <a:blip r:embed="rId1"/>
          <a:stretch/>
        </p:blipFill>
        <p:spPr>
          <a:xfrm>
            <a:off x="3276720" y="3614760"/>
            <a:ext cx="28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елись своим мнением об уроке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Анастасия\Desktop\400z400_front_35_0_0_0_7242c59345afc3feb0f026b0c381.jpg"/>
          <p:cNvPicPr/>
          <p:nvPr/>
        </p:nvPicPr>
        <p:blipFill>
          <a:blip r:embed="rId1"/>
          <a:stretch/>
        </p:blipFill>
        <p:spPr>
          <a:xfrm>
            <a:off x="3635280" y="1557360"/>
            <a:ext cx="3527640" cy="3527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0" y="2565360"/>
            <a:ext cx="3816360" cy="3735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:\Users\Анастасия\Desktop\kiMg8oRij.png"/>
          <p:cNvPicPr/>
          <p:nvPr/>
        </p:nvPicPr>
        <p:blipFill>
          <a:blip r:embed="rId3"/>
          <a:stretch/>
        </p:blipFill>
        <p:spPr>
          <a:xfrm>
            <a:off x="6435720" y="4005360"/>
            <a:ext cx="2708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81727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Указать тип химических реакций, расставить коэффициенты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2173320"/>
          <a:ext cx="8496360" cy="2982960"/>
        </p:xfrm>
        <a:graphic>
          <a:graphicData uri="http://schemas.openxmlformats.org/drawingml/2006/table">
            <a:tbl>
              <a:tblPr/>
              <a:tblGrid>
                <a:gridCol w="4824360"/>
                <a:gridCol w="3672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Уравнение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ип химической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 + 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—&gt; Al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n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+ 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—&gt; Mn + 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—&gt; 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+ 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N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+ Fe(OH)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—&gt; Fe(N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85690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описать уравнение, указать тип реакций, расставить коэффициенты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95280" y="2173320"/>
          <a:ext cx="8496360" cy="2982960"/>
        </p:xfrm>
        <a:graphic>
          <a:graphicData uri="http://schemas.openxmlformats.org/drawingml/2006/table">
            <a:tbl>
              <a:tblPr/>
              <a:tblGrid>
                <a:gridCol w="4824360"/>
                <a:gridCol w="3672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Уравнение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ип химической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I —&gt; 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 I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gO +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—&gt; MgS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+ 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 + HCl —&gt; Al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+ 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 + 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—&gt;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9280" y="2924280"/>
          <a:ext cx="8640720" cy="1512720"/>
        </p:xfrm>
        <a:graphic>
          <a:graphicData uri="http://schemas.openxmlformats.org/drawingml/2006/table">
            <a:tbl>
              <a:tblPr/>
              <a:tblGrid>
                <a:gridCol w="1656000"/>
                <a:gridCol w="2089080"/>
                <a:gridCol w="2087640"/>
                <a:gridCol w="280800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C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2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Z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H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ZnCl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+ H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KClO</a:t>
                      </a:r>
                      <a:r>
                        <a:rPr b="1" lang="ru-RU" sz="2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KCl + 3O</a:t>
                      </a:r>
                      <a:r>
                        <a:rPr b="1" lang="ru-RU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HCl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=CaCl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2H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</a:tbl>
          </a:graphicData>
        </a:graphic>
      </p:graphicFrame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КЛАССИФИКАЦИЯ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ХИМИЧЕСКИХ РЕАКЦИ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3645000"/>
            <a:ext cx="8610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ификация химических реакций по числу и составу исходных и полученных веществ.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79280" y="907920"/>
            <a:ext cx="507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3"/>
                </a:solidFill>
                <a:latin typeface="Comic Sans MS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429264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знакомится с типами химических реакций по числу исходных веществ и продуктов реакци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179280" y="83664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73"/>
                </a:solidFill>
                <a:latin typeface="Comic Sans MS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ПОВТОРИМ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844280"/>
            <a:ext cx="8610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то такое химическая реакц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ечислите признаки протекания химической реа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условия необходимы для возникновения химической реак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веди примеры химических реакций из повседнев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8353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Какие явления относятся к (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Ф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) физическим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а какие к (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Х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) химическим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16280"/>
            <a:ext cx="861048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ипение во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образование на деревьях ине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кисание мол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жавление гвозд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таяние ль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горение бенгальских ог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гниение раст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иготовление сахарной пудры из саха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горение све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астворение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835344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Проверим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61048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ипение воды,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 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образование на деревьях инея,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 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кисание молока,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жавление гвоздя,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таяние льда,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 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горение бенгальских огней,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гниение растений,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иготовление сахарной пудры из сахара,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 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горение свечи,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астворение соли.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 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Расставить коэффициент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P</a:t>
            </a:r>
            <a:r>
              <a:rPr b="0" lang="ru-RU" sz="32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0" lang="ru-RU" sz="3200" spc="-1" strike="noStrike" baseline="-25000">
                <a:solidFill>
                  <a:srgbClr val="c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O =H</a:t>
            </a:r>
            <a:r>
              <a:rPr b="0" lang="ru-RU" sz="3200" spc="-1" strike="noStrike" baseline="-25000">
                <a:solidFill>
                  <a:srgbClr val="c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PO</a:t>
            </a:r>
            <a:r>
              <a:rPr b="0" lang="ru-RU" sz="3200" spc="-1" strike="noStrike" baseline="-25000">
                <a:solidFill>
                  <a:srgbClr val="c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Fe(OH)</a:t>
            </a:r>
            <a:r>
              <a:rPr b="0" lang="ru-RU" sz="3200" spc="-1" strike="noStrike" baseline="-25000">
                <a:solidFill>
                  <a:srgbClr val="c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= Fe</a:t>
            </a:r>
            <a:r>
              <a:rPr b="0" lang="ru-RU" sz="32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0" lang="ru-RU" sz="3200" spc="-1" strike="noStrike" baseline="-25000">
                <a:solidFill>
                  <a:srgbClr val="c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KClO</a:t>
            </a:r>
            <a:r>
              <a:rPr b="0" lang="ru-RU" sz="3200" spc="-1" strike="noStrike" baseline="-25000">
                <a:solidFill>
                  <a:srgbClr val="c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= KCl + O</a:t>
            </a:r>
            <a:r>
              <a:rPr b="0" lang="ru-RU" sz="32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Al + S = Al</a:t>
            </a:r>
            <a:r>
              <a:rPr b="0" lang="ru-RU" sz="32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c00000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Zn + HCl = ZnCl</a:t>
            </a:r>
            <a:r>
              <a:rPr b="0" lang="ru-RU" sz="3200" spc="-1" strike="noStrike" baseline="-25000">
                <a:solidFill>
                  <a:srgbClr val="000073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000073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Cu(НСО</a:t>
            </a:r>
            <a:r>
              <a:rPr b="0" lang="ru-RU" sz="3200" spc="-1" strike="noStrike" baseline="-25000">
                <a:solidFill>
                  <a:srgbClr val="000073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)</a:t>
            </a:r>
            <a:r>
              <a:rPr b="0" lang="ru-RU" sz="3200" spc="-1" strike="noStrike" baseline="-25000">
                <a:solidFill>
                  <a:srgbClr val="000073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 = CuO + CO</a:t>
            </a:r>
            <a:r>
              <a:rPr b="0" lang="ru-RU" sz="3200" spc="-1" strike="noStrike" baseline="-25000">
                <a:solidFill>
                  <a:srgbClr val="000073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000073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HgO = Hg + O</a:t>
            </a:r>
            <a:r>
              <a:rPr b="0" lang="ru-RU" sz="3200" spc="-1" strike="noStrike" baseline="-25000">
                <a:solidFill>
                  <a:srgbClr val="000073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CaCO</a:t>
            </a:r>
            <a:r>
              <a:rPr b="0" lang="ru-RU" sz="3200" spc="-1" strike="noStrike" baseline="-25000">
                <a:solidFill>
                  <a:srgbClr val="000073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 + HNO</a:t>
            </a:r>
            <a:r>
              <a:rPr b="0" lang="ru-RU" sz="3200" spc="-1" strike="noStrike" baseline="-25000">
                <a:solidFill>
                  <a:srgbClr val="000073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 =Ca(NO</a:t>
            </a:r>
            <a:r>
              <a:rPr b="0" lang="ru-RU" sz="3200" spc="-1" strike="noStrike" baseline="-25000">
                <a:solidFill>
                  <a:srgbClr val="000073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)</a:t>
            </a:r>
            <a:r>
              <a:rPr b="0" lang="ru-RU" sz="3200" spc="-1" strike="noStrike" baseline="-25000">
                <a:solidFill>
                  <a:srgbClr val="000073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000073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73"/>
                </a:solidFill>
                <a:latin typeface="Arial"/>
              </a:rPr>
              <a:t>CO</a:t>
            </a:r>
            <a:r>
              <a:rPr b="0" lang="ru-RU" sz="3200" spc="-1" strike="noStrike" baseline="-25000">
                <a:solidFill>
                  <a:srgbClr val="000073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пб"/>
          <p:cNvPicPr/>
          <p:nvPr/>
        </p:nvPicPr>
        <p:blipFill>
          <a:blip r:embed="rId1"/>
          <a:stretch/>
        </p:blipFill>
        <p:spPr>
          <a:xfrm>
            <a:off x="4356000" y="2852640"/>
            <a:ext cx="4183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13:44:51Z</dcterms:created>
  <dc:creator>User</dc:creator>
  <dc:description/>
  <cp:keywords/>
  <dc:language>en-US</dc:language>
  <cp:lastModifiedBy>Анастасия</cp:lastModifiedBy>
  <dcterms:modified xsi:type="dcterms:W3CDTF">2017-11-09T20:34:48Z</dcterms:modified>
  <cp:revision>6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61049</vt:lpwstr>
  </property>
</Properties>
</file>