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3.jpeg" ContentType="image/jpeg"/>
  <Override PartName="/ppt/media/image34.gif" ContentType="image/gif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2C86-6831-4887-A724-F778ECDAF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99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398-8C3A-499D-9E8A-A37DFF600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DD4-3110-46CB-89EC-E645C6740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бор дидактических 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7E2-BC82-475E-B956-BD9432206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7D2-C8AE-4380-BB2D-C2827DC43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342-7DD1-4652-B501-CC90C93F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8CA-3879-4540-BF29-CE18B66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75F-7B7F-4344-BDB3-E34C7CDD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272-0D3C-4AEA-9C3F-072FE5F6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D67-C2E5-4D14-8FB4-4656665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3FA-C9B6-4AFC-9CD1-4AE9108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68C-B911-4340-898F-C2A90EB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C02-57F0-467A-BD67-F153793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DF1-6017-4E36-AE90-C1374EB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9E7-7CEA-4286-8181-B419DB7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C82-72A8-48AF-A9A2-8CBDD81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CDF-335C-49C0-9C67-719B4DA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D4E-FEC2-45F3-9805-92C3CD39D4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99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71680" y="857160"/>
            <a:ext cx="7772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ткосрочный проект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одготовительной  с ТНР группе 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Транспорт»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42960" y="189000"/>
            <a:ext cx="750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КДОУ «Детский сад  №23»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532040" y="6027840"/>
            <a:ext cx="44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Выполнили: Михайлова Н.В.</a:t>
            </a: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Глебова О.И.</a:t>
            </a: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28800" y="571680"/>
            <a:ext cx="73008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000"/>
                </a:solidFill>
                <a:latin typeface="Tahoma"/>
                <a:ea typeface="Calibri"/>
              </a:rPr>
              <a:t>«Пятниц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Беседа «Кто работает на транспорте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Конструирование «Едем, летаем, плывем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Проблемные вопросы «Зачем нужны дорожные знаки?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Рассматривание альбома «Специализированный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Создать условия для рисования «Служебный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ttp://img-fotki.yandex.ru/get/5300/ladyo2004.34/0_4c56c_8ed57fe9_L.jpg"/>
          <p:cNvPicPr/>
          <p:nvPr/>
        </p:nvPicPr>
        <p:blipFill>
          <a:blip r:embed="rId3"/>
          <a:stretch/>
        </p:blipFill>
        <p:spPr>
          <a:xfrm>
            <a:off x="3571920" y="2071800"/>
            <a:ext cx="47862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286400" cy="100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III 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этап- заключительный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928800"/>
            <a:ext cx="777528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  <a:ea typeface="Arial"/>
              </a:rPr>
              <a:t>Цель: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бщение знаний  и представлений детей о различных видах транспорта, его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ификации и назначе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альбома «Разные виды транспорт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портфолио проек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ект решен полностью, дети с большим интересом участвовали в образовательной деятельности, все поставленные задачи успешно решены, дети и родители приняли активно участие в реализации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ttp://www.mbdou115.ru/wp-content/uploads/2015/04/na_velosipede.png"/>
          <p:cNvPicPr/>
          <p:nvPr/>
        </p:nvPicPr>
        <p:blipFill>
          <a:blip r:embed="rId3"/>
          <a:stretch/>
        </p:blipFill>
        <p:spPr>
          <a:xfrm>
            <a:off x="5357880" y="4071960"/>
            <a:ext cx="2997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286400" cy="1214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Продукты проекта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7775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спекты Н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формление альбома «Словесные и дидактические игры «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формление альбома «Специальный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формление альбома «Транспорт прошлого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формление альбома «Стихи и загадки про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формление альбома «Едем, летаем, плывем»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http://www.playcast.ru/uploads/2014/09/24/9951527.png"/>
          <p:cNvPicPr/>
          <p:nvPr/>
        </p:nvPicPr>
        <p:blipFill>
          <a:blip r:embed="rId3"/>
          <a:stretch/>
        </p:blipFill>
        <p:spPr>
          <a:xfrm>
            <a:off x="1643040" y="2278080"/>
            <a:ext cx="59292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800" y="642960"/>
            <a:ext cx="7286400" cy="100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ТРИЗ «Мозговой штурм: на чем я могу добраться до Москвы?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admin743\Desktop\Фото проект\IMG_20171107_082138.jpg"/>
          <p:cNvPicPr/>
          <p:nvPr/>
        </p:nvPicPr>
        <p:blipFill>
          <a:blip r:embed="rId3"/>
          <a:stretch/>
        </p:blipFill>
        <p:spPr>
          <a:xfrm>
            <a:off x="1643040" y="1959120"/>
            <a:ext cx="5929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142560"/>
            <a:ext cx="72864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Рисование «На чем люди ездят»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admin743\Desktop\Фото проект\IMG_20171107_100708.jpg"/>
          <p:cNvPicPr/>
          <p:nvPr/>
        </p:nvPicPr>
        <p:blipFill>
          <a:blip r:embed="rId3"/>
          <a:stretch/>
        </p:blipFill>
        <p:spPr>
          <a:xfrm>
            <a:off x="785880" y="1357200"/>
            <a:ext cx="5715000" cy="360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admin743\Desktop\Фото проект\IMG_20171107_100911.jpg"/>
          <p:cNvPicPr/>
          <p:nvPr/>
        </p:nvPicPr>
        <p:blipFill>
          <a:blip r:embed="rId4"/>
          <a:stretch/>
        </p:blipFill>
        <p:spPr>
          <a:xfrm>
            <a:off x="2428920" y="2928960"/>
            <a:ext cx="5879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286400" cy="121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Математика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admin743\Desktop\Фото проект\IMG_20171108_093826.jpg"/>
          <p:cNvPicPr/>
          <p:nvPr/>
        </p:nvPicPr>
        <p:blipFill>
          <a:blip r:embed="rId3"/>
          <a:stretch/>
        </p:blipFill>
        <p:spPr>
          <a:xfrm>
            <a:off x="785880" y="928800"/>
            <a:ext cx="5715000" cy="321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Users\admin743\Desktop\Фото проект\IMG_20171108_091420.jpg"/>
          <p:cNvPicPr/>
          <p:nvPr/>
        </p:nvPicPr>
        <p:blipFill>
          <a:blip r:embed="rId4"/>
          <a:stretch/>
        </p:blipFill>
        <p:spPr>
          <a:xfrm>
            <a:off x="2571840" y="3071880"/>
            <a:ext cx="575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286760" cy="100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Дыхательная гимнастика «Колесо спустило»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admin743\Desktop\Фото проект\Abb691dE1yg.jpg"/>
          <p:cNvPicPr/>
          <p:nvPr/>
        </p:nvPicPr>
        <p:blipFill>
          <a:blip r:embed="rId3"/>
          <a:stretch/>
        </p:blipFill>
        <p:spPr>
          <a:xfrm>
            <a:off x="928800" y="1857240"/>
            <a:ext cx="73818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6800" y="571680"/>
            <a:ext cx="7286760" cy="100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Рассматривание альбома «Воздушный и водный транспорт»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admin743\Desktop\Фото проект\cQucVo80Pi0.jpg"/>
          <p:cNvPicPr/>
          <p:nvPr/>
        </p:nvPicPr>
        <p:blipFill>
          <a:blip r:embed="rId3"/>
          <a:stretch/>
        </p:blipFill>
        <p:spPr>
          <a:xfrm>
            <a:off x="785880" y="1857240"/>
            <a:ext cx="6000840" cy="360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admin743\Desktop\Фото проект\WRNYGfRiY7I.jpg"/>
          <p:cNvPicPr/>
          <p:nvPr/>
        </p:nvPicPr>
        <p:blipFill>
          <a:blip r:embed="rId4"/>
          <a:stretch/>
        </p:blipFill>
        <p:spPr>
          <a:xfrm>
            <a:off x="2714760" y="3257640"/>
            <a:ext cx="5643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2864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Сюжетно-ролевая игра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«Шоферы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admin743\Desktop\Фото проект\zw2_tTMO15Q.jpg"/>
          <p:cNvPicPr/>
          <p:nvPr/>
        </p:nvPicPr>
        <p:blipFill>
          <a:blip r:embed="rId3"/>
          <a:stretch/>
        </p:blipFill>
        <p:spPr>
          <a:xfrm>
            <a:off x="4929120" y="1590840"/>
            <a:ext cx="3160800" cy="52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admin743\Desktop\Фото проект\1F1rv-VXn2U.jpg"/>
          <p:cNvPicPr/>
          <p:nvPr/>
        </p:nvPicPr>
        <p:blipFill>
          <a:blip r:embed="rId4"/>
          <a:stretch/>
        </p:blipFill>
        <p:spPr>
          <a:xfrm>
            <a:off x="1000080" y="1619280"/>
            <a:ext cx="31431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0722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Аппликация «Летаем, едем, плывем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admin743\Desktop\Фото проект\IMG_20171108_102702.jpg"/>
          <p:cNvPicPr/>
          <p:nvPr/>
        </p:nvPicPr>
        <p:blipFill>
          <a:blip r:embed="rId3"/>
          <a:stretch/>
        </p:blipFill>
        <p:spPr>
          <a:xfrm>
            <a:off x="785880" y="2000160"/>
            <a:ext cx="75722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Паспорт про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 проекта: краткосрочный (1 неделя), познавательный, творческий, группов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 проекта: дети, воспитатели, родител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ped-kopilka.ru/images/photos/medium/article7113.jpg"/>
          <p:cNvPicPr/>
          <p:nvPr/>
        </p:nvPicPr>
        <p:blipFill>
          <a:blip r:embed="rId3"/>
          <a:stretch/>
        </p:blipFill>
        <p:spPr>
          <a:xfrm>
            <a:off x="5214960" y="4214880"/>
            <a:ext cx="320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0722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онструирование «Машины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admin743\Desktop\Фото проект\IMG_20171109_102118.jpg"/>
          <p:cNvPicPr/>
          <p:nvPr/>
        </p:nvPicPr>
        <p:blipFill>
          <a:blip r:embed="rId3"/>
          <a:stretch/>
        </p:blipFill>
        <p:spPr>
          <a:xfrm>
            <a:off x="1071720" y="1357200"/>
            <a:ext cx="4643280" cy="360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Users\admin743\Desktop\Фото проект\IMG_20171109_102129.jpg"/>
          <p:cNvPicPr/>
          <p:nvPr/>
        </p:nvPicPr>
        <p:blipFill>
          <a:blip r:embed="rId4"/>
          <a:stretch/>
        </p:blipFill>
        <p:spPr>
          <a:xfrm>
            <a:off x="4143240" y="3257640"/>
            <a:ext cx="4143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0722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Рисование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«Служебный транспор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admin743\Desktop\Фото проект\50cdxMuPQ4s.jpg"/>
          <p:cNvPicPr/>
          <p:nvPr/>
        </p:nvPicPr>
        <p:blipFill>
          <a:blip r:embed="rId3"/>
          <a:stretch/>
        </p:blipFill>
        <p:spPr>
          <a:xfrm>
            <a:off x="928800" y="1428840"/>
            <a:ext cx="3214440" cy="5357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admin743\Desktop\Фото проект\hDWT2JDznNA.jpg"/>
          <p:cNvPicPr/>
          <p:nvPr/>
        </p:nvPicPr>
        <p:blipFill>
          <a:blip r:embed="rId4"/>
          <a:stretch/>
        </p:blipFill>
        <p:spPr>
          <a:xfrm>
            <a:off x="928800" y="1428840"/>
            <a:ext cx="3214440" cy="535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:\Users\admin743\Desktop\Фото проект\50cdxMuPQ4s.jpg"/>
          <p:cNvPicPr/>
          <p:nvPr/>
        </p:nvPicPr>
        <p:blipFill>
          <a:blip r:embed="rId5"/>
          <a:stretch/>
        </p:blipFill>
        <p:spPr>
          <a:xfrm>
            <a:off x="4929120" y="1500120"/>
            <a:ext cx="32148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0722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Беседа-рассуждение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«Поведение в транспорте и на дорог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admin743\Desktop\Фото проект\IMG_20171109_102315.jpg"/>
          <p:cNvPicPr/>
          <p:nvPr/>
        </p:nvPicPr>
        <p:blipFill>
          <a:blip r:embed="rId3"/>
          <a:stretch/>
        </p:blipFill>
        <p:spPr>
          <a:xfrm>
            <a:off x="928800" y="2357280"/>
            <a:ext cx="723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072200" cy="142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Оригами «Транспор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743\Desktop\Фото проект\Wie0JxvX09Y.jpg"/>
          <p:cNvPicPr/>
          <p:nvPr/>
        </p:nvPicPr>
        <p:blipFill>
          <a:blip r:embed="rId3"/>
          <a:stretch/>
        </p:blipFill>
        <p:spPr>
          <a:xfrm>
            <a:off x="1714680" y="1357200"/>
            <a:ext cx="564336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s://lifeo.ru/wp-content/uploads/spasibo-za-vnimanie-new-1.gif"/>
          <p:cNvPicPr/>
          <p:nvPr/>
        </p:nvPicPr>
        <p:blipFill>
          <a:blip r:embed="rId3"/>
          <a:stretch/>
        </p:blipFill>
        <p:spPr>
          <a:xfrm>
            <a:off x="928800" y="1928880"/>
            <a:ext cx="7350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2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Актуальность тем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213920"/>
            <a:ext cx="7490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Все дети любят кататься на транспорте, знают названия многих видов транспорта, но из рассказов детей, видно, что дети имеют плохое представление о разнообразии всех видов транспорта. В течение недели были запланированы мероприятия на расширение у детей знаний об истории транспорта, закрепление и уточнение представлений детей о видах транспорта, закрепление и уточнение представлений детей о видах транспорта с конкретной классификацией названий транспорта (водный, воздушный, наземный, специализированны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857160"/>
            <a:ext cx="75610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ть детей с историей транспорта. Расширять представления детей о видах транспорта, как о средствах передви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500040" y="13572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Задачи проекта</a:t>
            </a:r>
            <a:endParaRPr b="1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85880" y="2357280"/>
            <a:ext cx="75610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знакомить детей с разнообразием водного, воздушного, наземного, специализированного транспорта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ширять знания детей о профессий «водитель»: пилот, машинист, тракторист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крыть значение транспорта для людей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крепить правила поведения в общественном транспорте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ширить представления детей об истории транспорта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ть познавательную активность детей, обогащая представления о транспорте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ть психические процессы (восприятие, мышление, речь, воображение)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ть коммуникативные умения и навыки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ть лексико-грамматические представления, совершенствовать навыки словообразования и словоизменения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203f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питывать доброжелательные взаимоотношения в коллективе детей, умение дискутировать, уважать мнение друг друга. Уважительно относиться к продуктам деятельности.</a:t>
            </a:r>
            <a:endParaRPr b="1" i="1" lang="en-US" sz="16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76916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Этапы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428480"/>
            <a:ext cx="73440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I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этап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II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 этап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III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этап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лючи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iki.udmteach.ru/images/2/2e/%D0%94%D0%B5%D1%82%D0%B8.png"/>
          <p:cNvPicPr/>
          <p:nvPr/>
        </p:nvPicPr>
        <p:blipFill>
          <a:blip r:embed="rId3"/>
          <a:stretch/>
        </p:blipFill>
        <p:spPr>
          <a:xfrm>
            <a:off x="928800" y="4214880"/>
            <a:ext cx="7358040" cy="17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91208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I </a:t>
            </a: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 этап- подготовительны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499760"/>
            <a:ext cx="73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формирование мотива у детей к предстоящей деятельности, постанов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цели и задач, подборка необходимого материала по теме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ие темы проек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улировка цели и определение задач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бор материалов по теме проекта «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ставление плана основного этапа проек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Безымянный2613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s://i.pinimg.com/originals/f9/bb/16/f9bb16b6f3e342c75e78c655c0f0a0d7.png"/>
          <p:cNvPicPr/>
          <p:nvPr/>
        </p:nvPicPr>
        <p:blipFill>
          <a:blip r:embed="rId3"/>
          <a:stretch/>
        </p:blipFill>
        <p:spPr>
          <a:xfrm>
            <a:off x="4143240" y="4143240"/>
            <a:ext cx="41436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Прогнозируемые результа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571760"/>
            <a:ext cx="7775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и научатся  различать и называть виды транспор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сказывать об отдельных видах  транспорта , составля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сказы с опорой на предметные картинки и схе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учатся классифицировать  наземный, водный, воздуш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анспор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и будут иметь представление о профессиях, связанных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ой на спец. транспорте : пожарные, спасател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цейск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дители  активно  примут  участие в  педагогическ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цессе и повысят свою компетенцию по данной теме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forumsmile.ru/u/3/8/3/3834d6a0e92bafe8b974c21c37d6434c.png"/>
          <p:cNvPicPr/>
          <p:nvPr/>
        </p:nvPicPr>
        <p:blipFill>
          <a:blip r:embed="rId3"/>
          <a:srcRect l="0" t="0" r="0" b="15004"/>
          <a:stretch/>
        </p:blipFill>
        <p:spPr>
          <a:xfrm>
            <a:off x="2071800" y="4429080"/>
            <a:ext cx="4762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00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II </a:t>
            </a: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 этап – основной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Безымянный2613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73760" cy="47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  <a:ea typeface="Calibri"/>
              </a:rPr>
              <a:t>Содержание работы по дням неде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000"/>
                </a:solidFill>
                <a:latin typeface="Tahoma"/>
                <a:ea typeface="Calibri"/>
              </a:rPr>
              <a:t>«Вовлечение в деятельность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ТРИЗ «Что такое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Организация выставки книг: «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Подбор иллюстраций «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000"/>
                </a:solidFill>
                <a:latin typeface="Tahoma"/>
                <a:ea typeface="Calibri"/>
              </a:rPr>
              <a:t>«Вторник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ТРИЗ «Мозговой штурм: на чем я могу добраться до Москвы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Беседа «Какой бывает транспорт и зачем он нужен?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Рассматривание альбома «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Рисование «На чем люди ездя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Дыхательная гимнастика «Колесо спустило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С/р игра «Шоферы», «Автобусы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http://www.detstvo.info/upload/image/0_833e2_9d101407_orig.png"/>
          <p:cNvPicPr/>
          <p:nvPr/>
        </p:nvPicPr>
        <p:blipFill>
          <a:blip r:embed="rId3"/>
          <a:stretch/>
        </p:blipFill>
        <p:spPr>
          <a:xfrm>
            <a:off x="5143680" y="4071960"/>
            <a:ext cx="33796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213840"/>
            <a:ext cx="7775280" cy="724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c000"/>
                </a:solidFill>
                <a:latin typeface="Tahoma"/>
                <a:ea typeface="Calibri"/>
              </a:rPr>
              <a:t>«Сред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Беседа «Из чего состоит машин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Математика (познавательное развитие):  поставьте машины в гараж, выложить машины из геометрических маши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Аппликация «Машин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Д/игра «Продолжи движение» («Автобус остановился, потому что…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Чтение рассказов В.В. Маяковского «Это книжечка моя про моря и про маяк», «Кем быть?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000"/>
                </a:solidFill>
                <a:latin typeface="Tahoma"/>
                <a:ea typeface="Calibri"/>
              </a:rPr>
              <a:t>«Четверг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Calibri"/>
              </a:rPr>
              <a:t>Беседа «На чем наши предки ездили?» (презентаци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Д/игры «Назови одним словом», «Подбери запасную часть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еседа-рассуждение «Поведение в транспорте, на дороге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РИЗ «Транспорт – это хорошо или плохо?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Отгадывание загадок о транспорт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Рассматривание альбома «Воздушный и водный транспор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0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Безымянный26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www.uroventur.ru/userfiles/image/%D0%A3%D1%81%D1%82%D1%8E%D0%B3/poezd11%20(1).png"/>
          <p:cNvPicPr/>
          <p:nvPr/>
        </p:nvPicPr>
        <p:blipFill>
          <a:blip r:embed="rId2"/>
          <a:stretch/>
        </p:blipFill>
        <p:spPr>
          <a:xfrm>
            <a:off x="0" y="5151600"/>
            <a:ext cx="9144000" cy="170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2:31:09Z</dcterms:created>
  <dc:creator>www</dc:creator>
  <dc:description/>
  <dc:language>en-US</dc:language>
  <cp:lastModifiedBy>admin743</cp:lastModifiedBy>
  <dcterms:modified xsi:type="dcterms:W3CDTF">2018-01-09T05:42:25Z</dcterms:modified>
  <cp:revision>119</cp:revision>
  <dc:subject/>
  <dc:title>Слайд 1</dc:title>
</cp:coreProperties>
</file>