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1.jpeg" ContentType="image/jpeg"/>
  <Override PartName="/ppt/media/image6.png" ContentType="image/png"/>
  <Override PartName="/ppt/media/image12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2A2B-0E58-4E0F-AE03-CD750003CA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C6A9-CA60-4107-BBB3-FED36AD45F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F5D3-6CC8-4A1A-808B-257D6884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F71B-0991-4DCF-94AA-E89C0AB7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FA21-30F9-4246-BD14-F5851168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9355-C825-442B-BE58-4E32C0D3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8F56-E037-464F-BCF8-1FF14748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1E8-DCA2-48D9-BFC3-EAD1682C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D574-2F33-400C-AD2C-300C662A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0A2-058E-4453-997B-B17BEBDD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CF44-8F5F-48B7-963E-8850F934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3F8F-DE1F-4D4B-A068-48DE6DBC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14F7-A509-4B0C-A653-BAFC3465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C297-2374-4B08-AD4F-3B5CC3EE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439C-7568-4628-A297-03C7F298306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42840" y="2357280"/>
            <a:ext cx="5172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Bookman Old Style"/>
              </a:rPr>
              <a:t>Познавательное занятие </a:t>
            </a: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Bookman Old Style"/>
              </a:rPr>
              <a:t>в средней группе</a:t>
            </a:r>
            <a:br>
              <a:rPr sz="2500"/>
            </a:b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«Ах, если бы я был космонавтом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42880" y="4571640"/>
            <a:ext cx="48294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одготовила: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оспитатель средней группы Михайлова Наталья Викто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одзаголовок 6"/>
          <p:cNvSpPr/>
          <p:nvPr/>
        </p:nvSpPr>
        <p:spPr>
          <a:xfrm>
            <a:off x="2214720" y="5357880"/>
            <a:ext cx="67579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Россия, Челябинская обл., город Коркино, поселок Первомай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униципальное казенное дошкольное образовательное учреждение «Детский сад №2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363528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709308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3571920" y="71424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Команда космического корабля «Восток» высадилась на большую желтую план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I:\DCIM\Camera\IMG_20160413_091708.jpg"/>
          <p:cNvPicPr/>
          <p:nvPr/>
        </p:nvPicPr>
        <p:blipFill>
          <a:blip r:embed="rId4"/>
          <a:stretch/>
        </p:blipFill>
        <p:spPr>
          <a:xfrm>
            <a:off x="714240" y="2071800"/>
            <a:ext cx="2428920" cy="4444920"/>
          </a:xfrm>
          <a:prstGeom prst="rect">
            <a:avLst/>
          </a:prstGeom>
          <a:ln w="0">
            <a:noFill/>
          </a:ln>
        </p:spPr>
      </p:pic>
      <p:sp>
        <p:nvSpPr>
          <p:cNvPr id="83" name="Стрелка вправо 6"/>
          <p:cNvSpPr/>
          <p:nvPr/>
        </p:nvSpPr>
        <p:spPr>
          <a:xfrm>
            <a:off x="3429000" y="3571920"/>
            <a:ext cx="1714680" cy="107136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http://wpapers.ru/wallpapers/Space/7285/PREV_%D0%A1%D0%BE%D0%BB%D0%BD%D1%86%D0%B5.jpg"/>
          <p:cNvPicPr/>
          <p:nvPr/>
        </p:nvPicPr>
        <p:blipFill>
          <a:blip r:embed="rId5"/>
          <a:stretch/>
        </p:blipFill>
        <p:spPr>
          <a:xfrm>
            <a:off x="5214960" y="2714760"/>
            <a:ext cx="3600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363528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709308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3571920" y="714240"/>
            <a:ext cx="53578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Команда космического корабля «Молния» высадилась на две маленькие синие план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img.desktopwallpapers.ru/earth/pics/neptun-1280.jpg"/>
          <p:cNvPicPr/>
          <p:nvPr/>
        </p:nvPicPr>
        <p:blipFill>
          <a:blip r:embed="rId4"/>
          <a:stretch/>
        </p:blipFill>
        <p:spPr>
          <a:xfrm>
            <a:off x="6143760" y="2071800"/>
            <a:ext cx="2428920" cy="214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www.cosmos-online.ru/images/stories/uran-planet.jpg"/>
          <p:cNvPicPr/>
          <p:nvPr/>
        </p:nvPicPr>
        <p:blipFill>
          <a:blip r:embed="rId5"/>
          <a:stretch/>
        </p:blipFill>
        <p:spPr>
          <a:xfrm>
            <a:off x="6143760" y="4143240"/>
            <a:ext cx="2428920" cy="2500560"/>
          </a:xfrm>
          <a:prstGeom prst="rect">
            <a:avLst/>
          </a:prstGeom>
          <a:ln w="0">
            <a:noFill/>
          </a:ln>
        </p:spPr>
      </p:pic>
      <p:sp>
        <p:nvSpPr>
          <p:cNvPr id="90" name="Стрелка вправо 7"/>
          <p:cNvSpPr/>
          <p:nvPr/>
        </p:nvSpPr>
        <p:spPr>
          <a:xfrm>
            <a:off x="4071960" y="3571920"/>
            <a:ext cx="1714320" cy="107136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I:\DCIM\Camera\IMG_20160413_091708.jpg"/>
          <p:cNvPicPr/>
          <p:nvPr/>
        </p:nvPicPr>
        <p:blipFill>
          <a:blip r:embed="rId6"/>
          <a:stretch/>
        </p:blipFill>
        <p:spPr>
          <a:xfrm>
            <a:off x="857160" y="2357280"/>
            <a:ext cx="271476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363528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709308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3214800" y="714240"/>
            <a:ext cx="535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Наши юные космонавты выяснили, что на планетах, которые вертятся вокруг нашего солнца, жизни нет. На одних слишком холодно, на других слишком жар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I:\DCIM\Camera\IMG_20160413_091712.jpg"/>
          <p:cNvPicPr/>
          <p:nvPr/>
        </p:nvPicPr>
        <p:blipFill>
          <a:blip r:embed="rId4"/>
          <a:stretch/>
        </p:blipFill>
        <p:spPr>
          <a:xfrm>
            <a:off x="3000240" y="2857680"/>
            <a:ext cx="488160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363528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709308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4000680" y="2143080"/>
            <a:ext cx="400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Только наша планета 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Во всем пригодна для жил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Ведь Земля – планета-с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В этом космосе холод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Только здесь леса шумят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тиц скликая перелетных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Береги свою планету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Ведь другой, похожей, н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http://2.bp.blogspot.com/-jDZyk3bEPB4/VH7aCm0Ks-I/AAAAAAAAB1o/IuWe5pfXv6I/s1600/%D0%9F%D0%BE%D0%B4%D0%B1%D0%BE%D1%80%D0%BA%D0%B0%2B%D1%83%D0%B4%D0%B8%D0%B2%D0%B8%D1%82%D0%B5%D0%BB%D1%8C%D0%BD%D1%8B%D1%85%2B%D0%BD%D0%B0%D1%83%D1%87%D0%BD%D1%8B%D1%85%2B%D1%84%D0%B0%D0%BA%D1%82%D0%BE%D0%B2%2B%D0%BE%2B%D0%BF%D0%BB%D0%B0%D0%BD%D0%B5%D1%82%D0%B5%2B%D0%97%D0%B5%D0%BC%D0%BB%D1%8F.jpg"/>
          <p:cNvPicPr/>
          <p:nvPr/>
        </p:nvPicPr>
        <p:blipFill>
          <a:blip r:embed="rId4"/>
          <a:stretch/>
        </p:blipFill>
        <p:spPr>
          <a:xfrm>
            <a:off x="1357200" y="1214280"/>
            <a:ext cx="71438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363528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709308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3214800" y="714240"/>
            <a:ext cx="53578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Но кроме планеты Земля, в космической системе ещё много планет, спутников, станций… Давайте послушаем про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planeta1.jpg (665×501)"/>
          <p:cNvPicPr/>
          <p:nvPr/>
        </p:nvPicPr>
        <p:blipFill>
          <a:blip r:embed="rId4"/>
          <a:stretch/>
        </p:blipFill>
        <p:spPr>
          <a:xfrm>
            <a:off x="3071880" y="2500200"/>
            <a:ext cx="533376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363528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709308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"/>
          <p:cNvSpPr/>
          <p:nvPr/>
        </p:nvSpPr>
        <p:spPr>
          <a:xfrm>
            <a:off x="3000240" y="2500200"/>
            <a:ext cx="535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 космосе сквозь толщу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Ледяной летит объ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Хвост его – полоска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А зовут его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://1.bp.blogspot.com/-b6g7oa_NnqM/UmEiHhyk3jI/AAAAAAAAAAc/l1u0n09wSBM/s1600/h6IXO2IN89Y.jpg"/>
          <p:cNvPicPr/>
          <p:nvPr/>
        </p:nvPicPr>
        <p:blipFill>
          <a:blip r:embed="rId4"/>
          <a:stretch/>
        </p:blipFill>
        <p:spPr>
          <a:xfrm>
            <a:off x="357120" y="1285920"/>
            <a:ext cx="850104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363528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709308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3000240" y="2500200"/>
            <a:ext cx="535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Большой подсолнух в н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Цветёт он много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Цветёт зимой и лето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А семечек всё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" descr="C:\Users\123\Desktop\Безымянный.png"/>
          <p:cNvPicPr/>
          <p:nvPr/>
        </p:nvPicPr>
        <p:blipFill>
          <a:blip r:embed="rId4"/>
          <a:stretch/>
        </p:blipFill>
        <p:spPr>
          <a:xfrm>
            <a:off x="2571840" y="285840"/>
            <a:ext cx="5357880" cy="63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363528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709308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3214800" y="714240"/>
            <a:ext cx="5357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Ребята, мы уже знаем что на других планетах никто не живёт, но может быть, где-то далеко, возле другой звезды. На далеких планетах есть живые су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Тех, кто живёт на других планетах, мы называем «инопланетян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456309_inoplanetyane_prishelcy_zelenye_1680x1050_(www.GetBg.net).jpg (1680×1050)"/>
          <p:cNvPicPr/>
          <p:nvPr/>
        </p:nvPicPr>
        <p:blipFill>
          <a:blip r:embed="rId4"/>
          <a:stretch/>
        </p:blipFill>
        <p:spPr>
          <a:xfrm>
            <a:off x="1143000" y="2286000"/>
            <a:ext cx="671508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363528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709308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3214800" y="71424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Время быстро пролетело, и нам пришла пора возвращаться на Зем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I:\DCIM\Camera\IMG_20160413_092622.jpg"/>
          <p:cNvPicPr/>
          <p:nvPr/>
        </p:nvPicPr>
        <p:blipFill>
          <a:blip r:embed="rId4"/>
          <a:stretch/>
        </p:blipFill>
        <p:spPr>
          <a:xfrm>
            <a:off x="357120" y="1714680"/>
            <a:ext cx="5810400" cy="4357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I:\DCIM\Camera\IMG_20160413_092559.jpg"/>
          <p:cNvPicPr/>
          <p:nvPr/>
        </p:nvPicPr>
        <p:blipFill>
          <a:blip r:embed="rId5"/>
          <a:stretch/>
        </p:blipFill>
        <p:spPr>
          <a:xfrm>
            <a:off x="2571840" y="1714680"/>
            <a:ext cx="6229440" cy="46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363528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709308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1928880" y="1071720"/>
            <a:ext cx="59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Ребята, поздравляю вас с успешным возвращением на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C:\Users\123\Desktop\Безымянный.jpg"/>
          <p:cNvPicPr/>
          <p:nvPr/>
        </p:nvPicPr>
        <p:blipFill>
          <a:blip r:embed="rId4"/>
          <a:stretch/>
        </p:blipFill>
        <p:spPr>
          <a:xfrm>
            <a:off x="-17145000" y="4071960"/>
            <a:ext cx="7068960" cy="3600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Users\123\Desktop\Безымянный.jpg"/>
          <p:cNvPicPr/>
          <p:nvPr/>
        </p:nvPicPr>
        <p:blipFill>
          <a:blip r:embed="rId5"/>
          <a:stretch/>
        </p:blipFill>
        <p:spPr>
          <a:xfrm>
            <a:off x="8215200" y="30718080"/>
            <a:ext cx="7069320" cy="36003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8" descr="Безымянный.jpg"/>
          <p:cNvPicPr/>
          <p:nvPr/>
        </p:nvPicPr>
        <p:blipFill>
          <a:blip r:embed="rId6"/>
          <a:stretch/>
        </p:blipFill>
        <p:spPr>
          <a:xfrm>
            <a:off x="0" y="2201760"/>
            <a:ext cx="914400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500280" y="857160"/>
            <a:ext cx="564372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Ц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Расширить представления детей о космосе и космических полет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Воспитывать любозна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Воспитывать дружеские взаимоотношения между деть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Учить объединяться в игре, выполнять игровые действия, поступать в соответствии с правилами и общим игровым замысл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https://img-fotki.yandex.ru/get/15546/47606540.90/0_fe401_da2bff5a_orig.gif"/>
          <p:cNvPicPr/>
          <p:nvPr/>
        </p:nvPicPr>
        <p:blipFill>
          <a:blip r:embed="rId2"/>
          <a:stretch/>
        </p:blipFill>
        <p:spPr>
          <a:xfrm>
            <a:off x="3143160" y="3643200"/>
            <a:ext cx="55008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363528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709308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2357280" y="1571760"/>
            <a:ext cx="6500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ttp://animated-gif.su/_ph/27/2/39373658.gif"/>
          <p:cNvPicPr/>
          <p:nvPr/>
        </p:nvPicPr>
        <p:blipFill>
          <a:blip r:embed="rId4"/>
          <a:stretch/>
        </p:blipFill>
        <p:spPr>
          <a:xfrm>
            <a:off x="3071880" y="2857680"/>
            <a:ext cx="526716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4"/>
          <p:cNvSpPr/>
          <p:nvPr/>
        </p:nvSpPr>
        <p:spPr>
          <a:xfrm>
            <a:off x="3071880" y="1214280"/>
            <a:ext cx="5643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Закреплять знания детей о планетах солнечной сист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одчеркнуть уникальность планеты Зем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ознакомить детей с профессией космонав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Закрепить знания детей о первом космонавте Ю. Гагарин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Развивать связную реч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363528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709308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2857680" y="1785960"/>
            <a:ext cx="2714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 самых давних времен люди смотрели на небо и задумывались о том, как бы подняться выше облаков и узнать, что же т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http://s56.radikal.ru/i153/1008/6f/013743377344.jpg"/>
          <p:cNvPicPr/>
          <p:nvPr/>
        </p:nvPicPr>
        <p:blipFill>
          <a:blip r:embed="rId4"/>
          <a:stretch/>
        </p:blipFill>
        <p:spPr>
          <a:xfrm>
            <a:off x="5786280" y="1357200"/>
            <a:ext cx="3122640" cy="528660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3714840" y="642960"/>
            <a:ext cx="32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Ход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7"/>
          <p:cNvSpPr/>
          <p:nvPr/>
        </p:nvSpPr>
        <p:spPr>
          <a:xfrm>
            <a:off x="3286080" y="1428840"/>
            <a:ext cx="53578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ервыми в Космос полетели не люди, а животные: крысы, а потом собаки. Их зовут Белка и Стрел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I:\DCIM\Camera\IMG_20160413_092751.jpg"/>
          <p:cNvPicPr/>
          <p:nvPr/>
        </p:nvPicPr>
        <p:blipFill>
          <a:blip r:embed="rId2"/>
          <a:stretch/>
        </p:blipFill>
        <p:spPr>
          <a:xfrm>
            <a:off x="4500720" y="2714760"/>
            <a:ext cx="4286160" cy="3214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I:\DCIM\Camera\IMG_20160413_092801.jpg"/>
          <p:cNvPicPr/>
          <p:nvPr/>
        </p:nvPicPr>
        <p:blipFill>
          <a:blip r:embed="rId3"/>
          <a:stretch/>
        </p:blipFill>
        <p:spPr>
          <a:xfrm>
            <a:off x="500040" y="285768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363528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7093080" y="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gagarin_skaf.jpg (400×324)"/>
          <p:cNvPicPr/>
          <p:nvPr/>
        </p:nvPicPr>
        <p:blipFill>
          <a:blip r:embed="rId4"/>
          <a:stretch/>
        </p:blipFill>
        <p:spPr>
          <a:xfrm>
            <a:off x="5000760" y="3429000"/>
            <a:ext cx="3809880" cy="308628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3143160" y="185724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Много лет назад Юрий Гагарин полетел в косм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2214720" y="3643200"/>
            <a:ext cx="36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В космической рак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 названием «Вост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Он первым на план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одняться к звездам см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3571920" y="714240"/>
            <a:ext cx="5357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егодня и мы с вами поиграем в космонавтов, и отправимся в полёт, но прежде чем лететь нам нужно потренироваться и проверить вашу вынослив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оиграем в игру «Держу равновес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I:\DCIM\Camera\IMG_20160413_091501.jpg"/>
          <p:cNvPicPr/>
          <p:nvPr/>
        </p:nvPicPr>
        <p:blipFill>
          <a:blip r:embed="rId2"/>
          <a:stretch/>
        </p:blipFill>
        <p:spPr>
          <a:xfrm>
            <a:off x="3024360" y="2214720"/>
            <a:ext cx="5833800" cy="4375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I:\DCIM\Camera\IMG_20160413_091511.jpg"/>
          <p:cNvPicPr/>
          <p:nvPr/>
        </p:nvPicPr>
        <p:blipFill>
          <a:blip r:embed="rId3"/>
          <a:stretch/>
        </p:blipFill>
        <p:spPr>
          <a:xfrm>
            <a:off x="357120" y="285840"/>
            <a:ext cx="54291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363528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709308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3571920" y="714240"/>
            <a:ext cx="5357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Вы, просто молодцы. Вас всех смело можно брать в космонав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ейчас мы с вами перенесёмся на космодром откуда мы совершим полё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www.fresher.ru/manager_content/images2/7-krupnejshix-kosmodromov-mira/big/10.jpg"/>
          <p:cNvPicPr/>
          <p:nvPr/>
        </p:nvPicPr>
        <p:blipFill>
          <a:blip r:embed="rId4"/>
          <a:stretch/>
        </p:blipFill>
        <p:spPr>
          <a:xfrm>
            <a:off x="3214800" y="2716200"/>
            <a:ext cx="53672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363528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709308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3571920" y="714240"/>
            <a:ext cx="535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Внимание! Внимание! 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Члены экипажа космического корабля «Восток», приглашаются на посадку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Члены экипажа космического корабля «Молния», приглашаются на посадк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Джимми Нейтрон – 3,2,1... ПОЛЕТЕЛИ!.mp3" descr=""/>
          <p:cNvPicPr/>
          <p:nvPr/>
        </p:nvPicPr>
        <p:blipFill>
          <a:blip r:embed="rId4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I:\DCIM\Camera\IMG_20160413_091708.jpg"/>
          <p:cNvPicPr/>
          <p:nvPr/>
        </p:nvPicPr>
        <p:blipFill>
          <a:blip r:embed="rId5"/>
          <a:stretch/>
        </p:blipFill>
        <p:spPr>
          <a:xfrm>
            <a:off x="3214800" y="3000240"/>
            <a:ext cx="48816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3172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250" autoRev="1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8" dur="250" autoRev="1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9" dur="250" autoRev="1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20:21:28Z</dcterms:created>
  <dc:creator>DAY</dc:creator>
  <dc:description/>
  <dc:language>en-US</dc:language>
  <cp:lastModifiedBy>admin743</cp:lastModifiedBy>
  <dcterms:modified xsi:type="dcterms:W3CDTF">2018-01-09T08:22:45Z</dcterms:modified>
  <cp:revision>34</cp:revision>
  <dc:subject/>
  <dc:title>Слайд 1</dc:title>
</cp:coreProperties>
</file>