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E24-4945-40E3-8B4E-10C84CD0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4C4-2572-4F05-B498-5358614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880-1514-4BCB-A4A2-058C146D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56-BE1B-40B3-A68B-973A67DD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467-C94A-4BAA-922B-6F5073FA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4EB6-16E8-42D6-8033-8A3E14B1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19B-B8FA-4A4C-9FD7-2DC2D4A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94C-8BA2-4373-BEA1-9A36285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B5CC-C6B6-43AB-BF0E-92C82CC6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0E57-C772-4FCE-BDD2-000A1F7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5B84-BB2C-4F3C-9E72-737CDD4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3B0-559B-4830-A4C9-40B18E52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C6F-48E0-40BB-A28D-32772CF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98A2-A497-4F9B-96BD-6DFD77D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1F46-CEFE-4B41-82CB-5325F5C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0BD-B2DE-46A5-B700-03273CBC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5333-1ED0-4B7E-9107-F235308D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3FB-9EB0-4311-98AC-B3E89CC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EB8-4EF8-4A52-A6F1-47DFB60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B33-E5E2-4C6E-A9BA-A6F0343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C66-63B2-459A-BB2B-33D5B065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007-2D09-4963-AD93-98686AE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C32-ED7D-47E5-91E3-FCAE4E0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BD3-A3B5-4F44-9F95-1397861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1EB-AC3F-48CC-BBF9-AE5840C94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8BC9-273E-499C-BAD9-6164A368D34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0000" y="1412640"/>
            <a:ext cx="759600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Arial"/>
              </a:rPr>
              <a:t>«Единственная известная мне роскошь – это роскошь человеческого общения»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99"/>
                </a:solidFill>
                <a:latin typeface="Arial"/>
              </a:rPr>
              <a:t>Антуан де Сент -Экзюпери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0160" y="83628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пасибо за внимание, сотрудничество, продуктивный диалог, ваше творчество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о новых встреч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E03900"/>
          <p:cNvPicPr/>
          <p:nvPr/>
        </p:nvPicPr>
        <p:blipFill>
          <a:blip r:embed="rId1"/>
          <a:stretch/>
        </p:blipFill>
        <p:spPr>
          <a:xfrm>
            <a:off x="6588000" y="3284640"/>
            <a:ext cx="199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Анкета для детей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1. Как часто вы что-то делаете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а) ежедневно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б) по выходны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) несколько раз в недел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г) раз в месяц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д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2. Что именно вы чаще всего делаете вмес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а) игр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б) мастерим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) учим уро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г) гуля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д) хозяйничаем по дому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е) посещаем кинотеатры, театры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ж) чит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3. Сколько времени уходит на совместную деятельнос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а) 30 мин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б) 1-2 час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4. Что бы вы хотели делать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62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«Достаточно ли внимания Вы уделяете своему ребенку?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Picture 4" descr="krot01"/>
          <p:cNvPicPr/>
          <p:nvPr/>
        </p:nvPicPr>
        <p:blipFill>
          <a:blip r:embed="rId1"/>
          <a:stretch/>
        </p:blipFill>
        <p:spPr>
          <a:xfrm>
            <a:off x="1835280" y="333360"/>
            <a:ext cx="2087280" cy="20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09040f922918614d1a771736c88c00bd"/>
          <p:cNvPicPr/>
          <p:nvPr/>
        </p:nvPicPr>
        <p:blipFill>
          <a:blip r:embed="rId2"/>
          <a:stretch/>
        </p:blipFill>
        <p:spPr>
          <a:xfrm>
            <a:off x="6429240" y="285840"/>
            <a:ext cx="19288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Жизненные установки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зитивные и негатив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5" descr="lyagushka-0002"/>
          <p:cNvPicPr/>
          <p:nvPr/>
        </p:nvPicPr>
        <p:blipFill>
          <a:blip r:embed="rId1"/>
          <a:stretch/>
        </p:blipFill>
        <p:spPr>
          <a:xfrm>
            <a:off x="2124000" y="4221000"/>
            <a:ext cx="2232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95b62041dce8"/>
          <p:cNvPicPr/>
          <p:nvPr/>
        </p:nvPicPr>
        <p:blipFill>
          <a:blip r:embed="rId2"/>
          <a:stretch/>
        </p:blipFill>
        <p:spPr>
          <a:xfrm>
            <a:off x="5003640" y="2421000"/>
            <a:ext cx="3345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428840" y="214200"/>
          <a:ext cx="7715160" cy="660420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Негативные установк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Позитивные установк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Не будешь слушаться – заболеешь!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Думай только о себе, не жалей никого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Ты всегда поступаешь, как твой папа (твоя мама)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Уж лучше бы тебя вообще не было на свете!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Вот и будешь по жизни мыкаться, как твой папа (мама)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А сколько сил мы тебе дали, а ты…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Не твоего ума дело…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Бог тебя накажет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Calibri"/>
                        </a:rPr>
                        <a:t>Если ты будешь так поступать, с тобой никто дружить не будет!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66764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1. Не будешь слушаться – заболеешь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ы всегда будешь здоров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. Думай только о себе, не жалей никого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колько отдашь – столько и получишь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3. Ты всегда, как твой папа (твоя мама)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кая мама умница! Какой у нас папа молодец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4. Уж лучше бы тебя вообще не было на свете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кое счастье, что ты у нас есть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5. Вот и будешь по жизни мыкаться, как твой папа (мама) –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ждый сам выбирает свой пу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6. Сколько сил мы тебе дали, а ты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Мы любим, понимаем, надеемся на тебя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7. Не твоего ума дело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вое мнение всем интересно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8. Бог тебя накажет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Бог любит тебя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9. Если ты будешь так поступать, с тобой никто дружить не будет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к ты относишься к людям, так и они относятся к теб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9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9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9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9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9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9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9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9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9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95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95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95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95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95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95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95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95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95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95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95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95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95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95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95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5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5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5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95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95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95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95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95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95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95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95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95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95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95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95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95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95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95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95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95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95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95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95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95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Игры для всей семь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5" name="Picture 4" descr="297"/>
          <p:cNvPicPr/>
          <p:nvPr/>
        </p:nvPicPr>
        <p:blipFill>
          <a:blip r:embed="rId1"/>
          <a:stretch/>
        </p:blipFill>
        <p:spPr>
          <a:xfrm>
            <a:off x="1763640" y="3860640"/>
            <a:ext cx="19875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897"/>
          <p:cNvPicPr/>
          <p:nvPr/>
        </p:nvPicPr>
        <p:blipFill>
          <a:blip r:embed="rId2"/>
          <a:stretch/>
        </p:blipFill>
        <p:spPr>
          <a:xfrm>
            <a:off x="7164360" y="4221000"/>
            <a:ext cx="167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G0406265"/>
          <p:cNvPicPr/>
          <p:nvPr/>
        </p:nvPicPr>
        <p:blipFill>
          <a:blip r:embed="rId3"/>
          <a:stretch/>
        </p:blipFill>
        <p:spPr>
          <a:xfrm>
            <a:off x="4067280" y="1484280"/>
            <a:ext cx="260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Дискуссионный клуб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Друзья зовут вашего ребенка гулять, а у него не сделаны уроки. Как вы поступите в этой ситуаци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2. Спасая котенка, который не мог слезть с дерева, ребенок порвал куртку. Ваши действия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3. Ребенок звонит вам на работу, а у вас важное совещание. Что вы ему скаже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4. Найдите убедительные доводы в пользу самостоятельного чтени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5. Уже поздно, ребенку пора домой. Позовите его так, чтобы он не смог отказатьс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6. Ребенок смотрит по телевизору передачу, а на другом канале показывают очень важную для вас информацию. Что дела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Твои эмо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Picture 4" descr="023413200912117[1]"/>
          <p:cNvPicPr/>
          <p:nvPr/>
        </p:nvPicPr>
        <p:blipFill>
          <a:blip r:embed="rId1"/>
          <a:stretch/>
        </p:blipFill>
        <p:spPr>
          <a:xfrm>
            <a:off x="1835280" y="1341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7:25Z</dcterms:created>
  <dc:creator>Стас</dc:creator>
  <dc:description/>
  <dc:language>en-US</dc:language>
  <cp:lastModifiedBy>User</cp:lastModifiedBy>
  <dcterms:modified xsi:type="dcterms:W3CDTF">2017-10-25T13:52:52Z</dcterms:modified>
  <cp:revision>39</cp:revision>
  <dc:subject/>
  <dc:title>Роскошь</dc:title>
</cp:coreProperties>
</file>