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11AD-A968-4AF6-9C89-16372E1E5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AA5-36EB-4042-B270-D7AA247B8D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2960" y="76824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C1B-A5A0-46BE-8E18-7492E0A77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41A-09B6-4A50-9041-85205C81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FAF-F0E5-4843-9DD6-C3D32D3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A74-C812-4B50-A5E7-A522FFD0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7C5-E888-49E9-AF29-34AD2ECF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B5E5-2392-4C7C-9D17-6E6C91DF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B238-E3BF-4E37-8F4B-DBE1B292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F002-32F9-48B2-9A99-5CD35AA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838-DE16-4AB1-80D5-14DB5456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73A9-9FE4-4CCE-8558-12FF38A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AB9-03D6-4C74-8B89-4BB00E57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DDC7-8A6F-4EE2-A673-40132AF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875-475F-4C0A-9EC7-B3AB975C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A69A-6A39-4EB6-ACB9-7634EEF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94A-E7CC-4C15-A066-65FE3FF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8A2D-3EB3-4A77-A87B-CD4AAB59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E6C0-F8ED-473E-9518-87B8B22F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086-7A34-4F2F-83E0-DDAE7C7C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4D1-9A69-4D6A-8BB3-B6C83F3C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D21-6EE0-4D9F-86D5-FF3D27D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BD1-D49D-4B22-9A39-0191EB3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7C5-81DE-4685-8A96-D5254E1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993-6A00-40AB-8E16-DD52CEBB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899-9F99-4B68-A88C-C7033EB8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D56-199A-4A03-BAC7-CF28CB9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D609-CCB8-45F1-A86C-56147C4B70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EEA9-5832-462F-A35C-05BC06002B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846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Федеральный государственный образовательный стандарт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общего образования и новые санитарно-эпидемиологические правила и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1280" y="2420640"/>
            <a:ext cx="77407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.Р.Кучм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И гигиены и охраны  здоровья детей и подростков НЦЗД РАМ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сероссийский семинар-совещание руководителей органов исполнительной власти, осуществляющих управление в сфере образования и ректоров учреждений дополнительного профессионального педагогического образования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-3февраля 2010 г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12000" y="5843520"/>
            <a:ext cx="1081080" cy="814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713560"/>
            <a:ext cx="1187280" cy="114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22520" y="5445000"/>
            <a:ext cx="41371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результатам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. Предметные результаты освоения основной образовательной программы начального общего образования …  должны отраж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.7. Физическая культур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) формирование первоначальных представлений о значении физической культуры для укрепления здоровья человека (физического, социального и психологического), о ее позитивном влиянии на развитие человека (физическое, интеллектуальное, эмоциональное, социальное), о физической культуре и здоровье как факторе успешной учебы и социализ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B58-4E0C-4A8B-8AB0-873B9FC3E8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результатам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2. Предметные результаты освоения основной образовательной программы начального общего образования …  должны отраж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2.7. Физическая культур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) овладение умениями организовывать здоровьесберегающую жизнедеятельность (режим дня, утренняя зарядка, оздоровительные мероприятия, подвижные игры и т. д.);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60F-C0E8-4D88-AB16-C1D679005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результатам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. Предметные результаты освоения основной образовательной программы начального общего образования …  должны отраж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2.7. Физическая культур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) формирование навыка систематического наблюдения за своим физическим состоянием, величиной физических нагрузок, данных мониторинга здоровья (рост, масса тела и др.), показателей развития основных физических качеств (силы, быстроты, выносливости, координации, гибкости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E6E-EAAF-49D4-9160-620B82168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6. Основная образовательная программа начального общего образования …  должны содержать следующие раз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) программа формирования культуры здорового и безопасного образа жизн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67E-C2B4-42A7-9A2D-8E0754AFCB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.3. Учебный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оличество учебных занятий за 4 учебных года не может составлять менее 2904 часов и более 3210 ч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E7D-262F-47D4-AE72-BC410E73F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9.3. Учебный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неурочная деятельность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рганизуется по направлениям развития личности (спортивно-оздоровительное, духовно-нравственное, социальное, общеинтеллектуальное, общекультурное) в таких формах, ка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756-7F20-4F27-A9C0-37CAB93C8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9.3. Учебный пл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Внеурочная деяте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…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таких формах, как экскурсии, кружки, секции, круглые столы, конференции, диспуты, школьные научные общества, олимпиады, соревнования, поисковые и научные исследования, общественно полезные практики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ремя, отводимое на внеурочную деятельность, составляет до 1350 ч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CAA-CF2A-4EA0-8738-E1A2DC52E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.7. Программа формирования культуры здорового и безопасного образа жизни должна представлять собой комплексную программу формирования знаний, установок, личностных ориентиров и норм поведения, обеспечивающих сохранение и укрепление физического, психологического и социального здоровья обучаю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50C-3E32-4710-A054-6E85D491E3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грамм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формирования культуры здорового и безопасного образа жизн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олжна обеспечив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буждение в детях желания заботиться о своем здоровье (формирование заинтересованного отношения к собственному здоровью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ормирование установки на использование здорового пит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спользование оптимальных двигательных режимов для детей с учетом их возрастных, психологических и иных особенностей, развитие потребности в занятиях физической культурой и спорт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26B-4C78-4382-ABB0-3E83864D29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структуре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формирования культуры здорового и безопасного образа жизн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лжна обеспечива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нение рекомендуемого врачами режима д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знания негативных факторов риска здоровью детей (сниженная двигательная активность, курение, алкоголь, норкотики и другие психоактивные вещества, инфекционные заболевания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новление навыков противостояние вовлечению в табакокурение и употребление алкоголя, наркотиков и сильнодействующих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потребности ребенка безбоязненно обращаться к врачу по любым вопросам, связанным с особенностями роста и развития, состояния здоровья, развитие готовности самостоятельно поддерживать свое здоровье на основе использования навыков личной гигие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49A-5E81-4CC7-97E1-9BFB24ED46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001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Школа и здоровь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Школа является особым образовательным пространством, в рамках которого происходит не только формирование социально адаптированной личности, ее профессиональное и гражданское самоопределение, но и формируется самая важная, базовая характеристика, обеспечивающая реализацию всех остальных -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Verdana"/>
              </a:rPr>
              <a:t>здоровь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AD7-F4A6-4395-B79B-10CC4A893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2708280"/>
            <a:ext cx="403236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411640" y="1772280"/>
            <a:ext cx="367200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2708280"/>
            <a:ext cx="395928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2421000"/>
            <a:ext cx="93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62864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онно-методическ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573360"/>
            <a:ext cx="19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Arial"/>
              </a:rPr>
              <a:t>Кадровое 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3068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Учебно-материаль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60280"/>
            <a:ext cx="85690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Ресурсное обеспе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(условия) реализации основных образовательных программ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771280" y="4076640"/>
            <a:ext cx="295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229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Arial"/>
              </a:rPr>
              <a:t>Финансово-экономическ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2035080" cy="191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BEF-93AC-40C1-BAED-FB8EFF7C2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1125360"/>
            <a:ext cx="2160720" cy="93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Ресур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1125360"/>
            <a:ext cx="230328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276640"/>
            <a:ext cx="3528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Информационно-метод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2133720"/>
            <a:ext cx="43574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здание информационно-методиче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вивающей образовательной среды - оптим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онно-методически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условий для реализации основных образовательных 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357720"/>
            <a:ext cx="352728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Кадров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581360"/>
            <a:ext cx="345600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Учебно-материальн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5589720"/>
            <a:ext cx="3456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Финансово-экономические ресурсы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3357720"/>
            <a:ext cx="4392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здание субъектной развивающей образова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реды - оптим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кадровых ресур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реализации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сновных образовательных 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5516640"/>
            <a:ext cx="43941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здание условий для формиров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и воспроизводства  информационно-методической развивающе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убъектной развивающей, предметной  развивающей  образовате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ред,  совокупность  которых   необходима и достаточна для полн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лизаци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сновных образовательных 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4437000"/>
            <a:ext cx="439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Создание предметной  развива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образовательной среды - оптим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учебно-материальных условий для реализации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общеобразовательных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256536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57336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465300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602136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esk1"/>
          <p:cNvSpPr/>
          <p:nvPr/>
        </p:nvSpPr>
        <p:spPr>
          <a:xfrm>
            <a:off x="539640" y="260280"/>
            <a:ext cx="8207640" cy="647640"/>
          </a:xfrm>
          <a:prstGeom prst="pi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8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ВИДЫ РЕСУРСОВ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V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условиям реализации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5. Материально-технические условия реализации ОПНО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лжны обеспечива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облюд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нитарно-гигиенических норм образовательного процесса (требования к водоснабжению, канализации, освещению, воздушно-тепловому режиму и т.д.);применение рекомендуемого врачами режима д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нитарно-бытовых условий (наличиеоборудованных гардеробов, санузлов, мест личной гигиены и т.д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циально-бытовых условий (наличие оборудованного рабочего места, учительской, комнаты психологической разгрузки и т.д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оевременных сроков и необходимых объемов текущего и капитального ремон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AD9-F36B-4728-BCFB-87017CC7FB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V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условиям реализации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5. Материально-технические условия …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атериально-техническая база должна соответствовать действующим санитарным … нормам …, предъявляемых 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частку (территории) образовательного учреждения (площадь, инсоляция, освещение, размещение, необходимый набор зон для обеспечения образовательной и хозяйственной деятельности образовательного учреждения и их оборудование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зданию образовательного учреждения (высота и архитектура здания, необходимый набор, и размещение помещений для осуществления образовательного процесса, их площадь, освещенность, расположение и размеры рабочих, игровых зон и зон для индивидуальных занятий в учебных кабинетах образовательного учреждения, для активной деятельности, сна и отдыха, структура которых должна обеспечивать возможность для организации учебной и внеурочной учебной деятельност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C27-414E-48F8-B5FA-6F7488632D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V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условиям реализации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5. Материально-технические условия …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териально-техническая база должна соответствовать действующим санитарным … нормам …, предъявляемых 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мещениям библиотек (площади, размещение рабочих зон, наличие читального зала, число читательских мест, медиатек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мещениям для питания обучающихся, а также для хранения и приготовления пищи, обеспечивающим возможность организации качественного горячего питания, в том числе горячих завтра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мещениям, предназначенным для занятий музыкой, изобразительным искусством, хореографией, моделированием, техническим творчеством, естественно-научными исследованиями, иностранными язык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товому зал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ортивным залам, бассейнам, игровому и спортивному оборудовани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880-5C8C-4A20-B973-19919874EA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V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условиям реализации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5. Материально-технические условия …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атериально-техническая база должна соответствовать действующим санитарным … нормам …, предъявляемых 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мещениям для медицинского персон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ебели, офисному освещению и хозяйственному инвентар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сходным материалам и канцелярским принадлежностям (бумага для ручного и машинного письма, инструменты письма (в тетрадях и на доске), изобразительного искусства, технологической обработки и конструирования, химические реактивы, носители цифровой информаци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33B-212B-463B-90BC-40A54C925B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V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условиям реализации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6. Информационно-образовательная среда образовательного учреждения должна включать в себя совокупность технологических средств (компьютеры, базы данных, коммуникационные каналы, программные продукты и др.), культурные и организационные формы информационного взаимодействия … с применением информационно-коммуникационных технологий (ИКТ)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5FC-C30A-429B-A63B-F0A645F949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V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условиям реализации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7. Учебно-методическое и информационое обеспечение реализации ООП НОО направлено на обеспечение … доступа к любой информации, … к печатным и электронным образовательным ресурсам (ЭОР)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42B-68D8-47EF-A905-043A008C7C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совокупность факторов, которая создается всем укладом жизнедеятельности школы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материальные ресурсы школы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рганизация учебного процесс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рганизация питани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медицинское обеспечен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сихологический клима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549360"/>
            <a:ext cx="75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Образовательная сред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C89-5683-475C-8ED9-CA8981529C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Гигиенические требования к условиям и организации обучения в общеобразовательных учреждениях 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182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овокупность норм и регламентов  тех факторов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оторые формируют образовательную сред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материальные ресурсы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рганизация учебного процесс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рганизация питани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медицинск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185-7EDC-4724-8BA5-090B9D2934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Одна из стратегических задач развития обра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2565360"/>
            <a:ext cx="79930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и главный смысл разработки образовательных стандартов второго поколения- </a:t>
            </a:r>
            <a:r>
              <a:rPr b="0" i="1" lang="en-US" sz="4400" spc="-1" strike="noStrike">
                <a:solidFill>
                  <a:srgbClr val="cc0000"/>
                </a:solidFill>
                <a:latin typeface="Verdana"/>
              </a:rPr>
              <a:t>повышение качества образования</a:t>
            </a: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11736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Современная нормативная база, обеспечивающая санэпидблагополучие  учащихся в общеобразовательных учрежд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СанПиН 42-125-4216-86 «Санитарно-гигиенические правила и нормы по организации обучения детей с шестилетнего возраста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СанПиН 2.4.7.1166-0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Гигиенические требования к изданиям учебным для общего и начального профессионального образования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17E-7FA2-407C-B351-82085DD4DD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Современная нормативная база, обеспечивающая санэпидблагополучие  учащихся в общеобразовательных учрежд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487-4542-46F2-B4D7-20D2B706D5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Современная нормативная база, обеспечивающая санэпидблагополучие  учащихся в общеобразовательных учрежд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СанПиН 2.2.1./2.1.1.1278-03 «Гигиенические требования к естественному, искусственному и совмещенному освещению жилых и общественных зданий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СанПиН 2.2.2./2.4.1340-03 «Гигиенические требования к видеодисплейным терминалам и персональным электронно-вычислительным машинам и организация работы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B6D-54AE-4279-BCDB-928DCD305C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3300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Современная нормативная база, обеспечивающая санэпидблагополучие  учащихся в общеобразовательных учрежд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6.СанПиН 2.4.2.1178-02 «Гигиенические требования к условиям обучения в общеобразовательных учреждениях»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9CF-454F-4236-812D-B281959A8A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Принципы формирования новых гигиенических требо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истемность (взаимосвязанность требований, нормативов и  регламентов, образующих целостную систему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ифференцированность (учет возрастных особенностей учащихся начальной, основной и  старшей школ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C10-AC6A-4297-9211-6E1022FBF9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Принципы формирования новых гигиенических требо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Учет состояния здоровья современных школьников (акцент на профилактику школьно- обусловленной патологи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Учет происходящих перемен в содержании 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Отказ от избыточности требований и регламен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65F-D752-4964-8E1E-DE491CF040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76720" y="228600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Факторы риска школьно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2725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Интенсификация учебного процесса и учебные перегруз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0"/>
            <a:ext cx="3124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Использование педагогических технологий, не прошедших гигиеническую экспертиз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476280"/>
            <a:ext cx="209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Авторитарная педагог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2666880"/>
            <a:ext cx="2738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Снижение возраста начала школьного обуч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33720"/>
            <a:ext cx="304812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Несоблюдение гигиенических требований к микроклимату, освещенности, ЭМП, учебной мебели, ТСО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181480"/>
            <a:ext cx="228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Нерациональное чередование учебы и канику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5257800"/>
            <a:ext cx="347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лохая организация школьного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16800" y="5257800"/>
            <a:ext cx="252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Гипокинезия школьни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599840" y="1294920"/>
            <a:ext cx="2057400" cy="11430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1828800"/>
            <a:ext cx="0" cy="53352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43200" y="3124080"/>
            <a:ext cx="99072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343400"/>
            <a:ext cx="0" cy="6858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2971800"/>
            <a:ext cx="68580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23520" y="3886200"/>
            <a:ext cx="2210040" cy="11430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15000" y="1523520"/>
            <a:ext cx="1752480" cy="8384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886200"/>
            <a:ext cx="1676160" cy="121932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710-8E57-4549-A7C2-650B53047D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ПРОЕКТ СанПиН разработан </a:t>
            </a:r>
            <a:br>
              <a:rPr sz="3400"/>
            </a:b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при участи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ГУН НИИ дезинфекции Роспотребнадзор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правления Роспотребнадзора п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. Москва;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осковской медицинской академ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м. И.М.Сеченова Росздрав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анкт-Петербургской государственной медицинской академии им. И.М. Мечникова Росздра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3E7-E213-4D74-9C0E-823B6F3934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СанПиН содержит требования к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размещению  школьного зда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участку  и зданию  школ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борудованию помеще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воздушно-тепловому режим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естественному, искусственному освещению и инсоляци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водоснабжению и канализации;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рганизации образовательного процесс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рганизации медицинского обеспече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анитарному состоянию и содержанию  участка и помещений школ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B57-6D19-413F-89B0-0D05299453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В чем новизна гигиенических требований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592280"/>
            <a:ext cx="8291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я существующих требований, разрозненных в различных НМ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здательская продукци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мпьютерная техник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рганизация физвоспитани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рганизация школьного питани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4DE-80EE-4A32-86B1-4282B69418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Цель инновационных процессов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заключается не только в повышении качества образования, но и в укреплении здоровья учащихся и в создании психологического комфорта участникам образовательного процесса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A46-2C19-4B7A-B7ED-192B7F3167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1752480"/>
            <a:ext cx="7780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74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Норматив площади участка школы в расчете на 1 учащегося и допустимый предел его снижения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Высота учебных помещений (во вновь строящихся зданиях)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46B-FE31-4C83-878A-2167C17D63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ые гигиенические треб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ощадь земельного участка определяют из расчета не менее 35 кв.м на 1-го учащегося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ощадь классной комнаты на 1-го учащегося не менее 2,5 кв.м.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463920" y="2205000"/>
            <a:ext cx="319572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204-1694-4FAA-981A-F27D497B99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6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Условия для обучения детей с ограниченными возможностям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Площадь учебных кабинетов, игровых и спален в расчете на 1 учащегос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Увеличено количество спортивных зал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ребования к тренажерным залам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67D-55DE-4465-9091-18D19122431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бновлены требования к учебной мебели (конторки)и учебным доска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борудование спальных комна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Оборудование и инструментарий медицинских кабинет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3C7-009F-48F7-AF70-99796092EB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редставлен перечень приоритетных загрязнителей воздуха в учебных помещения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овышен норматив искусственной освещенности в учебных помещения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Даны нормативы непрерывной инсоляции учебных помещений и на участке школ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5A7-6FAD-4D2F-A21D-A801AC00E6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пределена продолжительность учебного года и организация канику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овые шкалы трудности учебных предметов для составления расписания уроков, устранены запреты для проведения сдвоенных уроков в средних и старших класса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Расширены требования к организации двигательной активности и проведению занятий физической культур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151-E872-45D9-879F-21DFFCE8B0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Расширены и пересмотрены требования к организации занятий с использованием компьютер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Требования к организации общественно-полезного труда и сельскохозяйственных работ учащихс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D10-E974-4EBE-971B-F326941A3F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ые гигиенические треб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Электронные учебники (ЭО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В оформлении ЭОР следует применять негативное изображение (светлые знаки полужирного начертания на темном фоне). Наиболее благоприятными цветовыми сочетаниями являются белые или желтые знаки на синем фон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659-F853-4310-83AD-73FE5DC408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ые гигиенические треб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Электронные учебники (ЭО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ри использовании жидкокристаллического дисплея следует применять позитивное изображение (темные знаки на светлом фоне). Наиболее благоприятными цветовыми сочетаниями являются синие знаки на желтом фоне и черные знаки на зеленом фо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Цветовое сочетание красных знаков и зеленого фона является благоприятным для любых типов дисплее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856-2E2F-430F-91E7-EC22DF02FD4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ые гигиенические треб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Электронные учебники (ЭО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араметры шрифтового оформления текстовой и/или знаковой информации (кегль шрифта, высота прописной буквы, группа шрифтов) на «страницах» ЭОР для учащихся нормируются в зависимости от объема текста единовременного прочт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792000" cy="5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D35-2669-4F0B-8B95-EB0ED2C6143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Здоровье выпускников школы 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один из важных показателей качественности школьного образования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9F6-26B8-43E0-AD07-D3790529C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ые гигиенические треб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3516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Электронные учебники (Э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Длина строки в текстовой информации на электронной странице не должна быть менее 100 мм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В ЭОР не следует применять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более четырех различных цветов на одной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электронной странице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красный фо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«движущиеся» строки по горизонтали 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вертикал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Объем электронных страниц с текстовой и/или знаковой информацией от общего объема «страниц» ЭРО (без учета динамических видеоматериалов) не должен превышать 20%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037-E2B6-44B4-AC4E-BE6699C414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ребования к организации ежедневной внеурочной деятельности учащихс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Включены требования к новому виду школ - школам полного дн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Представлены нормативы веса ранца, учебных комплект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58B-3B0F-42E9-B6FA-477CE2EFD95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-2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Внеучебная деятельнос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744560"/>
            <a:ext cx="8686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 Занятия по выбор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 Форма занятий должна   отличаться от урочной (кружки секции, олимпиады, экскурсии, проектная деятельность и др.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 Баланс между занятиями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двигательного и статического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характе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29E-CDB6-4F6E-820B-A9FF35140A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ребования к сменной обув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 учетом современных научных подходов переработаны требования к санитарному состоянию учебных помещений и участка школы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718-B3D4-436A-97DC-A77441673C3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В чем новизна гигиенических требований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новление существовавших ране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ребования к медицинскому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еспечению (порядок,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тандарты оказания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едицинской помощи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снащение медкабинета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E21-9EB9-410B-A421-3ACE35EF44E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-100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Образовательные стандарты нового поколения ВКЛЮЧАЮ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казатели здоровьесберегающей деятельности образовательных учреждений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епень невротизации, распространённости астенических состояний и вегетативных нарушен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Физическое развитие учащих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болеваемость учащих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Физическая подготовленность учащих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ексная оценка состояния здоровь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доровый образ жизн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088-0724-4B64-9A93-3DEB390DB75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Образовательные стандарты 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ого покол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ценка показателей сформированности здорового образа жизни учащих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одится по показателя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спространенности основных факторов риска нарушения здоровья школьник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информированности школьников в отношении факторов риск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формированности у школьников установок на здоровый образ жизн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540-4D48-4F9F-8755-C7D069AEBCA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Образовательные стандарты 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нового поколения ВКЛЮЧАЮ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гиеническую оценку условий реализации общеобразовательных учрежд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крининг-оцен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 использованием специальных анкет (по 5 основным блока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 том числе инструмент самоаудита школ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101080" y="6111720"/>
            <a:ext cx="792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47B-6350-4129-9CDB-5C26BD504AB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80010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БЛАГОДАРЮ ЗА ВНИМАНИЕ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ОТКРЫТЫ К СОТРУДНИЧЕСТВУ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ahoma"/>
              </a:rPr>
              <a:t>Кучма Владислав Ремирови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ahoma"/>
              </a:rPr>
              <a:t>профессор, директо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ahoma"/>
              </a:rPr>
              <a:t>НИИ гигиены и охраны здоровья детей и подростков НЦЗД РАМ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ahoma"/>
              </a:rPr>
              <a:t>Главный специалист по гигиене дете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ahoma"/>
              </a:rPr>
              <a:t>и подростков Минздравсоцразвития Росс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22520" y="5445000"/>
            <a:ext cx="4137120" cy="134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11280" y="189000"/>
            <a:ext cx="1260360" cy="1216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7812000" y="404640"/>
            <a:ext cx="1081080" cy="8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277-AA45-45CE-8ECB-20825681246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3440160" cy="532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16480" y="1501920"/>
            <a:ext cx="3287880" cy="47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4BE-4979-4802-99AD-2E5CF256A5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23"/>
          <p:cNvSpPr/>
          <p:nvPr/>
        </p:nvSpPr>
        <p:spPr>
          <a:xfrm>
            <a:off x="826920" y="1989000"/>
            <a:ext cx="7632720" cy="4105440"/>
          </a:xfrm>
          <a:prstGeom prst="ellipse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9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1" name="Oval 18"/>
          <p:cNvSpPr/>
          <p:nvPr/>
        </p:nvSpPr>
        <p:spPr>
          <a:xfrm>
            <a:off x="1258920" y="3645000"/>
            <a:ext cx="3454200" cy="1512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структуре 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>
            <a:off x="2916360" y="2205000"/>
            <a:ext cx="3454200" cy="1655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Arial"/>
              </a:rPr>
              <a:t>К результатам осв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4643280" y="3716280"/>
            <a:ext cx="3454560" cy="1656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 условиям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44360" y="38880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Стандарты общего образования второго поколения содержат три компонента:</a:t>
            </a: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р + Тс + Ту – новая формула образовательных стандартов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821-DFA2-4680-88D2-BE07EB860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Общие полож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Стандарт ориентирован на становление личностных характеристик выпускника («портрет выпускника начальной школы»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юбящий свой народ, свой край и свою Родин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Выполняющий правила здорового и безопасного для себя и окружающих образа жизн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DF6-AB58-4D3B-8F4F-A741473586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ФГОС НОБ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I.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Требования к результатам 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Личностные результаты освоения основной образовательной программы начального общего образования должны включа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) формирование установки на безопасный, здоровый образ жизни, наличие мотивации к творческому труду, работе на результат, бережному отношению к материальным и духовным ценност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A5F-20B7-4811-BADE-A6C7EE0A5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9:13:04Z</dcterms:created>
  <dc:creator>Степанов</dc:creator>
  <dc:description/>
  <dc:language>en-US</dc:language>
  <cp:lastModifiedBy>Кучма</cp:lastModifiedBy>
  <dcterms:modified xsi:type="dcterms:W3CDTF">2010-02-02T20:39:07Z</dcterms:modified>
  <cp:revision>107</cp:revision>
  <dc:subject/>
  <dc:title>ГИГИЕНА ОБУЧЕНИЯ ВОСПИТАНИЯ: ИСТОРИЯ И ПЕРСПЕКТИВЫ</dc:title>
</cp:coreProperties>
</file>