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9FD9-3162-46DD-83F5-CB48D2F2A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53EF-0DEC-4FC0-8569-679822AA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9594-1DC1-428F-891E-72E0924BC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0566-03E9-422B-A08A-2CF71291F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64D9-C1F2-4EAF-919E-A4C04B135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A087-D3C6-4DA5-A3E0-3511953E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77B3-CF41-48D9-9291-0CFDD48C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3399-743A-4D18-986D-86671C08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B2AA-339D-4CBB-828F-9CA47665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13F6-8D21-4B0C-881D-797CCEC8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2848-8FEB-46E5-99F2-6C1BB3DD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06E3-A2DE-44C3-9CD3-2248912C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1F92-DB56-48AC-A7F1-359F5EA8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664F-7330-4155-9EC6-AAA05B8C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B947-894B-46E6-B23D-FE0FEF11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8954-1DCB-441E-AAEB-D88325360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AA5D-6885-4A22-A75C-88F27FC7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698D-3BEC-4B23-ADFC-061A221E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81BD-4E0A-4B7E-BBB9-2994EB0B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CD33-DBE9-4A45-B943-E0D2927D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0DA3-AF22-4801-9C83-ABEB7B5C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0A36-D695-41B8-9D90-D073C60E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5150-817A-4EB6-BF65-EDB46DE2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562E-C150-4F4F-923F-DA458B18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42ED-DCB5-4D59-A604-58EB28D0E0D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2E1A-9CD1-4629-B8A2-A9777F3AD8E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Современный урок в свете требований ФГОС 4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Метапредметные результаты (УУД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тивационный эта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амоопределение (Л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нутренняя позиция школьника (Л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ебно-понавательная мотивация (Л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ланирование учебного сотрудничества (К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Целево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становка учебной задачи в сотрудничестве с учителем (Р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улирование и аргументация своего мнения и позиции в коммуникации (К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ет разных мнений в сотрудничестве (К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левая саморегуляция (Р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Содержательны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ебно-познавательный интерес (Л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из, синтез, сравнение, обобщение, аналогия (П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ведение под понятие (П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 осовной и второстепенной информации (П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рактически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Нравственно-этическое оценивание усваиваемого содержания (Л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остроение логической цепи рассуждений (П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Использование знаково-символических средств (П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остроение высказываний (П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азрешение конфликтов (К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Формулирование и аргументация своего мнения (К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онимание относительности мнений и подходов для решения проблем (К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Адекватное использование речи для планирования и регуляции своей деятельности (К)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онтроль и самоконтрол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нализ, сравнение, классификация (П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левая саморегуляция (Р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знавательная инициатива (Р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пользование общих приемом решения задач (П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уществление самоконтроля по результату и по способу действия (Р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амостоятельая адакватная оценка правиьности результатов действия, внесение необходимых корректив (Р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одведение итог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амостоятельная адекватная оценка правильности результатов действия, переоценка результатов работы (Р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Формирование позиции успешности (Р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ефлекс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нутренняя позиция школьника (Л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ефлексия способов и условий действия (П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нимание причин успеха \ неуспеха в учебной деятельности (Л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онтроль и оценка процесса и результатов деятельности (П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ланирование учебного сотрудничества (К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Вывод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временный урок отличается большой самостоятельностью учащихся на всех этапах уро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читель – организатор, создающий ситуацию успеха, оценивающий любой прогресс ученик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 каждого ребенка есть критерии, которые он использует в работе и рефлекс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Методические принципы современного  уро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убъективизация (ученик равноправный участник образовательного процесс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тапредметность (формирование универсальных способностей учащихся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ятельностный подход (знания добываются в ходе поисковой деятельности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ммуникативность (обмен инфрмацией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флексивность создается ситуация когда необходимо проанализировать свою деятельность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Требования к уроку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амостоятельная работа учащихся на всех этапах уро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читель – организатор, а не информатор ( речь учителя - не более 30 % времени на урок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ысокая степень речевой активности учащихся на урок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бязательная рефлекс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Типы уро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рок открытия новых знаний и обретение новых умений и навык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рок отработки и умений и формирование УУ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рок систематизации знаний , обобщающее повтор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бинированный ур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Структурные элементы урока. Этапы урока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. Мотивационный – (Тема – вопрос, исключение, собери слово, проблемная ситуация) 5 мину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. Целевой – (Вспомнить – узнать – научиться)        2 мин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3. Содержательный – 13 мин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4. Практический – 10 мин. (Если есть смена 4-6 видов деятельности, то физ.минутка не нужна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5. Контроль, самоконтроль – 6 мин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6. Подведение итогов – 2 мин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7. Рефлексия – (Что было трудно? Почему? Где можем применить знания, полученные на уроке?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 мин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8. Информация о Д\З – 1 мин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Требования к заданиям на уроке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блемный, поисковый характе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Задания должны предполагать необходимость комплексного применения знаний из нескольких разделов предмета, других предме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Методы обуч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тод активного обучения (деловые, ролевые игры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тод проблемного обучения (беседа, семинар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тод активизации творческого мышления (мозговой штурм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тод взаимообучения (парное, гркпповое обучение, тьторство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Деятельность ученик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Формулирует тему, цель и задачи уро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Формулирует задания к упражнения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омментирует свои действия, выполняя упражн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Формулирует новое правило на основе анализа предложенного учителем материа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споминает ход урока, анализирует свою деятель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Требования к учителю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Чётко и точно формулирует зада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 дает новых знаний в готовом вид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 повторяет задания 2 раз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 комментирует и не исправляет ответы учащихся, предлагая сделать это самим ученика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едугадывает затруднения учеников и меняет задание по ходу урока, если дети не смогли выполнить его с первого раз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дбирает комплексные зада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4T18:19:14Z</dcterms:created>
  <dc:creator>Николя</dc:creator>
  <dc:description/>
  <dc:language>en-US</dc:language>
  <cp:lastModifiedBy>Николя</cp:lastModifiedBy>
  <dcterms:modified xsi:type="dcterms:W3CDTF">2017-12-14T19:36:04Z</dcterms:modified>
  <cp:revision>2</cp:revision>
  <dc:subject/>
  <dc:title>Современный урок в свете требований ФГОС 4</dc:title>
</cp:coreProperties>
</file>