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F29-91E6-4A57-9422-3011127A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CA2-E6C8-4AE3-9D64-B9181A4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FB40D-9995-4C5D-9588-2E7AF0C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7644-EDC0-49BE-BBC3-00B7F48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99D82-3393-4821-AF2E-9D42002D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2D8D9-9EC1-4A03-BD7A-F6AE83B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538C7-33E2-4F5C-ACB5-72553DA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060C-8F05-476F-9865-A1545A0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8E2AF-6965-4142-8FD4-CD205BC6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47357-8798-4881-B2A2-5F14252A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477EF-A88C-4332-8B1D-68A18C92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D94FA-565B-45EF-B631-AB2F587E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AC3-9D4B-466C-84EC-15952E5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B207-5B13-4230-8915-ED333DA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59D2B-CC09-4663-AFF4-0043C5FD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31DAD-2D39-482E-8B0E-14E7EC0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2E958-B92B-4FD2-8645-7B37384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089CB-5F91-44D0-898F-3F804CF2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CA01D-2C1D-4562-8A4B-1B3AA18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F614-3419-4811-8A6F-DA6294B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F69F-FDBE-4F12-8156-1B1BD14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5690-8887-4153-9E0C-5977D53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440C0-B828-4A63-A15C-804CF09E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53C-DF4C-434D-A4EC-667DB725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3F4F8-E96A-4AC1-9D47-6B3D0395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485AF-D94A-4739-AA58-B337011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A95C8-0D3F-4B26-B266-819F2CA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F5DF0-E5BB-411C-BBAF-F2425AA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3AAD-545A-4101-83E7-B9D168BF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AB7FB-6F6C-4DEA-ABE3-9941D26A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188F-74F3-41EA-B87A-F5E04A39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7C00E-4F0B-4417-8756-AED32B4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9957F-2A83-46FE-9688-9B82333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C111-CD59-4C00-8066-5EA6260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CC1-C6E5-4281-8AFA-508AE9D2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0926-44CF-40C2-B4A6-71D9F0A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FDD02-D451-4F53-A878-476114B1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DBB9A-33E3-4657-BFFE-5669DF41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7900-78C6-4522-A92D-BC0FEFF9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33AFC-8529-4153-8BF5-F99AB07F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21548-7F76-4625-9B3B-6E6415D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B885C-07B4-4C8F-887D-5391330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DD198-791A-42C8-BD93-CDEB4FCF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4F049-012F-45A3-AD55-ED7E3B1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62888-59B3-49FF-A8E2-B807E54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9A18-525B-4905-9004-773B8CDB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98D7D-7965-4687-826D-C542F60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99DAD-0FDA-496F-BF2C-332BC4D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8370B-92F6-4170-A693-C5D52F8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9B550-8A50-4AD2-AC3A-154FE241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270FA-F4DB-4A37-B238-E3955902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A306-A903-407E-9983-F8785969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BE83B-C65D-4E94-83E2-43200B9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A1BBE-A809-43A2-82F7-B656589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1CA4B-C589-4A65-A1A3-AFE43A5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49123-446A-4CC6-BC40-FC2D644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B1DC-9470-4822-ABC2-87AA2DD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9F94D-0D10-4BC5-95C6-6E05B488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2965A-F17E-408E-947E-FC12569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8EDE6-B7E0-4645-8C5E-70904FD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12775-634B-4DCE-A0B6-7627E9B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1228A-2388-4AC3-8F53-9E25606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5F431-6C01-42AB-877D-2FBD44D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E7B14-F45D-44B8-9A8A-58D00132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EE757-09F5-4C3E-8DEC-53E29797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5B34B-5E3E-4D61-ACFC-4AC8047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E72AA-BB82-46D1-A782-77FAC136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9CE-0DF4-4322-A04F-2950917C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F5FAD-7C8C-4163-B72D-C755D719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1A6B5-E7DB-4631-AB70-AE82D12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25C02-BA4D-46C2-8CD6-07DEDD43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3C504-C12D-4A99-AD8C-BF16DD7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B3908-CE8E-42AC-82A1-77846FD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2C9A9-FD93-4496-B716-7196E8A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3EA3A-AD2F-40D7-97C3-AD152A2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1448D-87E6-4A6B-A826-E79F02F8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090F0-B1C9-4E23-A808-1CEFA4B8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EB0C-DB67-4FE7-A0D6-8B343F1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F2C-50C8-4A03-9878-4C28360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6978-AABD-4347-AA55-40C43DF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D9B-5174-48AE-96DF-58085E6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7ED-CC0E-4666-B0DE-40F4864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2034-30BC-40F5-B8E0-4B27096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4F38-D0EF-4186-A9D1-78D5705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2C78-9F6E-4D72-B0F5-E3C56726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22D4-0D66-432E-8D09-78DA8A7B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0139-0C65-460C-901F-1E6573DA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4770-311B-4D56-948A-659AC1E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6F4D-6F82-404C-871C-2212204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0BE1-3DCB-4F38-901D-83033B9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D2F3-2AF3-4D94-87B4-C441E80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855-09C2-44FD-ABD7-5C8409B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6308-3AFF-493F-9C0F-A098FEC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45B4-613A-4966-A3D9-FB88B4B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BEE2-A856-478A-AD3E-8C52B34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1119-B469-4A9A-B9A2-179700F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3072-62B6-4B22-9F2A-EF77D4B3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6639-9A75-4270-9FD9-C8D6068C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0A5E-30FC-4278-900D-3624DB7C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5569-D4E0-4EFC-9172-974EA8F9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9B0E-2914-4619-81BC-54EEEBB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ABCC-B5C8-4187-9A8B-C40FAE2C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4BB-188A-4EB9-9268-E31529D6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E956-D4C2-4742-8153-7F5FBBA7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C1BC-BBC8-454D-B16C-7B477EBC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239E-4969-4805-A2D4-0675D4A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5C09-5A6E-4F42-9CE4-70BFEAE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0856-EA2C-41E3-89D3-5B41CE1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8967-6E87-4EDF-B792-28CB3F7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1139-9793-4977-AB74-5B9D9F9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0A1D-9E9F-455C-AD1E-BFD58D58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D6E6C-1D47-4596-8834-61867DE3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C6B4-4B93-4C3B-B80A-0B9DBE11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EEF-0880-4AE5-A0AA-440A681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5FCE-6289-4515-B47D-40CFCEC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0FFB-86EB-4A74-B435-415CEB0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A83E0-895F-4E57-96E8-AAFEB099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9BE7-94C5-443D-8C79-000E5FA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B76B-4DA0-43E0-909C-5328907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CBBB-1928-4DBB-982F-B68A699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1D626-80AC-4396-A63F-0F90F69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00B9-20A6-4092-BC82-97334D4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CD81-41E7-458F-927C-BF111F7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D74E-63D7-444F-A598-9D61BBD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A3A-620B-4C0B-8E5B-DE2616F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804C-BDF6-4327-A334-8F6AF4C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EC73-FE39-4B40-AA68-7EB02F09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55E3-669A-42B7-AB2E-7D33CAA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FE3D-3D8A-4594-A15F-E010A52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652B0-DA17-4C37-8BF7-4F8ED9B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64405-5BF8-4261-80F3-B8AF608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1571-8030-4F72-B4A3-79CCE26C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16F3-38D2-4AD1-AAC9-445684A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F769-8BAA-41CF-BE67-1AA20EA1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A67DC-AA76-41F2-94DA-246902A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FA9-3F9F-46DE-A2CA-241175E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28BD0-6020-4C5C-8466-37E9FE36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871D-B09F-4B91-8553-1431C5B0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C398-FD75-4515-A5F0-43E84C21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6906-9FFD-4925-BA26-DE2B6F51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6E20-C166-40D5-8364-921D467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C4876-25FC-47A1-922A-5433579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27B7-1924-49A0-AE13-F5534363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D4B9-0684-4E62-B07A-E1172CBF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12C0-0579-4E3D-BB8F-7528973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1992-558A-48E9-A752-40712DA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D10-1FE9-4043-A979-3D16B2B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D32D-0E7B-4D46-96F9-CCE30B5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1BB9-D631-4B46-94D9-2FC3007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A14D-D834-47E5-9FB5-E833D09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61BA1-23CE-48A9-9044-0B8D4F2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FBB93-A187-499C-841F-FF15BD5D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C6DB-9992-4650-9D29-22896C46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1E10-E9E2-437C-AA30-7842999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79CE-9B25-4C7C-8E28-B1333FE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79D8-6B02-4ACF-A5AF-FF3BF58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5D3CA-8389-489D-9297-CEEFCA3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31A-6363-41D9-A67F-AD09888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4F05-06EF-45F2-A9EF-C7B44A50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6B86-5F97-4E33-A0F7-CB1F785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E715-CFC2-4CDC-86D0-1D8785E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1273-3503-489E-B6B0-C153EC6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4BB56-8215-4322-9E8F-0FCDA49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4296-BC91-4088-9241-CD5737DE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91CD-931A-4C77-BFED-82078C9D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3D952-3A5F-4EE5-95B0-BEE9F7FF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DD72-FF47-4BF8-AAB6-DBDF2BB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62D75-5059-4014-A607-5AA5541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A8C0-86F1-42CC-B66A-7597039F1C0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42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2506-6171-4654-B722-BB4E4760A07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47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BC5F-E86A-42B0-A72C-EA140069A44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520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B9D9-3877-4939-B667-EF7EAA532F0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569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EA70-AEA5-45E7-A0F6-45312B4E1F5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616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3C67-CF9B-42A1-8582-5E043FCCBAF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5CD-77F7-4A69-A711-E15CABF109E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37A-BF92-43DA-B318-B6E7E3A7111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2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DA0-E28C-4BC3-87E7-8063C3D6066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89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4BD-1441-4963-B0C2-C1878B7D98A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36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3776-4062-486D-A628-D613667F79A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83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1570-2088-402C-9656-24A3571B927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330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38AF-8FB6-4F4F-802B-54FDE0C1950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377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C1D5-ACC8-4DF9-9BCF-0491CA474C1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ravoslavielove.ucoz.ru/publ" TargetMode="External"/><Relationship Id="rId2" Type="http://schemas.openxmlformats.org/officeDocument/2006/relationships/hyperlink" Target="http://hiztory.ru/rus-imperia/vystuplenie-dekabristov.html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ТЕМА УРОКА: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 ВОССТАНИЕ ДЕКАБРИСТОВ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928440" y="4285800"/>
            <a:ext cx="77007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ДИНАСТИЧЕСКИЙ КРИЗИС 1825 Г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 ноября 1825 г. – неожиданно умирает Александр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12" name="Picture 3" descr="C:\Documents and Settings\777\Мои документы\Мои рисунки\280px-Alexander_I_of_Russia.png"/>
          <p:cNvPicPr/>
          <p:nvPr/>
        </p:nvPicPr>
        <p:blipFill>
          <a:blip r:embed="rId1"/>
          <a:stretch/>
        </p:blipFill>
        <p:spPr>
          <a:xfrm>
            <a:off x="6748560" y="1220760"/>
            <a:ext cx="1279440" cy="1751040"/>
          </a:xfrm>
          <a:prstGeom prst="rect">
            <a:avLst/>
          </a:prstGeom>
          <a:ln w="0">
            <a:noFill/>
          </a:ln>
        </p:spPr>
      </p:pic>
      <p:sp>
        <p:nvSpPr>
          <p:cNvPr id="713" name="Прямоугольник 4"/>
          <p:cNvSpPr/>
          <p:nvPr/>
        </p:nvSpPr>
        <p:spPr>
          <a:xfrm>
            <a:off x="6723000" y="3078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(1801 – 1825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Скругленный прямоугольник 5"/>
          <p:cNvSpPr/>
          <p:nvPr/>
        </p:nvSpPr>
        <p:spPr>
          <a:xfrm>
            <a:off x="3132000" y="1052640"/>
            <a:ext cx="2941920" cy="191124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1797 г. –  указ Павла </a:t>
            </a:r>
            <a:r>
              <a:rPr b="1" lang="el-GR" sz="2400" spc="-1" strike="noStrike">
                <a:solidFill>
                  <a:srgbClr val="0f496f"/>
                </a:solidFill>
                <a:latin typeface="Century Gothic"/>
              </a:rPr>
              <a:t>Ι</a:t>
            </a: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 о престолонаслед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Picture 2" descr="C:\Documents and Settings\777\Мои документы\Мои рисунки\280px-Borovikovskiy_PtPavla1GRM.jpg"/>
          <p:cNvPicPr/>
          <p:nvPr/>
        </p:nvPicPr>
        <p:blipFill>
          <a:blip r:embed="rId2"/>
          <a:stretch/>
        </p:blipFill>
        <p:spPr>
          <a:xfrm>
            <a:off x="577800" y="130032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7"/>
          <p:cNvSpPr/>
          <p:nvPr/>
        </p:nvSpPr>
        <p:spPr>
          <a:xfrm>
            <a:off x="214200" y="30290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авел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1796 -  18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Picture 5" descr="C:\Documents and Settings\777\Мои документы\Мои рисунки\200px-Grand_Duke_Constantine_Pavlovich_of_Russia.png"/>
          <p:cNvPicPr/>
          <p:nvPr/>
        </p:nvPicPr>
        <p:blipFill>
          <a:blip r:embed="rId3"/>
          <a:stretch/>
        </p:blipFill>
        <p:spPr>
          <a:xfrm>
            <a:off x="703440" y="4064040"/>
            <a:ext cx="1500120" cy="1857240"/>
          </a:xfrm>
          <a:prstGeom prst="rect">
            <a:avLst/>
          </a:prstGeom>
          <a:ln w="0">
            <a:noFill/>
          </a:ln>
        </p:spPr>
      </p:pic>
      <p:sp>
        <p:nvSpPr>
          <p:cNvPr id="718" name="Прямоугольник 9"/>
          <p:cNvSpPr/>
          <p:nvPr/>
        </p:nvSpPr>
        <p:spPr>
          <a:xfrm>
            <a:off x="345960" y="60325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нстантин – 182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каз от прест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9" name="Picture 4" descr="C:\Documents and Settings\777\Мои документы\Мои рисунки\280px-Tsar_Nicholas_I_-3.jpg"/>
          <p:cNvPicPr/>
          <p:nvPr/>
        </p:nvPicPr>
        <p:blipFill>
          <a:blip r:embed="rId4"/>
          <a:stretch/>
        </p:blipFill>
        <p:spPr>
          <a:xfrm>
            <a:off x="6788160" y="3929040"/>
            <a:ext cx="1774800" cy="193536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11"/>
          <p:cNvSpPr/>
          <p:nvPr/>
        </p:nvSpPr>
        <p:spPr>
          <a:xfrm>
            <a:off x="6875640" y="6068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колай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1825 -  185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Скругленный прямоугольник 12"/>
          <p:cNvSpPr/>
          <p:nvPr/>
        </p:nvSpPr>
        <p:spPr>
          <a:xfrm>
            <a:off x="3357720" y="4268880"/>
            <a:ext cx="2716200" cy="176364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Кто станет императором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ПОДГОТОВКА К ВОССТАНИЮ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250920" y="980640"/>
            <a:ext cx="50004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a304a"/>
                </a:solidFill>
                <a:latin typeface="Arial"/>
                <a:ea typeface="Arial"/>
              </a:rPr>
              <a:t>13 декабря на квартире К.Ф. Рылеева в Петербурге состоялось последнее заседание членов Северного общества. Они решили вывести войска на Сенатскую площадь в Петербурге и принудить Сенат, Синод и Госсовет не присягать Николаю </a:t>
            </a:r>
            <a:r>
              <a:rPr b="0" lang="en-US" sz="2400" spc="-1" strike="noStrike">
                <a:solidFill>
                  <a:srgbClr val="0a304a"/>
                </a:solidFill>
                <a:latin typeface="Arial"/>
                <a:ea typeface="Arial"/>
              </a:rPr>
              <a:t>I</a:t>
            </a:r>
            <a:r>
              <a:rPr b="0" lang="ru-RU" sz="2400" spc="-1" strike="noStrike">
                <a:solidFill>
                  <a:srgbClr val="0a304a"/>
                </a:solidFill>
                <a:latin typeface="Arial"/>
                <a:ea typeface="Arial"/>
              </a:rPr>
              <a:t>, а принять «Манифест к русскому народу»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a304a"/>
                </a:solidFill>
                <a:latin typeface="Arial"/>
                <a:ea typeface="Arial"/>
              </a:rPr>
              <a:t>Диктатором восстания стал С. Трубецкой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24" name="Picture 28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832200" cy="483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2101320"/>
            <a:ext cx="89298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СВЕРЖЕНИЕ САМОДЕРЖАВИЯ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 ЛИКВИДАЦИЯ КРЕПОСТНОГО ПРАВА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ПОСЛЕ ПОБЕДЫ ВОССТАНИЯ – СОЗДАНИЕ ВРЕМЕННОГО ПРАВИТЕЛЬСТВА ИЗ 2 – 3 ЛИЦ. (М. СПЕРАНСКИЙ,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Н. МОРДВИНОВ, Г. БАТЕНЬКОВ)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ВРЕМЕННОЕ ПРАВИТЕЛЬСТВО ДОЛЖНО: ПОДГОТОВИТЬ К ВЕСНЕ 1826 Г. СОЗЫВ УЧРЕДИТЕЛЬНОГО СОБРАНИЯ («ВЕЛИКОГО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СОБОРА</a:t>
            </a: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»)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СОБОР ДОЛЖЕН РЕШИТЬ СУДЬБУ МОНАРХИИ: РЕСПУБЛИКА ИЛИ КОНСТИТУЦИОННАЯ МОНАРХИЯ;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- ОСВОБОЖДЕНИЕ КРЕСТЬЯН – С ЗЕМЛЁЙ ИЛИ БЕЗ ЗЕМЛИ.</a:t>
            </a:r>
            <a:br>
              <a:rPr sz="29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533160" y="-36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7c0b62"/>
                </a:solidFill>
                <a:latin typeface="Century Gothic"/>
              </a:rPr>
              <a:t>«Манифест к русскому народу» – новый программный документ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7c0b62"/>
                </a:solidFill>
                <a:latin typeface="Century Gothic"/>
              </a:rPr>
              <a:t> </a:t>
            </a:r>
            <a:r>
              <a:rPr b="1" lang="ru-RU" sz="3100" spc="-1" strike="noStrike">
                <a:solidFill>
                  <a:srgbClr val="7c0b62"/>
                </a:solidFill>
                <a:latin typeface="Century Gothic"/>
              </a:rPr>
              <a:t>(автор С. Трубецкой)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ВОССТАНИЕ ДЕКАБРИС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     </a:t>
            </a: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14 декабря 1825 г. </a:t>
            </a:r>
            <a:r>
              <a:rPr b="0" lang="ru-RU" sz="2400" spc="-1" strike="noStrike">
                <a:solidFill>
                  <a:srgbClr val="ffc000"/>
                </a:solidFill>
                <a:latin typeface="Century Gothic"/>
              </a:rPr>
              <a:t>на Сенатскую площадь в Санкт-Петербурге были выведены Московский полк, шесть рот Лейб-гренадерского полка, морской Гвардейский экипаж, которые построились в боевые порядки (карэ) – всего около 3000 солдат и офицеров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29" name="Рисунок 3" descr="http://history.sgu.ru/img/thumbs/x1-t_zzz042.jpg"/>
          <p:cNvPicPr/>
          <p:nvPr/>
        </p:nvPicPr>
        <p:blipFill>
          <a:blip r:embed="rId1"/>
          <a:stretch/>
        </p:blipFill>
        <p:spPr>
          <a:xfrm>
            <a:off x="900000" y="960480"/>
            <a:ext cx="700092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Содержимое 15" descr="Расположение войск на Сенатской площади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69440" cy="71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8f1fb"/>
                </a:solidFill>
                <a:latin typeface="Arial"/>
                <a:ea typeface="Arial"/>
              </a:rPr>
              <a:t>В 11 ЧАСОВ НА ПЛОЩАДЬ ПОДОШЕЛ ГВАРДЕЙСКИЙ МОРСКОЙ ЭКИПАЖ ПОД КОМАНДОВАНИЕМ С.БУЛАТОВА. ПЛОЩАДЬ БЫЛА ОЦЕПЛЕНА ПРАВИТЕЛЬСТВЕННЫМИ ВОЙСКАМИ. ДЕКАБРИСТЫ НЕ ЗНАЛИ ЧТО ДЕЛАТЬ, Т.К. ПЕРЕПРИСЯГА УЖЕ СОСТОЯЛАСЬ РАНО УТРОМ.</a:t>
            </a:r>
            <a:br>
              <a:rPr sz="2900"/>
            </a:br>
            <a:r>
              <a:rPr b="0" lang="ru-RU" sz="2400" spc="-1" strike="noStrike">
                <a:solidFill>
                  <a:srgbClr val="c8f1fb"/>
                </a:solidFill>
                <a:latin typeface="Arial"/>
                <a:ea typeface="Arial"/>
              </a:rPr>
              <a:t> В СЕРЕДИНЕ ДНЯ НИКОЛАЙ РЕШИЛ ВСТУПИТЬ С НИМИ В ПЕРЕГОВОРЫ, НО МИТРОПОЛИТ БЫЛ ОТОГНАНАН ВЫСТРЕЛАМИ, А ГЕНЕРАЛ-ГУБЕРНАТОРА ПЕТЕРБУРГА, ГЕРОЯ ВОЙНЫ 1812 Г. ГЕН.МИЛОРАДОВИЧА П.КАХОВСКИЙ ЗАСТРЕЛИЛ ИЗ ПИСТОЛЕТА ВЫСТРЕЛОМ В СПИНУ.  ПОСЛЕ ЭТОГО НИКОЛАЙ ПРИКАЗАЛ ОТКРЫТЬ ОГОНЬ КАРТЕЧЬЮ ПО МОСКОВСКОМУ ПОЛКУ.</a:t>
            </a:r>
            <a:br>
              <a:rPr sz="2400"/>
            </a:br>
            <a:r>
              <a:rPr b="0" lang="ru-RU" sz="2400" spc="-1" strike="noStrike">
                <a:solidFill>
                  <a:srgbClr val="c8f1fb"/>
                </a:solidFill>
                <a:latin typeface="Arial"/>
                <a:ea typeface="Arial"/>
              </a:rPr>
              <a:t>ЧИСЛО ЖЕРТВ С ОБЕИХ СТОРОН СОСТАВИЛО ОТ 200 ДО 300 ЧЕЛОВЕК.</a:t>
            </a:r>
            <a:br>
              <a:rPr sz="29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5688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ВОССТАНИЕ ДЕКАБРИС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856800"/>
            <a:ext cx="54291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34" name="Picture 7" descr="http://mtdata.ru/u19/photoA594/20566626794-0/original.jpg#20566626794"/>
          <p:cNvPicPr/>
          <p:nvPr/>
        </p:nvPicPr>
        <p:blipFill>
          <a:blip r:embed="rId1"/>
          <a:stretch/>
        </p:blipFill>
        <p:spPr>
          <a:xfrm>
            <a:off x="5076720" y="692280"/>
            <a:ext cx="3738600" cy="5843520"/>
          </a:xfrm>
          <a:prstGeom prst="rect">
            <a:avLst/>
          </a:prstGeom>
          <a:ln w="0">
            <a:noFill/>
          </a:ln>
        </p:spPr>
      </p:pic>
      <p:sp>
        <p:nvSpPr>
          <p:cNvPr id="735" name="Прямоугольник 1"/>
          <p:cNvSpPr/>
          <p:nvPr/>
        </p:nvSpPr>
        <p:spPr>
          <a:xfrm>
            <a:off x="263520" y="2035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e82"/>
                </a:solidFill>
                <a:latin typeface="Tahoma"/>
              </a:rPr>
              <a:t>Выстрел </a:t>
            </a:r>
            <a:r>
              <a:rPr b="1" i="1" lang="ru-RU" sz="2400" spc="-1" strike="noStrike">
                <a:solidFill>
                  <a:srgbClr val="a50e82"/>
                </a:solidFill>
                <a:latin typeface="Tahoma"/>
              </a:rPr>
              <a:t>Каховского</a:t>
            </a:r>
            <a:r>
              <a:rPr b="0" i="1" lang="ru-RU" sz="2400" spc="-1" strike="noStrike">
                <a:solidFill>
                  <a:srgbClr val="a50e82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e82"/>
                </a:solidFill>
                <a:latin typeface="Tahoma"/>
              </a:rPr>
              <a:t>в </a:t>
            </a:r>
            <a:r>
              <a:rPr b="1" i="1" lang="ru-RU" sz="2400" spc="-1" strike="noStrike">
                <a:solidFill>
                  <a:srgbClr val="a50e82"/>
                </a:solidFill>
                <a:latin typeface="Tahoma"/>
              </a:rPr>
              <a:t>Милорадовича</a:t>
            </a:r>
            <a:r>
              <a:rPr b="0" i="1" lang="ru-RU" sz="2400" spc="-1" strike="noStrike">
                <a:solidFill>
                  <a:srgbClr val="a50e82"/>
                </a:solidFill>
                <a:latin typeface="Tahoma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e82"/>
                </a:solidFill>
                <a:latin typeface="Tahoma"/>
              </a:rPr>
              <a:t>Литография с рисунка А.И. Шарлеманя. 1861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ПРИЧИНЫ ПОРАЖЕНИ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8064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Члены высших государственных органов ранее присягнули Николаю и принимать «Манифест к русскому народу» были уже не вправе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ойска оказались без руководства, т.к. не явился на площадь руководитель восстания С.П. Трубецкой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Николай </a:t>
            </a: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I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редпринял попытку с помощью духовенства (митрополит Серафим) и популярного в войсках военачальника (генерал М.А. Милорадович) мирным путем ликвидировать выступление, но неудачно. Петербургский генерал-губернатор Милорадович был убит декабристом П. Каховским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 итоге Николай </a:t>
            </a: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I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отдал приказ верным войскам расстрелять восставших из пушек. Восстание декабристов было подавлено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ВЫСТУПЛЕНИЕ ЮЖНОГО ОБЩЕСТ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0" y="90756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f496f"/>
                </a:solidFill>
                <a:latin typeface="Century Gothic"/>
              </a:rPr>
              <a:t>13 декабря 1825 г. был арестован руководитель Южного общества П.И. Пестель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f496f"/>
                </a:solidFill>
                <a:latin typeface="Century Gothic"/>
              </a:rPr>
              <a:t>24 декабря 1825 г. руководители Васильевской управы Южного общества С. Муравьев-Апостол и М. Бестужев-Рюмин узнали о разгроме восстания в Петербурге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f496f"/>
                </a:solidFill>
                <a:latin typeface="Century Gothic"/>
              </a:rPr>
              <a:t>25 декабря 1825 г. они были арестованы и заключены под стражу, но вскоре освобождены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f496f"/>
                </a:solidFill>
                <a:latin typeface="Century Gothic"/>
              </a:rPr>
              <a:t>29 декабря 1825 г. С.Муравьев-Апостол поднимает восстание Черниговского полка. Его цель – соединение с другими частями, где было сильное влияние декабристов, и поход на Петербург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f496f"/>
                </a:solidFill>
                <a:latin typeface="Century Gothic"/>
              </a:rPr>
              <a:t>3 января 1826 г. мятежный отряд был разгромлен правительственными войсками. С. Муравьев-Апостол и М. Бестужев-Рюмин захвачены на поле боя.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40" name="Picture 7" descr="Рисунок10"/>
          <p:cNvPicPr/>
          <p:nvPr/>
        </p:nvPicPr>
        <p:blipFill>
          <a:blip r:embed="rId1"/>
          <a:stretch/>
        </p:blipFill>
        <p:spPr>
          <a:xfrm>
            <a:off x="5985000" y="1035000"/>
            <a:ext cx="2608200" cy="3922920"/>
          </a:xfrm>
          <a:prstGeom prst="rect">
            <a:avLst/>
          </a:prstGeom>
          <a:ln w="76320">
            <a:solidFill>
              <a:srgbClr val="0d2e46"/>
            </a:solidFill>
            <a:miter/>
          </a:ln>
        </p:spPr>
      </p:pic>
      <p:sp>
        <p:nvSpPr>
          <p:cNvPr id="741" name="Text Box 4"/>
          <p:cNvSpPr/>
          <p:nvPr/>
        </p:nvSpPr>
        <p:spPr>
          <a:xfrm>
            <a:off x="6000840" y="5143680"/>
            <a:ext cx="3000240" cy="703800"/>
          </a:xfrm>
          <a:prstGeom prst="rect">
            <a:avLst/>
          </a:prstGeom>
          <a:solidFill>
            <a:srgbClr val="fac2ed"/>
          </a:solidFill>
          <a:ln w="76320">
            <a:solidFill>
              <a:srgbClr val="0d2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ст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ниговского пол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РАСПРАВА НАД ДЕКАБРИСТАМ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43" name="Picture 3" descr=""/>
          <p:cNvPicPr/>
          <p:nvPr/>
        </p:nvPicPr>
        <p:blipFill>
          <a:blip r:embed="rId1"/>
          <a:stretch/>
        </p:blipFill>
        <p:spPr>
          <a:xfrm>
            <a:off x="1857240" y="765000"/>
            <a:ext cx="5857920" cy="3457800"/>
          </a:xfrm>
          <a:prstGeom prst="rect">
            <a:avLst/>
          </a:prstGeom>
          <a:ln w="0">
            <a:noFill/>
          </a:ln>
        </p:spPr>
      </p:pic>
      <p:sp>
        <p:nvSpPr>
          <p:cNvPr id="744" name="Прямоугольник 4"/>
          <p:cNvSpPr/>
          <p:nvPr/>
        </p:nvSpPr>
        <p:spPr>
          <a:xfrm>
            <a:off x="1857240" y="435780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 чел. казнены 13 июля 1826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.И. Пес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.И. Муравьев-Апост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.П. Бестужев-Рюми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Ф. Рылее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.Г. Ках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Gothic"/>
              </a:rPr>
              <a:t>ЦЕЛЬ УРОКА: </a:t>
            </a:r>
            <a:r>
              <a:rPr b="0" lang="ru-RU" sz="2300" spc="-1" strike="noStrike">
                <a:solidFill>
                  <a:srgbClr val="ffffff"/>
                </a:solidFill>
                <a:latin typeface="Century Gothic"/>
              </a:rPr>
              <a:t>ФОРМИРОВАНИЕ ЗНАНИЙ УЧАЩИХСЯ О ТАЙНЫХ ОБЩЕСТВАХ ЦАРСТВОВАНИЯ АЛЕКСАНДРА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ru-RU" sz="2300" spc="-1" strike="noStrike">
                <a:solidFill>
                  <a:srgbClr val="ffffff"/>
                </a:solidFill>
                <a:latin typeface="Century Gothic"/>
              </a:rPr>
              <a:t> И ВОССТАНИИ ДЕКАБРИСТОВ.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Century Gothic"/>
              </a:rPr>
              <a:t>Задачи:</a:t>
            </a: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c3e2f7"/>
                </a:solidFill>
                <a:latin typeface="Century Gothic"/>
              </a:rPr>
              <a:t>1. Обеспечить усвоение понятий и фактов, связанных с восстанием декабристов;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c3e2f7"/>
                </a:solidFill>
                <a:latin typeface="Century Gothic"/>
              </a:rPr>
              <a:t>2. выяснить причины возникновения движения декабристов, цели участников тайных организаций; причины поражения и значение восстания на Сенатской площади;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c3e2f7"/>
                </a:solidFill>
                <a:latin typeface="Century Gothic"/>
              </a:rPr>
              <a:t>3.формировать самостоятельное мышление учащихся; умение выделять главное, работать с историческими документами, анализировать, доказывать, рассуждать. 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РАСПРАВА НАД ДЕКАБРИСТАМ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0" y="1213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579 чел. привлечены к следствию по делу декабристов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318 чел. арестованы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289 чел. признаны виновными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121 чел. предан Верховному суду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Остальные приговорены к каторжным работам и поселению в Сибири, а также отправлены на Кавказскую войну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747" name="Picture 2" descr="C:\Documents and Settings\777\Мои документы\Мои рисунки\220px-DecembristsExecutionMonument.jpg"/>
          <p:cNvPicPr/>
          <p:nvPr/>
        </p:nvPicPr>
        <p:blipFill>
          <a:blip r:embed="rId1"/>
          <a:stretch/>
        </p:blipFill>
        <p:spPr>
          <a:xfrm>
            <a:off x="4211640" y="1027080"/>
            <a:ext cx="1930320" cy="257184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оугольник 4"/>
          <p:cNvSpPr/>
          <p:nvPr/>
        </p:nvSpPr>
        <p:spPr>
          <a:xfrm>
            <a:off x="4727160" y="614376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нумент на месте казни декабр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Picture 3" descr="C:\Documents and Settings\777\Мои документы\Мои рисунки\220px-DecembristsExecutionPlaque.jpg"/>
          <p:cNvPicPr/>
          <p:nvPr/>
        </p:nvPicPr>
        <p:blipFill>
          <a:blip r:embed="rId2"/>
          <a:stretch/>
        </p:blipFill>
        <p:spPr>
          <a:xfrm>
            <a:off x="6680160" y="2924280"/>
            <a:ext cx="192564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ИСТОРИЧЕСКОЕ ЗНАЧЕНИЕ ДВИЖЕНИЯ ДЕКАБРИС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0" y="126828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ервая открытая попытка дворянских революционеров изменить систему правления в России и отменить крепостное право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ступление декабристов показало обществу наличие глубоких социальных противоречий и необходимость реформ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Декабристы показали пример бескорыстного служения Отечества и готовность нести лишения ради блага страны и ее народ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94920" y="115560"/>
            <a:ext cx="777708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Декабристы положили начало 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освободительному движению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в России.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Их идеология, тактика, опыт 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борьбы оказали влияли на дальнейшее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развитие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общественно-политической 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206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Gothic"/>
              </a:rPr>
              <a:t>мысли в России.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ТЕС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7892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f496f"/>
                </a:solidFill>
                <a:latin typeface="Century Gothic"/>
              </a:rPr>
              <a:t>1. </a:t>
            </a: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К декабристским организациям не относится: 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а) Союз благоденствия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б) Земля и воля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в) Южное общество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2. Программным документом Северного общества стала: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а) «Русская правда»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б) Конституция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в) «Зеленая книга»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3. За установление республиканского государственного строя выступал: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а) П. И. Пестель     б) С.С. Уваров     в) А.С. Хомяков     г) Н.М. Карамзин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4</a:t>
            </a: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. </a:t>
            </a: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Какие из названных имён связаны с событиями на Сенатской площади 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14 декабря 1825 г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а) Александр </a:t>
            </a: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II</a:t>
            </a: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, Софья Перовская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б) М. Милорадович, П. Каховский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в) Павел </a:t>
            </a: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I</a:t>
            </a: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, Н. Панин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Г) Николай</a:t>
            </a: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 II</a:t>
            </a: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, С. Витте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f496f"/>
                </a:solidFill>
                <a:latin typeface="Century Gothic"/>
              </a:rPr>
              <a:t>5. Установите соответствие между документом и его автором: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«Философические письма»                                         а) Пестель П.П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«Русская правда»                                                         б) Карамзин Н.М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Конституция                                                                в) Чаадаев П.Я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Century Gothic"/>
              </a:rPr>
              <a:t>«Записки о древней и новой России»                        г) Муравьев Н.М. 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6" name="Прямоугольник 1"/>
          <p:cNvSpPr/>
          <p:nvPr/>
        </p:nvSpPr>
        <p:spPr>
          <a:xfrm>
            <a:off x="539640" y="2133720"/>
            <a:ext cx="52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овите даты событий, происходивших в Западной Европе и Америке, которые могли повлиять на возникновение и деятельность тайных обществ в России (1816-1825 гг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СПИСОК ИСПОЛЬЗОВАННЫХ ИСТОЧНИК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Прямоугольник 1"/>
          <p:cNvSpPr/>
          <p:nvPr/>
        </p:nvSpPr>
        <p:spPr>
          <a:xfrm>
            <a:off x="1042920" y="1341360"/>
            <a:ext cx="457200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нилов А.А., Косулина Л.Г. «История России 19 в.» учебник для общеобразовательных учреждений,  8 класс – М.: «Просвещение», 201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d2e46"/>
                </a:solidFill>
                <a:uFillTx/>
                <a:latin typeface="Times New Roman"/>
                <a:hlinkClick r:id="rId1"/>
              </a:rPr>
              <a:t>http://pravoslavielove.ucoz.ru/pub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d2e46"/>
                </a:solidFill>
                <a:uFillTx/>
                <a:latin typeface="Times New Roman"/>
                <a:hlinkClick r:id="rId2"/>
              </a:rPr>
              <a:t>http://hiztory.ru/rus-imperia/vystuplenie-dekabristov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ПЛАН УРОК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Причины, условия и исходные идеи декабризма 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Тайные организации будущих декабристов 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Программные документы обществ». Конституция» 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       </a:t>
            </a: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Н. Муравьева и «Русская Правда» П. Пестеля.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Династический кризис 1825 г.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Восстание декабристы на Сенатской площади. Восстание Черниговского полка.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Причины поражения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Расправа над декабристами.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609480" indent="-609480"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0f496f"/>
                </a:solidFill>
                <a:latin typeface="Century Gothic"/>
              </a:rPr>
              <a:t>Историческое значение восстания декабристов.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ПРИЧИНЫ, И ИДЕИ ДЕКАБРИС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416960" y="1428840"/>
            <a:ext cx="2293920" cy="2313000"/>
          </a:xfrm>
          <a:prstGeom prst="rect">
            <a:avLst/>
          </a:prstGeom>
          <a:solidFill>
            <a:srgbClr val="a50e82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 fontScale="96000"/>
          </a:bodyPr>
          <a:p>
            <a:pPr marL="274320" indent="-27432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лна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74320" indent="-27432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еволюционных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74320" indent="-27432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ступлений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74320" indent="-27432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Европе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5357880" y="1392120"/>
            <a:ext cx="3786120" cy="2714760"/>
          </a:xfrm>
          <a:custGeom>
            <a:avLst/>
            <a:gdLst>
              <a:gd name="textAreaLeft" fmla="*/ 946440 w 3786120"/>
              <a:gd name="textAreaRight" fmla="*/ 2839680 w 3786120"/>
              <a:gd name="textAreaTop" fmla="*/ 0 h 2714760"/>
              <a:gd name="textAreaBottom" fmla="*/ 2375640 h 2714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50e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е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вещ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ение Лок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нтескье, Дидр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71481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AutoShape 6"/>
          <p:cNvSpPr/>
          <p:nvPr/>
        </p:nvSpPr>
        <p:spPr>
          <a:xfrm>
            <a:off x="270000" y="4186080"/>
            <a:ext cx="3929040" cy="2500560"/>
          </a:xfrm>
          <a:custGeom>
            <a:avLst/>
            <a:gdLst>
              <a:gd name="textAreaLeft" fmla="*/ 982080 w 3929040"/>
              <a:gd name="textAreaRight" fmla="*/ 2946960 w 3929040"/>
              <a:gd name="textAreaTop" fmla="*/ 0 h 2500560"/>
              <a:gd name="textAreaBottom" fmla="*/ 2188080 h 2500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50e82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деи русски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осветител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нца XVIII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ачала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в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Н.Новик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Радище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AutoShape 8"/>
          <p:cNvSpPr/>
          <p:nvPr/>
        </p:nvSpPr>
        <p:spPr>
          <a:xfrm>
            <a:off x="4540320" y="4292640"/>
            <a:ext cx="4857840" cy="2428920"/>
          </a:xfrm>
          <a:custGeom>
            <a:avLst/>
            <a:gdLst>
              <a:gd name="textAreaLeft" fmla="*/ 1214280 w 4857840"/>
              <a:gd name="textAreaRight" fmla="*/ 3643560 w 4857840"/>
              <a:gd name="textAreaTop" fmla="*/ 0 h 2428920"/>
              <a:gd name="textAreaBottom" fmla="*/ 2125440 h 2428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50e82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ечествен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ойна 1812г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накомство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падной Европ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хо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рубежных пох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сской арм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813-1814 г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ТАЙНЫЕ ОРГАНИЗАЦИИ БУДУЩИХ ДЕКАБРИС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2750760" y="1166760"/>
            <a:ext cx="3714840" cy="1643040"/>
          </a:xfrm>
          <a:prstGeom prst="rect">
            <a:avLst/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Союз спасения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1816-1817,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г. Санкт-Петербург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75" name="AutoShape 6"/>
          <p:cNvSpPr/>
          <p:nvPr/>
        </p:nvSpPr>
        <p:spPr>
          <a:xfrm>
            <a:off x="214200" y="3141720"/>
            <a:ext cx="8715600" cy="163332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: 30 че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Н. Муравьев, С.И. Муравьев-Апостол, И. Д. Якушки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И. Муравьев-Апостол, С.П. Трубец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Прямоугольник 9"/>
          <p:cNvSpPr/>
          <p:nvPr/>
        </p:nvSpPr>
        <p:spPr>
          <a:xfrm>
            <a:off x="214200" y="4941720"/>
            <a:ext cx="8715600" cy="1687680"/>
          </a:xfrm>
          <a:prstGeom prst="rect">
            <a:avLst/>
          </a:prstGeom>
          <a:solidFill>
            <a:srgbClr val="fac2e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квидация крепостничества и самодержавия, введение конституции и представительного 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1816 ГОД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СОЮЗ СПАСЕНИ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78" name="Picture 8" descr=""/>
          <p:cNvPicPr/>
          <p:nvPr/>
        </p:nvPicPr>
        <p:blipFill>
          <a:blip r:embed="rId1"/>
          <a:stretch/>
        </p:blipFill>
        <p:spPr>
          <a:xfrm>
            <a:off x="500040" y="1484280"/>
            <a:ext cx="1590840" cy="17589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3" descr=""/>
          <p:cNvPicPr/>
          <p:nvPr/>
        </p:nvPicPr>
        <p:blipFill>
          <a:blip r:embed="rId2"/>
          <a:stretch/>
        </p:blipFill>
        <p:spPr>
          <a:xfrm>
            <a:off x="2495520" y="1484280"/>
            <a:ext cx="1633680" cy="17589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5" descr=""/>
          <p:cNvPicPr/>
          <p:nvPr/>
        </p:nvPicPr>
        <p:blipFill>
          <a:blip r:embed="rId3"/>
          <a:stretch/>
        </p:blipFill>
        <p:spPr>
          <a:xfrm>
            <a:off x="4578480" y="1484280"/>
            <a:ext cx="1508040" cy="17589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3" descr=""/>
          <p:cNvPicPr/>
          <p:nvPr/>
        </p:nvPicPr>
        <p:blipFill>
          <a:blip r:embed="rId4"/>
          <a:stretch/>
        </p:blipFill>
        <p:spPr>
          <a:xfrm>
            <a:off x="6796080" y="1484280"/>
            <a:ext cx="1486080" cy="1768680"/>
          </a:xfrm>
          <a:prstGeom prst="rect">
            <a:avLst/>
          </a:prstGeom>
          <a:ln w="0">
            <a:noFill/>
          </a:ln>
        </p:spPr>
      </p:pic>
      <p:sp>
        <p:nvSpPr>
          <p:cNvPr id="682" name="Прямоугольник 8"/>
          <p:cNvSpPr/>
          <p:nvPr/>
        </p:nvSpPr>
        <p:spPr>
          <a:xfrm>
            <a:off x="285840" y="32860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</a:rPr>
              <a:t>М. </a:t>
            </a: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Бестужев-Рюмин</a:t>
            </a:r>
            <a:r>
              <a:rPr b="1" lang="ru-RU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Прямоугольник 9"/>
          <p:cNvSpPr/>
          <p:nvPr/>
        </p:nvSpPr>
        <p:spPr>
          <a:xfrm>
            <a:off x="2643120" y="3286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. Муравьев-Апостол</a:t>
            </a:r>
            <a:r>
              <a:rPr b="0" lang="ru-RU" sz="11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Прямоугольник 10"/>
          <p:cNvSpPr/>
          <p:nvPr/>
        </p:nvSpPr>
        <p:spPr>
          <a:xfrm>
            <a:off x="4643280" y="32860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. Муравьев-Апостол</a:t>
            </a:r>
            <a:r>
              <a:rPr b="1" lang="ru-RU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5" name="Picture 28" descr=""/>
          <p:cNvPicPr/>
          <p:nvPr/>
        </p:nvPicPr>
        <p:blipFill>
          <a:blip r:embed="rId5"/>
          <a:stretch/>
        </p:blipFill>
        <p:spPr>
          <a:xfrm>
            <a:off x="571680" y="4071960"/>
            <a:ext cx="1352520" cy="1704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9" descr=""/>
          <p:cNvPicPr/>
          <p:nvPr/>
        </p:nvPicPr>
        <p:blipFill>
          <a:blip r:embed="rId6"/>
          <a:stretch/>
        </p:blipFill>
        <p:spPr>
          <a:xfrm>
            <a:off x="2786040" y="407196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1" descr=""/>
          <p:cNvPicPr/>
          <p:nvPr/>
        </p:nvPicPr>
        <p:blipFill>
          <a:blip r:embed="rId7"/>
          <a:stretch/>
        </p:blipFill>
        <p:spPr>
          <a:xfrm>
            <a:off x="4929120" y="4000680"/>
            <a:ext cx="1438200" cy="17524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5" descr=""/>
          <p:cNvPicPr/>
          <p:nvPr/>
        </p:nvPicPr>
        <p:blipFill>
          <a:blip r:embed="rId8"/>
          <a:stretch/>
        </p:blipFill>
        <p:spPr>
          <a:xfrm>
            <a:off x="6929280" y="4000680"/>
            <a:ext cx="1486080" cy="1714320"/>
          </a:xfrm>
          <a:prstGeom prst="rect">
            <a:avLst/>
          </a:prstGeom>
          <a:ln w="0">
            <a:noFill/>
          </a:ln>
        </p:spPr>
      </p:pic>
      <p:sp>
        <p:nvSpPr>
          <p:cNvPr id="689" name="Прямоугольник 16"/>
          <p:cNvSpPr/>
          <p:nvPr/>
        </p:nvSpPr>
        <p:spPr>
          <a:xfrm>
            <a:off x="498960" y="59292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. Трубецкой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Прямоугольник 17"/>
          <p:cNvSpPr/>
          <p:nvPr/>
        </p:nvSpPr>
        <p:spPr>
          <a:xfrm>
            <a:off x="2792880" y="592920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. Пестель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Прямоугольник 18"/>
          <p:cNvSpPr/>
          <p:nvPr/>
        </p:nvSpPr>
        <p:spPr>
          <a:xfrm>
            <a:off x="4858920" y="5929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.Каховски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Прямоугольник 19"/>
          <p:cNvSpPr/>
          <p:nvPr/>
        </p:nvSpPr>
        <p:spPr>
          <a:xfrm>
            <a:off x="6935760" y="59292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Н. Муравьёв</a:t>
            </a:r>
            <a:r>
              <a:rPr b="0" lang="ru-RU" sz="12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Прямоугольник 10"/>
          <p:cNvSpPr/>
          <p:nvPr/>
        </p:nvSpPr>
        <p:spPr>
          <a:xfrm>
            <a:off x="6786720" y="3357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К. Рыле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677680" y="115920"/>
            <a:ext cx="3786120" cy="1714320"/>
          </a:xfrm>
          <a:prstGeom prst="rect">
            <a:avLst/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Союз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благоденствия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1818-1821гг., Москва,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Санкт-Петербург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392040" y="2160720"/>
            <a:ext cx="8358120" cy="218916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 до 200 че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е члены «Союза спасения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Устав «Зеленая книг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Прямоугольник 7"/>
          <p:cNvSpPr/>
          <p:nvPr/>
        </p:nvSpPr>
        <p:spPr>
          <a:xfrm>
            <a:off x="177840" y="4508640"/>
            <a:ext cx="8786880" cy="2141280"/>
          </a:xfrm>
          <a:prstGeom prst="rect">
            <a:avLst/>
          </a:prstGeom>
          <a:solidFill>
            <a:srgbClr val="fac2e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04a"/>
                </a:solidFill>
                <a:latin typeface="Arial"/>
                <a:ea typeface="Arial"/>
              </a:rPr>
              <a:t>Ц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304a"/>
                </a:solidFill>
                <a:latin typeface="Arial"/>
                <a:ea typeface="Arial"/>
              </a:rPr>
              <a:t>Ликвидация крепостничества и самодержавия, необходимость формирования общественного мнения, создание тайных и легальных организ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24680" y="192960"/>
            <a:ext cx="2844360" cy="1257120"/>
          </a:xfrm>
          <a:prstGeom prst="rect">
            <a:avLst/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Южное общество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1812-1825гг.,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f496f"/>
                </a:solidFill>
                <a:latin typeface="Century Gothic"/>
              </a:rPr>
              <a:t>Тульчин, Украина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0" name="AutoShape 5"/>
          <p:cNvSpPr/>
          <p:nvPr/>
        </p:nvSpPr>
        <p:spPr>
          <a:xfrm>
            <a:off x="468360" y="2095560"/>
            <a:ext cx="3110040" cy="79704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Русская Правд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954760" y="168120"/>
            <a:ext cx="2928960" cy="1357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c2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Times New Roman"/>
              </a:rPr>
              <a:t>Северное об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Times New Roman"/>
              </a:rPr>
              <a:t>1822-1825 гг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AutoShape 6"/>
          <p:cNvSpPr/>
          <p:nvPr/>
        </p:nvSpPr>
        <p:spPr>
          <a:xfrm>
            <a:off x="6037200" y="2011320"/>
            <a:ext cx="2764080" cy="881280"/>
          </a:xfrm>
          <a:prstGeom prst="roundRect">
            <a:avLst>
              <a:gd name="adj" fmla="val 16667"/>
            </a:avLst>
          </a:prstGeom>
          <a:solidFill>
            <a:srgbClr val="fac2ed"/>
          </a:solidFill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онститу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3" name="Picture 9" descr=""/>
          <p:cNvPicPr/>
          <p:nvPr/>
        </p:nvPicPr>
        <p:blipFill>
          <a:blip r:embed="rId1"/>
          <a:stretch/>
        </p:blipFill>
        <p:spPr>
          <a:xfrm>
            <a:off x="900000" y="3314880"/>
            <a:ext cx="2049480" cy="257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4" name="Picture 8" descr=""/>
          <p:cNvPicPr/>
          <p:nvPr/>
        </p:nvPicPr>
        <p:blipFill>
          <a:blip r:embed="rId2"/>
          <a:stretch/>
        </p:blipFill>
        <p:spPr>
          <a:xfrm>
            <a:off x="6383160" y="3070080"/>
            <a:ext cx="2073600" cy="2573640"/>
          </a:xfrm>
          <a:prstGeom prst="rect">
            <a:avLst/>
          </a:prstGeom>
          <a:ln w="12600">
            <a:solidFill>
              <a:srgbClr val="71481b"/>
            </a:solidFill>
            <a:miter/>
          </a:ln>
        </p:spPr>
      </p:pic>
      <p:sp>
        <p:nvSpPr>
          <p:cNvPr id="705" name="TextBox 10"/>
          <p:cNvSpPr/>
          <p:nvPr/>
        </p:nvSpPr>
        <p:spPr>
          <a:xfrm>
            <a:off x="713520" y="5994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.П. Пес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Box 11"/>
          <p:cNvSpPr/>
          <p:nvPr/>
        </p:nvSpPr>
        <p:spPr>
          <a:xfrm>
            <a:off x="6373800" y="60148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.М. Мурав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Прямоугольник 12"/>
          <p:cNvSpPr/>
          <p:nvPr/>
        </p:nvSpPr>
        <p:spPr>
          <a:xfrm>
            <a:off x="3382920" y="354492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ие идеи объединяют программные  документ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ПРОГРАММЫ</a:t>
            </a:r>
            <a:r>
              <a:rPr b="1" lang="ru-RU" sz="3200" spc="-1" strike="noStrike">
                <a:solidFill>
                  <a:srgbClr val="e67272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0" y="1052640"/>
          <a:ext cx="9144000" cy="634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верное общество (Конститу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.М. Муравье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ые программные 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жное общ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«Русская Правд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.И. Пестел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ня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ост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ня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икосновенность помещичьих зем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достояние. Делится на помещичью и частн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няю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лов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няю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тив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устро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тар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держав и 2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ое 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областей и 3 уд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ий круг гражданских пр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кратические пр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ий круг гражданских пр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итуционная монарх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з пола, возраста. Имущества и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иратель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з пола и возр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25:43Z</dcterms:created>
  <dc:creator>Г.И. Непершина, МОУ СОШ № 15, г. Балашова</dc:creator>
  <dc:description/>
  <dc:language>en-US</dc:language>
  <cp:lastModifiedBy>user</cp:lastModifiedBy>
  <dcterms:modified xsi:type="dcterms:W3CDTF">2018-01-09T14:16:31Z</dcterms:modified>
  <cp:revision>137</cp:revision>
  <dc:subject>Восстание декабристов. Начало правления Николая I</dc:subject>
  <dc:title>Презентация к уроку истории России, 10 класс</dc:title>
</cp:coreProperties>
</file>