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7B9B-1789-4B8D-BB65-69400160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E269-6C28-4491-92DC-491FB8ED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7C3-7C83-445B-B8E1-3C59D72C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810-72EA-41F1-A12E-6B3228C4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FEF-FB09-4EBD-9CC0-A79148AA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AA0-8F1D-4353-B5C3-B82DB200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B80-55E2-4EBB-BA36-F3BC2B14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8A22-9BF5-467A-9907-6A4091D4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8C54-EF6A-4C64-93B5-82BBA006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7A44-8E73-432E-A18F-BAED8333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E294-2863-47C8-9DCF-D579F518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4408-C6B2-49E2-8D89-3876E953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95DE-D872-4484-928F-2A9C1A81F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  <a:ea typeface="Arial"/>
              </a:rPr>
              <a:t>«Современные з</a:t>
            </a:r>
            <a:r>
              <a:rPr b="1" i="1" lang="ru-RU" sz="4000" spc="-1" strike="noStrike">
                <a:solidFill>
                  <a:srgbClr val="ff0066"/>
                </a:solidFill>
                <a:latin typeface="Arial Black"/>
                <a:ea typeface="Arial"/>
              </a:rPr>
              <a:t>доровьесберегающие  технологии»</a:t>
            </a:r>
            <a:br>
              <a:rPr sz="4000"/>
            </a:b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443640" y="4581360"/>
            <a:ext cx="201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Times New Roman"/>
              </a:rPr>
              <a:t>воспитатель </a:t>
            </a:r>
            <a:br>
              <a:rPr sz="2000"/>
            </a:br>
            <a:r>
              <a:rPr b="1" i="1" lang="ru-RU" sz="2000" spc="-1" strike="noStrike">
                <a:solidFill>
                  <a:srgbClr val="9900cc"/>
                </a:solidFill>
                <a:latin typeface="Times New Roman"/>
              </a:rPr>
              <a:t>Деньжова Е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hygiene10"/>
          <p:cNvPicPr/>
          <p:nvPr/>
        </p:nvPicPr>
        <p:blipFill>
          <a:blip r:embed="rId1"/>
          <a:stretch/>
        </p:blipFill>
        <p:spPr>
          <a:xfrm>
            <a:off x="971640" y="3716280"/>
            <a:ext cx="24210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57160" y="357120"/>
          <a:ext cx="7929720" cy="6186600"/>
        </p:xfrm>
        <a:graphic>
          <a:graphicData uri="http://schemas.openxmlformats.org/drawingml/2006/table">
            <a:tbl>
              <a:tblPr/>
              <a:tblGrid>
                <a:gridCol w="2286000"/>
                <a:gridCol w="3000600"/>
                <a:gridCol w="264312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Гимнастика дыха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В различных формах физкультурно-оздоровительно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Обеспечить проветривание помещения, педагогу дать детям инструкции об обязательной гигиене полости носа перед проведением процед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Гимнастика корригирующ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В различных формах физкультурно-оздоровительно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Форма проведения зависит от поставленной задачи и контингента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Физкультурн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2 раза в неделю в спортивном за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Ранний возраст в групповой комнате – 10 мин, младший возраст – 15 – 20 мин, средний- 20-25 мин, старший возраст – 25-30 м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Занятия проводится в соответствии с программой, по которой работает ДО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Само-массаж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В зависимости от поставленных целей, сеансами либо в различных формах физкультурно-оздоровительной работы С детьми старшего возра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Необходимо объяснить ребенку серьезность процедуры и дать детям элементарные знания о том, как не нанести вред своему организм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20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Информация для детей по те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« Здоровь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Во время совместной деятельности в зависимости от поставленных за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Могут быть частью совместной деятельности   с целью познавательно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8920" y="475920"/>
            <a:ext cx="76341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Формы организации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доровьесберегающей работы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796000" y="1700280"/>
            <a:ext cx="15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50920" y="2133720"/>
            <a:ext cx="84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47456002"/>
          <p:cNvPicPr/>
          <p:nvPr/>
        </p:nvPicPr>
        <p:blipFill>
          <a:blip r:embed="rId1"/>
          <a:stretch/>
        </p:blipFill>
        <p:spPr>
          <a:xfrm>
            <a:off x="1042920" y="2205000"/>
            <a:ext cx="7489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"/>
          <p:cNvPicPr/>
          <p:nvPr/>
        </p:nvPicPr>
        <p:blipFill>
          <a:blip r:embed="rId1"/>
          <a:stretch/>
        </p:blipFill>
        <p:spPr>
          <a:xfrm>
            <a:off x="682560" y="219240"/>
            <a:ext cx="778500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 Black"/>
              </a:rPr>
              <a:t>Мы стремимся к полной реализации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i="1" lang="ru-RU" sz="3200" spc="-1" strike="noStrike">
                <a:solidFill>
                  <a:srgbClr val="0000ff"/>
                </a:solidFill>
                <a:latin typeface="Arial Black"/>
              </a:rPr>
              <a:t> в жизни каждого ребенка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i="1" lang="ru-RU" sz="3200" spc="-1" strike="noStrike">
                <a:solidFill>
                  <a:srgbClr val="0000ff"/>
                </a:solidFill>
                <a:latin typeface="Arial Black"/>
              </a:rPr>
              <a:t> трех моментов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i="1" lang="ru-RU" sz="3200" spc="-1" strike="noStrike">
                <a:solidFill>
                  <a:srgbClr val="0000ff"/>
                </a:solidFill>
                <a:latin typeface="Arial Black"/>
              </a:rPr>
              <a:t> </a:t>
            </a:r>
            <a:br>
              <a:rPr sz="36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 Black"/>
              </a:rPr>
              <a:t>достаточной индивидуальной умственной нагрузки 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 Black"/>
              </a:rPr>
              <a:t>обеспечение условий для преобладания положительных эмоциональных впечатлений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 Black"/>
              </a:rPr>
              <a:t>полное удовлетворение потребности в движении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-1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83664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«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Забота о здоровье</a:t>
            </a: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 — это важнейший труд воспитателя. От жизнерадостности, бодрости детей зависит их духовная жизнь, мировоззрение, умственное развитие, прочность знаний, вера в свои силы»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 Black"/>
              </a:rPr>
              <a:t>В. А. Сухомлинский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70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доровье </a:t>
            </a: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- это состояние полного физического, психического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и социального благополучия, а не просто отсутствие болезней или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физических дефектов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(Всемирная организация здравоохранения)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99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доровьесберегающая технология</a:t>
            </a: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 - 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42560" y="333000"/>
            <a:ext cx="7705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Актуальными проблемами детского здоровья сегодня являются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cc"/>
                </a:solidFill>
                <a:latin typeface="Times New Roman"/>
              </a:rPr>
              <a:t>гиподинамия (нарушение функций опорно-двигательного аппарата, кровообращения, дыхания, пищеварения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cc"/>
                </a:solidFill>
                <a:latin typeface="Times New Roman"/>
              </a:rPr>
              <a:t>детские стрессы (нервные расстройства вследствие отрицательной психологической обстановки в семье, излишнего шума и нервности в детском коллективе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cc"/>
                </a:solidFill>
                <a:latin typeface="Times New Roman"/>
              </a:rPr>
              <a:t>тревожность (недостаток эмоциональной поддержки в детском саду и семье, недостаток информации)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cc"/>
                </a:solidFill>
                <a:latin typeface="Times New Roman"/>
              </a:rPr>
              <a:t>В связи с этим в ДОУ необходимо уделить особое внимание  воспитанию физически здорового и социально адаптированного ребенка, обеспечению его психического благополучия, а также формированию у дошкольника ответственности за свое здоровье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 Black"/>
              </a:rPr>
              <a:t>Задачи здоровьесберегающих технологий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Arial Black"/>
              </a:rPr>
              <a:t>создание адекватных условий для развития</a:t>
            </a: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9900cc"/>
                </a:solidFill>
                <a:latin typeface="Arial Black"/>
              </a:rPr>
              <a:t> обучения</a:t>
            </a: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9900cc"/>
                </a:solidFill>
                <a:latin typeface="Arial Black"/>
              </a:rPr>
              <a:t> оздоровления детей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Arial Black"/>
              </a:rPr>
              <a:t>сохранение здоровья детей и повышение двигательной активности и умственной работоспособности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Arial Black"/>
              </a:rPr>
              <a:t>создание положительного эмоционального настроя и снятие психоэмоционального напряжени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ff"/>
                </a:solidFill>
                <a:latin typeface="Times New Roman"/>
              </a:rPr>
              <a:t>Виды здоровьесберегающих технологий в ДОУ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03560"/>
            <a:ext cx="7772400" cy="38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Times New Roman"/>
              </a:rPr>
              <a:t>медико-профuлактические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Times New Roman"/>
              </a:rPr>
              <a:t>физкультурно-оздоровительные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Times New Roman"/>
              </a:rPr>
              <a:t>технологии обеспечения социально-психологического благополучия ребенк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Times New Roman"/>
              </a:rPr>
              <a:t>валеологического просвещения родителей,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Times New Roman"/>
              </a:rPr>
              <a:t>здоровьесберегающие образовательные технологии в детском саду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85880" y="317520"/>
          <a:ext cx="8143920" cy="6089760"/>
        </p:xfrm>
        <a:graphic>
          <a:graphicData uri="http://schemas.openxmlformats.org/drawingml/2006/table">
            <a:tbl>
              <a:tblPr/>
              <a:tblGrid>
                <a:gridCol w="2171520"/>
                <a:gridCol w="3257640"/>
                <a:gridCol w="27147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Виды здоровьесберегающи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Время проведения в режиме д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Особенности методики пр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Ритмопла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Не раньше чем через 30 мин после приема пищи, 2 раза в неделю по 30 мин со среднего возраста в физкультурном за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Обратить внимание на художественную ценность, величину физической нагрузки и ее соразмерность возрастным показателям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Подвижные и спортивные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Как часть физкультурного занятия, на прогулке. Ежедневно для всех возрастных 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Игры подбираются в соответствии с возрастом ребенка, местом и временем ее проведения. Используются элементы спортивных и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3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Релакс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В зависимости от состояния детей и целей, педагог определяет интенсивность технологии. Для всех возрастных 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Можно использовать спокойную музыку, звуки прир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Гимнастика утрен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Ежедневно, утром,  перед завтраком во всех групп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В групповой комнате, физкультурном зале, под музыку, с использованием подвижных игр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28800" y="214200"/>
          <a:ext cx="7929360" cy="6215040"/>
        </p:xfrm>
        <a:graphic>
          <a:graphicData uri="http://schemas.openxmlformats.org/drawingml/2006/table">
            <a:tbl>
              <a:tblPr/>
              <a:tblGrid>
                <a:gridCol w="2265120"/>
                <a:gridCol w="3021120"/>
                <a:gridCol w="264312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Гимнастика бодрящ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Ежедневно после дневного сна, 5-10 мин во всех групп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Различные варианты провед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55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ЛФ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2 раза в неделю в коррекционных группах по показаниям вр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Комплексы упражнений, корегирующих осанку, свод сто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5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Гимнастика пальчико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С младшего возраста в различных формах физкультурно-оздоровительно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Рекомендуется всем детям, особенно с речевыми проблемами. Проводится в любой удобный отрезок времен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Гимнастика для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Ежедневно по 3-5 мин в любое свободное время, в разных формах физкультурно-оздоровительной работы в зависимости от интенсивности зрительной нагрузки с младшего возра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Рекомендуется использовать наглядный материал, показ педаг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1</cp:lastModifiedBy>
  <dcterms:modified xsi:type="dcterms:W3CDTF">2018-01-09T08:57:18Z</dcterms:modified>
  <cp:revision>37</cp:revision>
  <dc:subject/>
  <dc:title>Your Title Here…</dc:title>
</cp:coreProperties>
</file>