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AAC8-4C40-4322-AD7B-2F659043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C935-FD6B-4D47-8072-222BD7EA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2BED-89C1-4C9D-8D87-4267D7EB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611E-4430-4A91-A5D5-4B9CE0E1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D5D6-B18D-40FC-A9D0-1D81B9BF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625F-71B7-4FA7-A088-A53B73AA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A0E-59CA-4272-A946-8D60467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9D24-1370-4824-B93D-C77261BD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823E-91C2-4271-BE06-D309ACC4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53A2-014E-42BB-8351-6D0ED9E9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F093-66B8-48CE-8B8C-779F2625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2293-902A-40F9-B5B1-4876EE81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0CC4-1B11-4B27-981A-BC1BEB59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43D4-F585-4BE8-B61C-5BF44F3B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696D-B3D9-439A-8021-E6B44D06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EA7B-5BDC-43F4-9B82-91EE8413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DFF1-85D8-4E52-96BA-F6F08EA8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2846-72C8-4181-B38F-45E5344F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AECD3-DC27-4A56-B28A-82EA898B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F36F-D300-4A9C-AF2A-69353929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4A43-ACA8-4120-AFCA-D62C9D7D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55B2-7DFE-4F4A-9974-CB2D9FC5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7072-74B8-4A40-BF2C-DA08253B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EBDA-BF37-4E66-A3D1-52654D49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D669D-6380-49DA-827C-941FB9B6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002A-3716-4A92-8ECC-31E1199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9EA1-FD40-4DB7-A383-567BFDC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2C56-0DFB-4F1B-8A16-17B3D386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D509-07DA-4A3D-AF22-C3A23308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D7E1D-5F43-4977-96CC-B1427379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F44C1-EA45-4268-9474-39E8906E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8F850-2DD7-41DB-B7EE-A017C58C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6B313-732C-43E3-8FF5-A8380008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A10D-6677-4491-B427-26C82957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C3EE6-EFBC-40A7-B738-74E09D4F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BA5E-B1D8-48D9-88AA-462864C8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9BE4D-A55C-4618-9AAF-DFE6571A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29BBB-B833-4FAB-898F-08A9A9A8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6AF4-FE75-4D87-A676-6DD65AA6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BE4F2-53BF-4DBA-A792-041D5517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A533-BC16-4D56-82BE-A529848A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1F71-5A4C-49CB-886C-C10106B9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C8AF-E4AA-411B-B6BF-5E123E91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4B23-5910-460B-ACD8-69C2C280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58F2-0D82-4FF3-93AD-D16E9326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EC33-56E0-4EC5-B401-16683DA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F3D5-24EA-4EAA-A1DF-2214B26E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2625-CA5B-4E3E-994E-F6FE66BC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58BE-3D2C-475E-9A70-05FD9F0A5B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E385-E2C5-45AF-BF55-C9EDF9DDBB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9F51-0650-4C57-8B04-45696DBF3F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0E09-936C-4675-A3AD-099E3D8292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1800" spc="-1" strike="noStrike">
                <a:solidFill>
                  <a:srgbClr val="e5e5ff"/>
                </a:solidFill>
                <a:latin typeface="Times New Roman"/>
              </a:rPr>
              <a:t>ЧАСТНОЕ  ДОШКОЛЬНОЕ ОБРАЗОВАТЕЛЬНОЕ УЧРЕЖДЕНИЕ</a:t>
            </a:r>
            <a:br>
              <a:rPr sz="4000"/>
            </a:br>
            <a:r>
              <a:rPr b="0" lang="ru-RU" sz="2000" spc="-1" strike="noStrike">
                <a:solidFill>
                  <a:srgbClr val="e5e5ff"/>
                </a:solidFill>
                <a:latin typeface="Times New Roman"/>
              </a:rPr>
              <a:t>«ДЕТСКИЙ САД №56 ОТКРЫТОГО АКЦИОНЕРНОГО ОБЩЕСТВА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Times New Roman"/>
              </a:rPr>
              <a:t>«РОССИЙСКИЕ ЖЕЛЕЗНЫЕ ДОРОГИ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Творческий проект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«Знаменитые земляки – яркие профессии»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Подготовил: воспитатель 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1 квалификационной категории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Багоцкая Светлана Ивановна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28600" y="41907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52280" y="304920"/>
          <a:ext cx="8839440" cy="5738760"/>
        </p:xfrm>
        <a:graphic>
          <a:graphicData uri="http://schemas.openxmlformats.org/drawingml/2006/table">
            <a:tbl>
              <a:tblPr/>
              <a:tblGrid>
                <a:gridCol w="1143000"/>
                <a:gridCol w="1676520"/>
                <a:gridCol w="1905120"/>
                <a:gridCol w="2743200"/>
                <a:gridCol w="13716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бот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с семь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кабр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эт Исаковский Михаил Васильевич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из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ение х/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зыка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седа «Поэт земли Смоленской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Чтение стихов Исаковског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лушание песни «Катюш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/р игра «Библиотек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: познакомить с правилами пользования библиотекой; прививать у детей интерес к поэзи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ещение детской библиотек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26" descr="x_6be203fa"/>
          <p:cNvPicPr/>
          <p:nvPr/>
        </p:nvPicPr>
        <p:blipFill>
          <a:blip r:embed="rId1"/>
          <a:srcRect l="0" t="0" r="10737" b="0"/>
          <a:stretch/>
        </p:blipFill>
        <p:spPr>
          <a:xfrm>
            <a:off x="1295280" y="2971800"/>
            <a:ext cx="1676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52280" y="304920"/>
          <a:ext cx="8839440" cy="5738760"/>
        </p:xfrm>
        <a:graphic>
          <a:graphicData uri="http://schemas.openxmlformats.org/drawingml/2006/table">
            <a:tbl>
              <a:tblPr/>
              <a:tblGrid>
                <a:gridCol w="1143000"/>
                <a:gridCol w="1676520"/>
                <a:gridCol w="1905120"/>
                <a:gridCol w="2743200"/>
                <a:gridCol w="13716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бот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с семь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нвар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риса Касаткина Людмила Ивановн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из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зы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. творчество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седа «Кто такой актер?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ультимедийная экскурсия в теат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имические упражн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исование афиш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раматизация сказки «Зимовье зверей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: расширять представление о работе актера; закреплять знание правил поведения в театре; развивать артистические способности у детей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ещение детских представле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й в театре. Участие в групповых праздниках и развлечени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Picture 28" descr="0_724d1_d0f1d1ce_XL"/>
          <p:cNvPicPr/>
          <p:nvPr/>
        </p:nvPicPr>
        <p:blipFill>
          <a:blip r:embed="rId1"/>
          <a:srcRect l="3567" t="0" r="7421" b="0"/>
          <a:stretch/>
        </p:blipFill>
        <p:spPr>
          <a:xfrm>
            <a:off x="1295280" y="2666880"/>
            <a:ext cx="1677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52280" y="304920"/>
          <a:ext cx="8839440" cy="5738760"/>
        </p:xfrm>
        <a:graphic>
          <a:graphicData uri="http://schemas.openxmlformats.org/drawingml/2006/table">
            <a:tbl>
              <a:tblPr/>
              <a:tblGrid>
                <a:gridCol w="1143000"/>
                <a:gridCol w="1676520"/>
                <a:gridCol w="1905120"/>
                <a:gridCol w="2743200"/>
                <a:gridCol w="13716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бот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с семь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врал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мирал Балтин Эдуард Дмитрие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. творчеств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из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доровь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ение х/л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Экскурсия в морской музей им.адмирала П.С.Нахимо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Чтение рассказов о защитниках Отече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«Корабли» (лего-конструктор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/р игра «Подводники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«Сильные и ловкие»- спортивная эстафе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: формировать представление о военно-морском флоте, его героях; воспитывать желание быть сильными, здоровым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ие в спортивной эстафете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25" descr="44"/>
          <p:cNvPicPr/>
          <p:nvPr/>
        </p:nvPicPr>
        <p:blipFill>
          <a:blip r:embed="rId1"/>
          <a:stretch/>
        </p:blipFill>
        <p:spPr>
          <a:xfrm>
            <a:off x="1295280" y="2743200"/>
            <a:ext cx="169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52280" y="304920"/>
          <a:ext cx="8839440" cy="5943600"/>
        </p:xfrm>
        <a:graphic>
          <a:graphicData uri="http://schemas.openxmlformats.org/drawingml/2006/table">
            <a:tbl>
              <a:tblPr/>
              <a:tblGrid>
                <a:gridCol w="1143000"/>
                <a:gridCol w="1676520"/>
                <a:gridCol w="1905120"/>
                <a:gridCol w="2743200"/>
                <a:gridCol w="1371600"/>
              </a:tblGrid>
              <a:tr h="121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бот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с семь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рт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ликий клоун Никулин Юрий Владимирович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опасност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. творчество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седа «В гостях у клоун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имические этюд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«Смоленский цирк» (конструирование из напольных модулей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Представление «На арене цирк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исование на возд. шариках «Веселый клоун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: познакомить с творчеством Ю.В.Никулина; формировать представление о многообразии цирковых профессий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готовление клоунских носиков из бросового материала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Picture 25" descr="nikulin"/>
          <p:cNvPicPr/>
          <p:nvPr/>
        </p:nvPicPr>
        <p:blipFill>
          <a:blip r:embed="rId1"/>
          <a:stretch/>
        </p:blipFill>
        <p:spPr>
          <a:xfrm>
            <a:off x="1295280" y="2666880"/>
            <a:ext cx="1702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52280" y="304920"/>
          <a:ext cx="8839440" cy="5738760"/>
        </p:xfrm>
        <a:graphic>
          <a:graphicData uri="http://schemas.openxmlformats.org/drawingml/2006/table">
            <a:tbl>
              <a:tblPr/>
              <a:tblGrid>
                <a:gridCol w="1143000"/>
                <a:gridCol w="1676520"/>
                <a:gridCol w="1905120"/>
                <a:gridCol w="2743200"/>
                <a:gridCol w="13716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бот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с семь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рел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тчик-космонавт Гагарин Юрий Алексеевич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культу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. творчеств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зыка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ассказ о детстве Гагарин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лушание «Космическая опера» Д.Маруан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/р игра «Полет в космос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Аппликация «На просторах космоса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портивное развлечение «Тренировка будущих космонавтов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: познакомить с детством первого космонавта; прививать детям любовь к спорту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ение энциклопедий и книг о космосе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Picture 25" descr="s99961332"/>
          <p:cNvPicPr/>
          <p:nvPr/>
        </p:nvPicPr>
        <p:blipFill>
          <a:blip r:embed="rId1"/>
          <a:stretch/>
        </p:blipFill>
        <p:spPr>
          <a:xfrm>
            <a:off x="1295280" y="2895480"/>
            <a:ext cx="1692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52280" y="304920"/>
          <a:ext cx="8839440" cy="5738760"/>
        </p:xfrm>
        <a:graphic>
          <a:graphicData uri="http://schemas.openxmlformats.org/drawingml/2006/table">
            <a:tbl>
              <a:tblPr/>
              <a:tblGrid>
                <a:gridCol w="1143000"/>
                <a:gridCol w="1676520"/>
                <a:gridCol w="1905120"/>
                <a:gridCol w="2743200"/>
                <a:gridCol w="13716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бот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с семь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овед Докучаев Василий Васильевич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. творчество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седа «Кто такой почвовед?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Опытная работа по теме «Почв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ид. игра «Кто живет в земле?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абота на огороде и цветник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исование «Мой цветущий Смоленск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: формировать представление о деятельности ученого и её значении; учить проводить простые опыты с почвой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устрой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во группового участка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25" descr="10"/>
          <p:cNvPicPr/>
          <p:nvPr/>
        </p:nvPicPr>
        <p:blipFill>
          <a:blip r:embed="rId1"/>
          <a:stretch/>
        </p:blipFill>
        <p:spPr>
          <a:xfrm>
            <a:off x="1295280" y="3048120"/>
            <a:ext cx="17128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962520" cy="1143000"/>
          </a:xfrm>
          <a:prstGeom prst="rect">
            <a:avLst/>
          </a:prstGeom>
          <a:solidFill>
            <a:srgbClr val="008000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ктуаль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ы живем в г. Смоленске, ходим по его улицам и часто не знаем в чью честь они названы, чем занимался и прославился тот или иной человек, за какие заслуги ему установили памятник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школьное детство - важный этап в становлении личности человека, поэтому очень важно на каких примерах растет ребенок. Этот возраст является наиболее благоприятным периодом для развития любознательности, что позволяет формировать у детей стремление больше узнать о своем родном городе, его прошлом, известных земляк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438280" cy="762120"/>
          </a:xfrm>
          <a:prstGeom prst="rect">
            <a:avLst/>
          </a:prstGeom>
          <a:solidFill>
            <a:srgbClr val="008000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знакомить дошкольников с известными земляками, их профессиональной деятельностью и её значением в жизни других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2590920"/>
            <a:ext cx="2438280" cy="761760"/>
          </a:xfrm>
          <a:prstGeom prst="rect">
            <a:avLst/>
          </a:prstGeom>
          <a:solidFill>
            <a:srgbClr val="008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609480" y="342900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Формировать представление о профессиях: зодчий, актер, скульптор, почвовед, артист цирка, поэт и д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Расширять знания о культурных и исторических объектах г. Смоленс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Воспитывать чувство гордости за родной край, бережное отношение к культурному и историческому наслед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3581280" cy="1066680"/>
          </a:xfrm>
          <a:prstGeom prst="rect">
            <a:avLst/>
          </a:prstGeom>
          <a:solidFill>
            <a:srgbClr val="008000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ип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лгосрочный, внутригрупп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3048120"/>
            <a:ext cx="3809880" cy="1295280"/>
          </a:xfrm>
          <a:prstGeom prst="rect">
            <a:avLst/>
          </a:prstGeom>
          <a:solidFill>
            <a:srgbClr val="008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частники проект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09480" y="44956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ти старшего дошкольного возраста, педагоги, родите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486400" cy="1219320"/>
          </a:xfrm>
          <a:prstGeom prst="rect">
            <a:avLst/>
          </a:prstGeom>
          <a:solidFill>
            <a:srgbClr val="800080">
              <a:alpha val="5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редполагаемые результаты реализации проект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1673640"/>
            <a:ext cx="2438280" cy="228852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вышение компетентности в данном вопросе у участников проек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352680" y="1631880"/>
            <a:ext cx="2438640" cy="265428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зникновение у детей желания узнавать новое о родном крае и его людя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705720" y="1539720"/>
            <a:ext cx="2438280" cy="265428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становление отношений взаимного сотрудничества между родителями и педагог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57200" y="4375800"/>
            <a:ext cx="2209680" cy="192276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огащенная развивающая среда групп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429000" y="4512600"/>
            <a:ext cx="2438280" cy="155700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зработанный учебно-методический материа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6400800" y="4406040"/>
            <a:ext cx="2590920" cy="192276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дукты совместной и самостоя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239240" cy="1447920"/>
          </a:xfrm>
          <a:prstGeom prst="rect">
            <a:avLst/>
          </a:prstGeom>
          <a:solidFill>
            <a:srgbClr val="800080">
              <a:alpha val="5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Этапы организации работы в ходе реализации проекта 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Знаменитые земляки – яркие профессии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386720"/>
            <a:ext cx="3657600" cy="570420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I 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этап (подготовительный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Определение уровня знаний и сформированности представлений по данной тем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Создание предметно-развивающей сред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Подбор методической и художественной литера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Составление перспективного пла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Формирование установки на сотрудничество детского сада и семь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809880" y="1740960"/>
            <a:ext cx="1981440" cy="430020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II 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этап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еализация проекта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Работа педагогов по формированию у детей и родителей знаний по теме проек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Совместная творческая деятельн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095880" y="1351440"/>
            <a:ext cx="3048120" cy="594612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III 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этап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слеживание результатов, обобщение опыта, презентация проекта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Анкетирование родителе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Викторина «Самый любознательный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Выставки творческих работ дете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Ярмарка семейных подело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Оформление фотоальбома «Известные люди Смоленщин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52280" y="304920"/>
          <a:ext cx="8839440" cy="5790960"/>
        </p:xfrm>
        <a:graphic>
          <a:graphicData uri="http://schemas.openxmlformats.org/drawingml/2006/table">
            <a:tbl>
              <a:tblPr/>
              <a:tblGrid>
                <a:gridCol w="1143000"/>
                <a:gridCol w="1676520"/>
                <a:gridCol w="1905120"/>
                <a:gridCol w="2743200"/>
                <a:gridCol w="1371600"/>
              </a:tblGrid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бот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с семь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нтябр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зодчий  Конь Федор Василье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ение х/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из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д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седа «Русский зодчий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ультимедийная экскурсия «По крепостной стене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Чтение стихов о Смоленск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Изготовление макета крепостной стены из бросового материал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: познакомить с русским зодчим Ф.Конем, значением крепостной стены для Смоленска; воспитывать у детей патриотические чувства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околлаж «Ожерелье Смоленска»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Picture 59" descr="0_75949_752598b2_XL"/>
          <p:cNvPicPr/>
          <p:nvPr/>
        </p:nvPicPr>
        <p:blipFill>
          <a:blip r:embed="rId1"/>
          <a:srcRect l="20267" t="0" r="8814" b="35160"/>
          <a:stretch/>
        </p:blipFill>
        <p:spPr>
          <a:xfrm>
            <a:off x="1295280" y="2743200"/>
            <a:ext cx="1676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52280" y="304920"/>
          <a:ext cx="8839440" cy="5946480"/>
        </p:xfrm>
        <a:graphic>
          <a:graphicData uri="http://schemas.openxmlformats.org/drawingml/2006/table">
            <a:tbl>
              <a:tblPr/>
              <a:tblGrid>
                <a:gridCol w="990720"/>
                <a:gridCol w="1828800"/>
                <a:gridCol w="1905120"/>
                <a:gridCol w="2666880"/>
                <a:gridCol w="1447920"/>
              </a:tblGrid>
              <a:tr h="12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бот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с семь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тябрь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тешественник Пржевальский Николай Михайлови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из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опасность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седа «Великий путешественник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оставление карты путешествий Пржевальског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/р игра «Путешественники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ассматривание детской энциклопедии «Животный и растительный мир Центральной Азии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: познакомить с деятельностью Пржевальского; учить работать с картой; воспитывать у детей толерантность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ление карты семейных путешеств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8" descr="5216"/>
          <p:cNvPicPr/>
          <p:nvPr/>
        </p:nvPicPr>
        <p:blipFill>
          <a:blip r:embed="rId1"/>
          <a:stretch/>
        </p:blipFill>
        <p:spPr>
          <a:xfrm>
            <a:off x="1143000" y="281952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52280" y="304920"/>
          <a:ext cx="8839440" cy="5790960"/>
        </p:xfrm>
        <a:graphic>
          <a:graphicData uri="http://schemas.openxmlformats.org/drawingml/2006/table">
            <a:tbl>
              <a:tblPr/>
              <a:tblGrid>
                <a:gridCol w="1143000"/>
                <a:gridCol w="1676520"/>
                <a:gridCol w="1905120"/>
                <a:gridCol w="2743200"/>
                <a:gridCol w="1371600"/>
              </a:tblGrid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бот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с семь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ябр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ульптор Коненков Сергей Тимофеевич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ц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. творчество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Экскурсия в музей скульптуры С.Т.Коненко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ассматривание альбома «Скульптуры Петергоф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арельеф из гипса (лепка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: познакомить с профессией скульптор; учить работать с гипсом; развивать творческие способности, фантазию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готовление поделок для ярмарки (из гипса, теста, пластилина, глины и т.д.)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5" name="Picture 25" descr="konenkov"/>
          <p:cNvPicPr/>
          <p:nvPr/>
        </p:nvPicPr>
        <p:blipFill>
          <a:blip r:embed="rId1"/>
          <a:srcRect l="10848" t="0" r="0" b="2438"/>
          <a:stretch/>
        </p:blipFill>
        <p:spPr>
          <a:xfrm>
            <a:off x="1295280" y="2743200"/>
            <a:ext cx="1692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анислав</cp:lastModifiedBy>
  <dcterms:modified xsi:type="dcterms:W3CDTF">2018-01-09T14:05:4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