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30.png" ContentType="image/png"/>
  <Override PartName="/ppt/media/image35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6EE-64FB-4E04-8B62-2EE9A497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C8E-B674-4A45-9B03-30EF7604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43B-13A1-49C3-AD80-F36A9F5F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373-6D89-4ECA-A319-CCED0FF5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B54-57EF-4320-81F0-35D8BA2B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780F-1534-467C-9C03-A6C09A05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05D6-2B53-4B5E-9112-69746D1D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DDF-EC92-46E9-8C19-D26131D5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FD6-0AF1-4D6A-9E61-035F62D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C87E-7321-4774-B732-41C7464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A468-6E6A-4BB7-991C-A241573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1ED-42BC-4A58-9E9B-3E1CB24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52B-2757-4139-94FB-6585D8F7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30C8-4E2C-4F7C-9C71-C81B17C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30B3-98BA-4868-85C9-30CB9E49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A66D-C9F1-45C6-80F6-B5B7EF43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0F2D-FF55-4056-8EB4-29F9A672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EA9-F96F-498A-940B-FCB6D00C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643-D26D-45DB-8253-FF5B861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B8F-693B-491D-9844-C78D6119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66E-9F00-405F-BC5C-71B14A0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705-7A74-4121-B023-5A7A9D1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CA1-11D9-4511-94B4-27DB114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44F-DACB-4B6D-9526-55342B1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F4D3-6D6D-4AD1-A8AF-752B242596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0C1-9A69-4294-A61B-9E09C6111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2034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09480" y="1295280"/>
            <a:ext cx="7010640" cy="3110400"/>
          </a:xfrm>
          <a:prstGeom prst="rect">
            <a:avLst/>
          </a:prstGeom>
          <a:noFill/>
          <a:ln w="0">
            <a:noFill/>
          </a:ln>
          <a:effectLst>
            <a:outerShdw dist="140247" dir="309268" blurRad="0" rotWithShape="0">
              <a:srgbClr val="0023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ffff"/>
                </a:solidFill>
                <a:latin typeface="Georgia"/>
              </a:rPr>
              <a:t>Страна, открывшая путь в космос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korolev2"/>
          <p:cNvPicPr/>
          <p:nvPr/>
        </p:nvPicPr>
        <p:blipFill>
          <a:blip r:embed="rId1"/>
          <a:stretch/>
        </p:blipFill>
        <p:spPr>
          <a:xfrm>
            <a:off x="4724280" y="914400"/>
            <a:ext cx="2841840" cy="3886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19" name="Picture 6" descr="tsiolk02"/>
          <p:cNvPicPr/>
          <p:nvPr/>
        </p:nvPicPr>
        <p:blipFill>
          <a:blip r:embed="rId2"/>
          <a:stretch/>
        </p:blipFill>
        <p:spPr>
          <a:xfrm>
            <a:off x="914400" y="838080"/>
            <a:ext cx="2805120" cy="4038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20" name="Text Box 7"/>
          <p:cNvSpPr/>
          <p:nvPr/>
        </p:nvSpPr>
        <p:spPr>
          <a:xfrm>
            <a:off x="990720" y="5181480"/>
            <a:ext cx="2606400" cy="11912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23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Georgia"/>
              </a:rPr>
              <a:t>Константин Эдуардович Циал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952880" y="5181480"/>
            <a:ext cx="20732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23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Georgia"/>
              </a:rPr>
              <a:t>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Georgia"/>
              </a:rPr>
              <a:t>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oonstars_noao_big"/>
          <p:cNvPicPr/>
          <p:nvPr/>
        </p:nvPicPr>
        <p:blipFill>
          <a:blip r:embed="rId1"/>
          <a:stretch/>
        </p:blipFill>
        <p:spPr>
          <a:xfrm>
            <a:off x="0" y="0"/>
            <a:ext cx="6507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putnik-1"/>
          <p:cNvPicPr/>
          <p:nvPr/>
        </p:nvPicPr>
        <p:blipFill>
          <a:blip r:embed="rId2"/>
          <a:stretch/>
        </p:blipFill>
        <p:spPr>
          <a:xfrm>
            <a:off x="4191120" y="0"/>
            <a:ext cx="2230200" cy="1828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4724280" y="175248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ервый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искусст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утник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771920" y="5472000"/>
            <a:ext cx="17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195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4.44444E-006 C -0.00938 -0.00417 -0.01684 -0.00926 -0.025 -0.01667 C -0.03281 -0.02361 -0.0434 -0.02245 -0.05139 -0.02963 C -0.10139 -0.02847 -0.15278 -0.03009 -0.20278 -0.02408 C -0.21459 -0.01875 -0.22813 -0.01713 -0.24028 -0.01296 C -0.2441 -0.01181 -0.25243 -0.00579 -0.25556 -0.00556 C -0.28281 -0.00394 -0.31025 -0.0044 -0.3375 -0.0037 C -0.3441 -0.0007 -0.35 0.00324 -0.35695 0.00555 C -0.37205 0.01898 -0.38525 0.03588 -0.4 0.05 C -0.41181 0.06111 -0.42396 0.07245 -0.43611 0.08333 C -0.44236 0.09583 -0.44965 0.1088 -0.45695 0.12037 C -0.46146 0.12755 -0.46528 0.1368 -0.47084 0.14259 C -0.48698 0.15949 -0.50486 0.17315 -0.51945 0.19259 C -0.52379 0.20995 -0.51667 0.18426 -0.525 0.2037 C -0.52587 0.20602 -0.52552 0.2088 -0.52639 0.21111 C -0.52743 0.21366 -0.52917 0.21597 -0.53056 0.21852 C -0.53334 0.23727 -0.53889 0.25509 -0.54167 0.27384 C -0.54271 0.28148 -0.54445 0.29606 -0.54445 0.29606 C -0.54497 0.30741 -0.54497 0.31852 -0.54584 0.32963 C -0.54757 0.35069 -0.55295 0.3713 -0.55556 0.39259 C -0.55452 0.42546 -0.55261 0.45764 -0.55139 0.49074 C -0.5507 0.51134 -0.55382 0.55046 -0.54306 0.57199 C -0.53264 0.59305 -0.52014 0.61018 -0.50695 0.62778 C -0.50122 0.63542 -0.49896 0.63981 -0.49167 0.6463 C -0.49028 0.64745 -0.4875 0.65 -0.4875 0.65 C -0.48542 0.65856 -0.48334 0.65625 -0.47778 0.66111 C -0.47431 0.66829 -0.4691 0.6706 -0.46389 0.67592 C -0.45261 0.68634 -0.44775 0.69236 -0.43334 0.69606 C -0.41858 0.70625 -0.40382 0.71389 -0.3875 0.71852 C -0.3816 0.72361 -0.3757 0.72454 -0.36945 0.72778 C -0.36025 0.73217 -0.35278 0.7375 -0.34306 0.74051 C -0.3382 0.74236 -0.33316 0.74768 -0.32778 0.74815 C -0.30972 0.7493 -0.29167 0.7493 -0.27361 0.75 C -0.24636 0.7493 -0.21893 0.74884 -0.19167 0.74815 C -0.18195 0.74768 -0.17205 0.74861 -0.1625 0.7463 C -0.1592 0.74537 -0.15695 0.74143 -0.15417 0.73889 C -0.14861 0.73403 -0.13004 0.73171 -0.12222 0.72592 C -0.10747 0.71505 -0.12761 0.72523 -0.10834 0.71643 C -0.10191 0.71389 -0.09844 0.70486 -0.09167 0.70185 C -0.08472 0.69236 -0.08212 0.68866 -0.07361 0.68333 C -0.0691 0.67523 -0.06372 0.66713 -0.05695 0.66296 C -0.05278 0.64653 -0.04236 0.63055 -0.03334 0.61852 C -0.0309 0.6088 -0.03351 0.61643 -0.02778 0.60741 C -0.02674 0.60579 -0.0257 0.60393 -0.025 0.60185 C -0.02431 0.6 -0.02448 0.59792 -0.02361 0.59606 C -0.02118 0.59213 -0.01754 0.58958 -0.01528 0.58518 C -0.01441 0.58333 -0.01337 0.58148 -0.0125 0.57963 C -0.01129 0.57083 -0.01042 0.56597 -0.00695 0.55926 C -0.00556 0.55162 -0.004 0.54583 -0.00139 0.53889 C 5.55555999999903E-007 0.52755 0.00208 0.51667 0.00416 0.50555 C 0.00503 0.50092 0.00746 0.49722 0.00833 0.49259 C 0.01198 0.47454 0.00885 0.48241 0.01389 0.47222 C 0.01406 0.4706 0.01597 0.45764 0.01666 0.45555 C 0.01736 0.45347 0.01875 0.45208 0.01944 0.45 C 0.02014 0.44815 0.02031 0.4463 0.02083 0.44444 C 0.02031 0.37106 0.02031 0.29745 0.01944 0.22407 C 0.01927 0.21574 0.01649 0.2081 0.01528 0.2 C 0.01094 0.1706 0.00295 0.14282 -0.00417 0.11481 C -0.00903 0.0956 -0.0099 0.06574 -0.02361 0.0537 C -0.03056 0.03981 -0.03959 0.02963 -0.05 0.02037 C -0.0625 0.00926 -0.04896 0.01505 -0.06111 0.01111 C -0.06997 -0.000699999999999999 -0.0842 -0.01482 -0.09722 -0.01482 E">
                                      <p:cBhvr>
                                        <p:cTn id="48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256690639_belka_strelka_b"/>
          <p:cNvPicPr/>
          <p:nvPr/>
        </p:nvPicPr>
        <p:blipFill>
          <a:blip r:embed="rId1"/>
          <a:stretch/>
        </p:blipFill>
        <p:spPr>
          <a:xfrm>
            <a:off x="609480" y="457200"/>
            <a:ext cx="3657600" cy="32180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27" name="Picture 5" descr="belka-strelka"/>
          <p:cNvPicPr/>
          <p:nvPr/>
        </p:nvPicPr>
        <p:blipFill>
          <a:blip r:embed="rId2"/>
          <a:stretch/>
        </p:blipFill>
        <p:spPr>
          <a:xfrm>
            <a:off x="4800600" y="228600"/>
            <a:ext cx="4191120" cy="3676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28" name="Picture 7" descr="108446671"/>
          <p:cNvPicPr/>
          <p:nvPr/>
        </p:nvPicPr>
        <p:blipFill>
          <a:blip r:embed="rId3"/>
          <a:stretch/>
        </p:blipFill>
        <p:spPr>
          <a:xfrm>
            <a:off x="228600" y="3962520"/>
            <a:ext cx="4343400" cy="26510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29" name="Text Box 8"/>
          <p:cNvSpPr/>
          <p:nvPr/>
        </p:nvSpPr>
        <p:spPr>
          <a:xfrm>
            <a:off x="4800600" y="4114800"/>
            <a:ext cx="335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Georgia"/>
              </a:rPr>
              <a:t>Собаки Белка и Стре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7560420_Gagarin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спускаемый аппарат"/>
          <p:cNvPicPr/>
          <p:nvPr/>
        </p:nvPicPr>
        <p:blipFill>
          <a:blip r:embed="rId2"/>
          <a:stretch/>
        </p:blipFill>
        <p:spPr>
          <a:xfrm>
            <a:off x="1828800" y="2209680"/>
            <a:ext cx="4343400" cy="31831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32" name="Picture 7" descr="IMGL3"/>
          <p:cNvPicPr/>
          <p:nvPr/>
        </p:nvPicPr>
        <p:blipFill>
          <a:blip r:embed="rId3"/>
          <a:stretch/>
        </p:blipFill>
        <p:spPr>
          <a:xfrm>
            <a:off x="8048520" y="0"/>
            <a:ext cx="10954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7162920" y="762120"/>
            <a:ext cx="70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778040" y="548640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12 апреля 1961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image001"/>
          <p:cNvPicPr/>
          <p:nvPr/>
        </p:nvPicPr>
        <p:blipFill>
          <a:blip r:embed="rId4"/>
          <a:stretch/>
        </p:blipFill>
        <p:spPr>
          <a:xfrm>
            <a:off x="380880" y="152280"/>
            <a:ext cx="2444760" cy="3429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36" name="Picture 11" descr="GAGARI~1"/>
          <p:cNvPicPr/>
          <p:nvPr/>
        </p:nvPicPr>
        <p:blipFill>
          <a:blip r:embed="rId5"/>
          <a:stretch/>
        </p:blipFill>
        <p:spPr>
          <a:xfrm>
            <a:off x="5791320" y="152280"/>
            <a:ext cx="3124080" cy="3276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37" name="Text Box 12"/>
          <p:cNvSpPr/>
          <p:nvPr/>
        </p:nvSpPr>
        <p:spPr>
          <a:xfrm>
            <a:off x="3105000" y="380880"/>
            <a:ext cx="26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108 м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00040" y="59878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Юрий Алексеевич Гаг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15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155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115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115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korolev"/>
          <p:cNvPicPr/>
          <p:nvPr/>
        </p:nvPicPr>
        <p:blipFill>
          <a:blip r:embed="rId1"/>
          <a:stretch/>
        </p:blipFill>
        <p:spPr>
          <a:xfrm>
            <a:off x="5613480" y="0"/>
            <a:ext cx="3530520" cy="4940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Picture 9" descr="13"/>
          <p:cNvPicPr/>
          <p:nvPr/>
        </p:nvPicPr>
        <p:blipFill>
          <a:blip r:embed="rId2"/>
          <a:stretch/>
        </p:blipFill>
        <p:spPr>
          <a:xfrm>
            <a:off x="0" y="2998800"/>
            <a:ext cx="6781680" cy="385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1" name="Text Box 10"/>
          <p:cNvSpPr/>
          <p:nvPr/>
        </p:nvSpPr>
        <p:spPr>
          <a:xfrm>
            <a:off x="250920" y="1219320"/>
            <a:ext cx="52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ервые космонав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52258415_1260464119_skanirovanie0002"/>
          <p:cNvPicPr/>
          <p:nvPr/>
        </p:nvPicPr>
        <p:blipFill>
          <a:blip r:embed="rId3"/>
          <a:stretch/>
        </p:blipFill>
        <p:spPr>
          <a:xfrm>
            <a:off x="0" y="2951280"/>
            <a:ext cx="5562720" cy="390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sevastianov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779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6908400" y="274320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евастья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leonov1"/>
          <p:cNvPicPr/>
          <p:nvPr/>
        </p:nvPicPr>
        <p:blipFill>
          <a:blip r:embed="rId2"/>
          <a:stretch/>
        </p:blipFill>
        <p:spPr>
          <a:xfrm>
            <a:off x="0" y="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Конст Феоктистов"/>
          <p:cNvPicPr/>
          <p:nvPr/>
        </p:nvPicPr>
        <p:blipFill>
          <a:blip r:embed="rId3"/>
          <a:stretch/>
        </p:blipFill>
        <p:spPr>
          <a:xfrm>
            <a:off x="4572000" y="0"/>
            <a:ext cx="1974960" cy="2743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георгийGrechko_7"/>
          <p:cNvPicPr/>
          <p:nvPr/>
        </p:nvPicPr>
        <p:blipFill>
          <a:blip r:embed="rId4"/>
          <a:stretch/>
        </p:blipFill>
        <p:spPr>
          <a:xfrm>
            <a:off x="0" y="3352680"/>
            <a:ext cx="214776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Герман Титов"/>
          <p:cNvPicPr/>
          <p:nvPr/>
        </p:nvPicPr>
        <p:blipFill>
          <a:blip r:embed="rId5"/>
          <a:stretch/>
        </p:blipFill>
        <p:spPr>
          <a:xfrm>
            <a:off x="6616800" y="3200400"/>
            <a:ext cx="2527200" cy="3200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5"/>
          <p:cNvSpPr/>
          <p:nvPr/>
        </p:nvSpPr>
        <p:spPr>
          <a:xfrm>
            <a:off x="181800" y="624852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Г. Гре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7340040" y="641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Г.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453200" y="2743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. Феокт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tereshkova"/>
          <p:cNvPicPr/>
          <p:nvPr/>
        </p:nvPicPr>
        <p:blipFill>
          <a:blip r:embed="rId6"/>
          <a:stretch/>
        </p:blipFill>
        <p:spPr>
          <a:xfrm>
            <a:off x="2362320" y="3352680"/>
            <a:ext cx="193968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" descr="поповичo-00026292-n-00009796"/>
          <p:cNvPicPr/>
          <p:nvPr/>
        </p:nvPicPr>
        <p:blipFill>
          <a:blip r:embed="rId7"/>
          <a:stretch/>
        </p:blipFill>
        <p:spPr>
          <a:xfrm>
            <a:off x="2438280" y="0"/>
            <a:ext cx="19177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Савицкая косм"/>
          <p:cNvPicPr/>
          <p:nvPr/>
        </p:nvPicPr>
        <p:blipFill>
          <a:blip r:embed="rId8"/>
          <a:stretch/>
        </p:blipFill>
        <p:spPr>
          <a:xfrm>
            <a:off x="4495680" y="3276720"/>
            <a:ext cx="1895760" cy="281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2"/>
          <p:cNvSpPr/>
          <p:nvPr/>
        </p:nvSpPr>
        <p:spPr>
          <a:xfrm>
            <a:off x="32760" y="28195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.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2240280" y="27828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. Поп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2085120" y="62485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.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4369320" y="62485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. Са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9" descr="Леонов"/>
          <p:cNvPicPr/>
          <p:nvPr/>
        </p:nvPicPr>
        <p:blipFill>
          <a:blip r:embed="rId9"/>
          <a:stretch/>
        </p:blipFill>
        <p:spPr>
          <a:xfrm>
            <a:off x="228600" y="0"/>
            <a:ext cx="212076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48485ac1a57b15ccb68723bef693e730"/>
          <p:cNvPicPr/>
          <p:nvPr/>
        </p:nvPicPr>
        <p:blipFill>
          <a:blip r:embed="rId1"/>
          <a:stretch/>
        </p:blipFill>
        <p:spPr>
          <a:xfrm>
            <a:off x="0" y="0"/>
            <a:ext cx="5924520" cy="355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appolo03"/>
          <p:cNvPicPr/>
          <p:nvPr/>
        </p:nvPicPr>
        <p:blipFill>
          <a:blip r:embed="rId2"/>
          <a:stretch/>
        </p:blipFill>
        <p:spPr>
          <a:xfrm>
            <a:off x="0" y="3772080"/>
            <a:ext cx="7620120" cy="3085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4"/>
          <p:cNvSpPr/>
          <p:nvPr/>
        </p:nvSpPr>
        <p:spPr>
          <a:xfrm>
            <a:off x="6019920" y="38088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осмическая станция «МИ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350px-put_k_zvezdam_prokladyvayut_kommunisty_blok_1964"/>
          <p:cNvPicPr/>
          <p:nvPr/>
        </p:nvPicPr>
        <p:blipFill>
          <a:blip r:embed="rId1"/>
          <a:stretch/>
        </p:blipFill>
        <p:spPr>
          <a:xfrm>
            <a:off x="0" y="0"/>
            <a:ext cx="3429000" cy="2681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Grechko_3"/>
          <p:cNvPicPr/>
          <p:nvPr/>
        </p:nvPicPr>
        <p:blipFill>
          <a:blip r:embed="rId2"/>
          <a:stretch/>
        </p:blipFill>
        <p:spPr>
          <a:xfrm>
            <a:off x="3886200" y="533520"/>
            <a:ext cx="5029200" cy="240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vkn2_clip_image006_0001"/>
          <p:cNvPicPr/>
          <p:nvPr/>
        </p:nvPicPr>
        <p:blipFill>
          <a:blip r:embed="rId3"/>
          <a:stretch/>
        </p:blipFill>
        <p:spPr>
          <a:xfrm>
            <a:off x="5181480" y="3200400"/>
            <a:ext cx="3962520" cy="3330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1-web"/>
          <p:cNvPicPr/>
          <p:nvPr/>
        </p:nvPicPr>
        <p:blipFill>
          <a:blip r:embed="rId4"/>
          <a:stretch/>
        </p:blipFill>
        <p:spPr>
          <a:xfrm>
            <a:off x="0" y="259092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spacecraft"/>
          <p:cNvPicPr/>
          <p:nvPr/>
        </p:nvPicPr>
        <p:blipFill>
          <a:blip r:embed="rId5"/>
          <a:stretch/>
        </p:blipFill>
        <p:spPr>
          <a:xfrm>
            <a:off x="0" y="4875120"/>
            <a:ext cx="4800600" cy="1982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Пользователь</cp:lastModifiedBy>
  <dcterms:modified xsi:type="dcterms:W3CDTF">2013-04-29T18:41:39Z</dcterms:modified>
  <cp:revision>16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