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A174-B917-4FDD-A347-2F63AE5CA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BB94-5FEA-4E5D-A3F6-84C667B82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8503-0D87-4C8F-97E5-FEE5CEBB3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4EFC-CF23-40CB-A9E2-7E43A8E30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AE04-2631-4C10-8DF0-5939D67A6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833B-3877-4FF7-AE41-52BB381B52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F58C-0520-4C17-8809-CEB7B645A7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D4B0-A7AC-4B96-BE09-50390821E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62DD-8B16-42F4-82BA-2F5A70FD3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DC9-C4E6-4C30-9675-35FAAB67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780-D4FD-4BB1-A826-1FB09661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085-85AF-455A-9C9B-9BCF0ECC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20C-4395-4C45-B340-C4D49121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888-0416-4848-87B9-876EAE5B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807-4F03-422B-9ED5-034DE65C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65A-B80B-4EDC-9070-4B5A4910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BEC-7F31-4839-9026-33E3E090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5F1-B600-4C08-B22B-07835373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206-8AC0-440E-97AB-5E3391E7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71F-9563-4060-9B1C-ADA1900C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D5F-03AE-4A47-98F4-E264FA0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9703-CEA9-46B3-B91A-97E3E8E5A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9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129240" y="606240"/>
              <a:ext cx="19800" cy="56318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1"/>
          <p:cNvSpPr txBox="1"/>
          <p:nvPr/>
        </p:nvSpPr>
        <p:spPr>
          <a:xfrm>
            <a:off x="1905120" y="2438280"/>
            <a:ext cx="5333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Усеченный конус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762120" y="548640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10-11"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395280" y="457200"/>
            <a:ext cx="849780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</a:rPr>
              <a:t>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257d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61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129240" y="606240"/>
              <a:ext cx="19800" cy="56318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WordArt 11"/>
          <p:cNvSpPr txBox="1"/>
          <p:nvPr/>
        </p:nvSpPr>
        <p:spPr>
          <a:xfrm>
            <a:off x="1905120" y="2438280"/>
            <a:ext cx="5333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ПОМНИМ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12"/>
          <p:cNvSpPr txBox="1"/>
          <p:nvPr/>
        </p:nvSpPr>
        <p:spPr>
          <a:xfrm>
            <a:off x="762120" y="548640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14"/>
          <p:cNvSpPr txBox="1"/>
          <p:nvPr/>
        </p:nvSpPr>
        <p:spPr>
          <a:xfrm>
            <a:off x="395280" y="457200"/>
            <a:ext cx="849780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</a:rPr>
              <a:t>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257dff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57"/>
          <p:cNvSpPr/>
          <p:nvPr/>
        </p:nvSpPr>
        <p:spPr>
          <a:xfrm>
            <a:off x="7556400" y="2768760"/>
            <a:ext cx="45720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74" name="Freeform 6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129240" y="540720"/>
              <a:ext cx="19800" cy="5763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893160" y="990720"/>
            <a:ext cx="5042160" cy="5488920"/>
            <a:chOff x="893160" y="990720"/>
            <a:chExt cx="5042160" cy="5488920"/>
          </a:xfrm>
        </p:grpSpPr>
        <p:sp>
          <p:nvSpPr>
            <p:cNvPr id="83" name="Freeform 2"/>
            <p:cNvSpPr/>
            <p:nvPr/>
          </p:nvSpPr>
          <p:spPr>
            <a:xfrm>
              <a:off x="1595160" y="3575160"/>
              <a:ext cx="2697840" cy="2528280"/>
            </a:xfrm>
            <a:custGeom>
              <a:avLst/>
              <a:gdLst>
                <a:gd name="textAreaLeft" fmla="*/ 0 w 2697840"/>
                <a:gd name="textAreaRight" fmla="*/ 2698200 w 2697840"/>
                <a:gd name="textAreaTop" fmla="*/ 0 h 2528280"/>
                <a:gd name="textAreaBottom" fmla="*/ 2528640 h 2528280"/>
              </a:gdLst>
              <a:ahLst/>
              <a:rect l="textAreaLeft" t="textAreaTop" r="textAreaRight" b="textAreaBottom"/>
              <a:pathLst>
                <a:path w="2032" h="1936">
                  <a:moveTo>
                    <a:pt x="2032" y="1448"/>
                  </a:moveTo>
                  <a:lnTo>
                    <a:pt x="984" y="0"/>
                  </a:lnTo>
                  <a:lnTo>
                    <a:pt x="984" y="0"/>
                  </a:lnTo>
                  <a:lnTo>
                    <a:pt x="0" y="1936"/>
                  </a:lnTo>
                  <a:lnTo>
                    <a:pt x="2032" y="1448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"/>
            <p:cNvSpPr/>
            <p:nvPr/>
          </p:nvSpPr>
          <p:spPr>
            <a:xfrm>
              <a:off x="1595160" y="5800680"/>
              <a:ext cx="1283760" cy="302760"/>
            </a:xfrm>
            <a:custGeom>
              <a:avLst/>
              <a:gdLst>
                <a:gd name="textAreaLeft" fmla="*/ 0 w 1283760"/>
                <a:gd name="textAreaRight" fmla="*/ 1284120 w 12837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968" h="232">
                  <a:moveTo>
                    <a:pt x="0" y="232"/>
                  </a:moveTo>
                  <a:lnTo>
                    <a:pt x="9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"/>
            <p:cNvSpPr/>
            <p:nvPr/>
          </p:nvSpPr>
          <p:spPr>
            <a:xfrm>
              <a:off x="1583280" y="3575160"/>
              <a:ext cx="1316880" cy="2538720"/>
            </a:xfrm>
            <a:custGeom>
              <a:avLst/>
              <a:gdLst>
                <a:gd name="textAreaLeft" fmla="*/ 0 w 1316880"/>
                <a:gd name="textAreaRight" fmla="*/ 1317240 w 1316880"/>
                <a:gd name="textAreaTop" fmla="*/ 0 h 2538720"/>
                <a:gd name="textAreaBottom" fmla="*/ 2539080 h 2538720"/>
              </a:gdLst>
              <a:ahLst/>
              <a:rect l="textAreaLeft" t="textAreaTop" r="textAreaRight" b="textAreaBottom"/>
              <a:pathLst>
                <a:path w="992" h="1944">
                  <a:moveTo>
                    <a:pt x="0" y="1944"/>
                  </a:moveTo>
                  <a:lnTo>
                    <a:pt x="992" y="0"/>
                  </a:lnTo>
                  <a:lnTo>
                    <a:pt x="992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4"/>
            <p:cNvSpPr/>
            <p:nvPr/>
          </p:nvSpPr>
          <p:spPr>
            <a:xfrm>
              <a:off x="129960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5"/>
            <p:cNvSpPr/>
            <p:nvPr/>
          </p:nvSpPr>
          <p:spPr>
            <a:xfrm>
              <a:off x="2894760" y="564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2889720" y="3575160"/>
              <a:ext cx="10440" cy="2235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7" h="1456">
                  <a:moveTo>
                    <a:pt x="7" y="0"/>
                  </a:moveTo>
                  <a:lnTo>
                    <a:pt x="0" y="145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rc 17"/>
            <p:cNvSpPr/>
            <p:nvPr/>
          </p:nvSpPr>
          <p:spPr>
            <a:xfrm rot="5400000">
              <a:off x="2545560" y="4362840"/>
              <a:ext cx="772920" cy="3232440"/>
            </a:xfrm>
            <a:custGeom>
              <a:avLst/>
              <a:gdLst>
                <a:gd name="textAreaLeft" fmla="*/ 0 w 772920"/>
                <a:gd name="textAreaRight" fmla="*/ 773280 w 772920"/>
                <a:gd name="textAreaTop" fmla="*/ 0 h 3232440"/>
                <a:gd name="textAreaBottom" fmla="*/ 3232800 h 323244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18"/>
            <p:cNvSpPr/>
            <p:nvPr/>
          </p:nvSpPr>
          <p:spPr>
            <a:xfrm flipV="1" rot="16200000">
              <a:off x="2633760" y="3861360"/>
              <a:ext cx="591480" cy="3229920"/>
            </a:xfrm>
            <a:custGeom>
              <a:avLst/>
              <a:gdLst>
                <a:gd name="textAreaLeft" fmla="*/ 0 w 591480"/>
                <a:gd name="textAreaRight" fmla="*/ 591840 w 591480"/>
                <a:gd name="textAreaTop" fmla="*/ 360 h 3229920"/>
                <a:gd name="textAreaBottom" fmla="*/ 3230640 h 322992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6"/>
            <p:cNvSpPr/>
            <p:nvPr/>
          </p:nvSpPr>
          <p:spPr>
            <a:xfrm>
              <a:off x="2894760" y="332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1347840" y="3575160"/>
              <a:ext cx="3159360" cy="2079000"/>
            </a:xfrm>
            <a:custGeom>
              <a:avLst/>
              <a:gdLst>
                <a:gd name="textAreaLeft" fmla="*/ 0 w 3159360"/>
                <a:gd name="textAreaRight" fmla="*/ 3159720 w 3159360"/>
                <a:gd name="textAreaTop" fmla="*/ 0 h 2079000"/>
                <a:gd name="textAreaBottom" fmla="*/ 2079360 h 2079000"/>
              </a:gdLst>
              <a:ahLst/>
              <a:rect l="textAreaLeft" t="textAreaTop" r="textAreaRight" b="textAreaBottom"/>
              <a:pathLst>
                <a:path w="2376" h="1592">
                  <a:moveTo>
                    <a:pt x="2376" y="1592"/>
                  </a:moveTo>
                  <a:lnTo>
                    <a:pt x="1160" y="0"/>
                  </a:lnTo>
                  <a:lnTo>
                    <a:pt x="0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1306800" y="3575160"/>
              <a:ext cx="3265560" cy="2800080"/>
            </a:xfrm>
            <a:custGeom>
              <a:avLst/>
              <a:gdLst>
                <a:gd name="textAreaLeft" fmla="*/ 0 w 3265560"/>
                <a:gd name="textAreaRight" fmla="*/ 3265920 w 3265560"/>
                <a:gd name="textAreaTop" fmla="*/ 0 h 2800080"/>
                <a:gd name="textAreaBottom" fmla="*/ 2800440 h 2800080"/>
              </a:gdLst>
              <a:ahLst/>
              <a:rect l="textAreaLeft" t="textAreaTop" r="textAreaRight" b="textAreaBottom"/>
              <a:pathLst>
                <a:path w="2457" h="2144">
                  <a:moveTo>
                    <a:pt x="1189" y="5"/>
                  </a:moveTo>
                  <a:cubicBezTo>
                    <a:pt x="1213" y="2"/>
                    <a:pt x="1220" y="37"/>
                    <a:pt x="1258" y="86"/>
                  </a:cubicBezTo>
                  <a:cubicBezTo>
                    <a:pt x="1296" y="135"/>
                    <a:pt x="1245" y="76"/>
                    <a:pt x="1417" y="302"/>
                  </a:cubicBezTo>
                  <a:cubicBezTo>
                    <a:pt x="1589" y="528"/>
                    <a:pt x="2129" y="1231"/>
                    <a:pt x="2293" y="1445"/>
                  </a:cubicBezTo>
                  <a:cubicBezTo>
                    <a:pt x="2457" y="1659"/>
                    <a:pt x="2377" y="1543"/>
                    <a:pt x="2401" y="1586"/>
                  </a:cubicBezTo>
                  <a:cubicBezTo>
                    <a:pt x="2425" y="1629"/>
                    <a:pt x="2453" y="1658"/>
                    <a:pt x="2440" y="1706"/>
                  </a:cubicBezTo>
                  <a:cubicBezTo>
                    <a:pt x="2427" y="1754"/>
                    <a:pt x="2387" y="1825"/>
                    <a:pt x="2323" y="1877"/>
                  </a:cubicBezTo>
                  <a:cubicBezTo>
                    <a:pt x="2259" y="1929"/>
                    <a:pt x="2178" y="1981"/>
                    <a:pt x="2053" y="2021"/>
                  </a:cubicBezTo>
                  <a:cubicBezTo>
                    <a:pt x="1928" y="2061"/>
                    <a:pt x="1734" y="2097"/>
                    <a:pt x="1573" y="2117"/>
                  </a:cubicBezTo>
                  <a:cubicBezTo>
                    <a:pt x="1412" y="2137"/>
                    <a:pt x="1239" y="2144"/>
                    <a:pt x="1087" y="2141"/>
                  </a:cubicBezTo>
                  <a:cubicBezTo>
                    <a:pt x="935" y="2138"/>
                    <a:pt x="793" y="2124"/>
                    <a:pt x="658" y="2096"/>
                  </a:cubicBezTo>
                  <a:cubicBezTo>
                    <a:pt x="523" y="2068"/>
                    <a:pt x="376" y="2016"/>
                    <a:pt x="277" y="1973"/>
                  </a:cubicBezTo>
                  <a:cubicBezTo>
                    <a:pt x="178" y="1930"/>
                    <a:pt x="109" y="1889"/>
                    <a:pt x="64" y="1838"/>
                  </a:cubicBezTo>
                  <a:cubicBezTo>
                    <a:pt x="19" y="1787"/>
                    <a:pt x="11" y="1713"/>
                    <a:pt x="7" y="1670"/>
                  </a:cubicBezTo>
                  <a:cubicBezTo>
                    <a:pt x="3" y="1627"/>
                    <a:pt x="0" y="1638"/>
                    <a:pt x="37" y="1577"/>
                  </a:cubicBezTo>
                  <a:cubicBezTo>
                    <a:pt x="74" y="1516"/>
                    <a:pt x="112" y="1458"/>
                    <a:pt x="229" y="1301"/>
                  </a:cubicBezTo>
                  <a:cubicBezTo>
                    <a:pt x="346" y="1144"/>
                    <a:pt x="592" y="831"/>
                    <a:pt x="739" y="632"/>
                  </a:cubicBezTo>
                  <a:cubicBezTo>
                    <a:pt x="886" y="433"/>
                    <a:pt x="1036" y="208"/>
                    <a:pt x="1111" y="104"/>
                  </a:cubicBezTo>
                  <a:cubicBezTo>
                    <a:pt x="1186" y="0"/>
                    <a:pt x="1173" y="26"/>
                    <a:pt x="1189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47058"/>
                  </a:srgbClr>
                </a:gs>
                <a:gs pos="50000">
                  <a:srgbClr val="ffffff">
                    <a:alpha val="46274"/>
                  </a:srgbClr>
                </a:gs>
                <a:gs pos="100000">
                  <a:srgbClr val="bbe0e3">
                    <a:alpha val="4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893160" y="547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4275720" y="9907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4"/>
            <p:cNvSpPr/>
            <p:nvPr/>
          </p:nvSpPr>
          <p:spPr>
            <a:xfrm>
              <a:off x="5365800" y="43585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2"/>
          <p:cNvGrpSpPr/>
          <p:nvPr/>
        </p:nvGrpSpPr>
        <p:grpSpPr>
          <a:xfrm>
            <a:off x="-471960" y="205200"/>
            <a:ext cx="6486840" cy="7035120"/>
            <a:chOff x="-471960" y="205200"/>
            <a:chExt cx="6486840" cy="7035120"/>
          </a:xfrm>
        </p:grpSpPr>
        <p:sp>
          <p:nvSpPr>
            <p:cNvPr id="98" name="Freeform 40"/>
            <p:cNvSpPr/>
            <p:nvPr/>
          </p:nvSpPr>
          <p:spPr>
            <a:xfrm rot="7819800">
              <a:off x="1550160" y="3864240"/>
              <a:ext cx="3341880" cy="2552040"/>
            </a:xfrm>
            <a:custGeom>
              <a:avLst/>
              <a:gdLst>
                <a:gd name="textAreaLeft" fmla="*/ 0 w 3341880"/>
                <a:gd name="textAreaRight" fmla="*/ 3342240 w 3341880"/>
                <a:gd name="textAreaTop" fmla="*/ 0 h 2552040"/>
                <a:gd name="textAreaBottom" fmla="*/ 2552400 h 2552040"/>
              </a:gdLst>
              <a:ahLst/>
              <a:rect l="textAreaLeft" t="textAreaTop" r="textAreaRight" b="textAreaBottom"/>
              <a:pathLst>
                <a:path w="2104" h="1608">
                  <a:moveTo>
                    <a:pt x="0" y="0"/>
                  </a:moveTo>
                  <a:lnTo>
                    <a:pt x="416" y="1608"/>
                  </a:lnTo>
                  <a:lnTo>
                    <a:pt x="2104" y="15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rc 41"/>
            <p:cNvSpPr/>
            <p:nvPr/>
          </p:nvSpPr>
          <p:spPr>
            <a:xfrm rot="15108600">
              <a:off x="522360" y="501840"/>
              <a:ext cx="4497840" cy="5349600"/>
            </a:xfrm>
            <a:custGeom>
              <a:avLst/>
              <a:gdLst>
                <a:gd name="textAreaLeft" fmla="*/ 0 w 4497840"/>
                <a:gd name="textAreaRight" fmla="*/ 4498200 w 4497840"/>
                <a:gd name="textAreaTop" fmla="*/ 0 h 5349600"/>
                <a:gd name="textAreaBottom" fmla="*/ 5349960 h 5349600"/>
              </a:gdLst>
              <a:ahLst/>
              <a:rect l="textAreaLeft" t="textAreaTop" r="textAreaRight" b="textAreaBottom"/>
              <a:pathLst>
                <a:path fill="none" w="36849" h="43200">
                  <a:moveTo>
                    <a:pt x="2584" y="4101"/>
                  </a:moveTo>
                  <a:cubicBezTo>
                    <a:pt x="6269" y="1435"/>
                    <a:pt x="10701" y="-1"/>
                    <a:pt x="15249" y="0"/>
                  </a:cubicBezTo>
                  <a:cubicBezTo>
                    <a:pt x="27178" y="0"/>
                    <a:pt x="36849" y="9670"/>
                    <a:pt x="36849" y="21600"/>
                  </a:cubicBezTo>
                  <a:cubicBezTo>
                    <a:pt x="36849" y="33529"/>
                    <a:pt x="27178" y="43200"/>
                    <a:pt x="15249" y="43200"/>
                  </a:cubicBezTo>
                  <a:cubicBezTo>
                    <a:pt x="9532" y="43200"/>
                    <a:pt x="4048" y="40933"/>
                    <a:pt x="0" y="36897"/>
                  </a:cubicBezTo>
                </a:path>
                <a:path stroke="0" w="36849" h="43200">
                  <a:moveTo>
                    <a:pt x="2584" y="4101"/>
                  </a:moveTo>
                  <a:cubicBezTo>
                    <a:pt x="6269" y="1435"/>
                    <a:pt x="10701" y="-1"/>
                    <a:pt x="15249" y="0"/>
                  </a:cubicBezTo>
                  <a:cubicBezTo>
                    <a:pt x="27178" y="0"/>
                    <a:pt x="36849" y="9670"/>
                    <a:pt x="36849" y="21600"/>
                  </a:cubicBezTo>
                  <a:cubicBezTo>
                    <a:pt x="36849" y="33529"/>
                    <a:pt x="27178" y="43200"/>
                    <a:pt x="15249" y="43200"/>
                  </a:cubicBezTo>
                  <a:cubicBezTo>
                    <a:pt x="9532" y="43200"/>
                    <a:pt x="4048" y="40933"/>
                    <a:pt x="0" y="36897"/>
                  </a:cubicBezTo>
                  <a:lnTo>
                    <a:pt x="1524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45"/>
          <p:cNvSpPr/>
          <p:nvPr/>
        </p:nvSpPr>
        <p:spPr>
          <a:xfrm>
            <a:off x="1753920" y="41148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6"/>
          <p:cNvSpPr/>
          <p:nvPr/>
        </p:nvSpPr>
        <p:spPr>
          <a:xfrm>
            <a:off x="3430800" y="54100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9"/>
          <p:cNvGrpSpPr/>
          <p:nvPr/>
        </p:nvGrpSpPr>
        <p:grpSpPr>
          <a:xfrm>
            <a:off x="685800" y="76320"/>
            <a:ext cx="9067680" cy="1152360"/>
            <a:chOff x="685800" y="76320"/>
            <a:chExt cx="9067680" cy="1152360"/>
          </a:xfrm>
        </p:grpSpPr>
        <mc:AlternateContent>
          <mc:Choice xmlns:a14="http://schemas.microsoft.com/office/drawing/2010/main" Requires="a14">
            <p:sp>
              <p:nvSpPr>
                <p:cNvPr id="103" name="Object 44"/>
                <p:cNvSpPr txBox="1"/>
                <p:nvPr/>
              </p:nvSpPr>
              <p:spPr>
                <a:xfrm>
                  <a:off x="5486040" y="76320"/>
                  <a:ext cx="251424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Б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П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Text Box 47"/>
            <p:cNvSpPr/>
            <p:nvPr/>
          </p:nvSpPr>
          <p:spPr>
            <a:xfrm>
              <a:off x="685800" y="228600"/>
              <a:ext cx="9067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Развертка конуса – сектор.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Object 48"/>
              <p:cNvSpPr txBox="1"/>
              <p:nvPr/>
            </p:nvSpPr>
            <p:spPr>
              <a:xfrm>
                <a:off x="2590920" y="6235560"/>
                <a:ext cx="14097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50"/>
              <p:cNvSpPr txBox="1"/>
              <p:nvPr/>
            </p:nvSpPr>
            <p:spPr>
              <a:xfrm>
                <a:off x="5095800" y="1371600"/>
                <a:ext cx="31431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С</m:t>
                    </m:r>
                    <m:r>
                      <m:t xml:space="preserve">1</m:t>
                    </m:r>
                    <m:r>
                      <m:t xml:space="preserve">С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1"/>
              <p:cNvSpPr txBox="1"/>
              <p:nvPr/>
            </p:nvSpPr>
            <p:spPr>
              <a:xfrm>
                <a:off x="1981080" y="990720"/>
                <a:ext cx="14097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2"/>
              <p:cNvSpPr txBox="1"/>
              <p:nvPr/>
            </p:nvSpPr>
            <p:spPr>
              <a:xfrm>
                <a:off x="5638680" y="2514600"/>
                <a:ext cx="232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53"/>
              <p:cNvSpPr txBox="1"/>
              <p:nvPr/>
            </p:nvSpPr>
            <p:spPr>
              <a:xfrm>
                <a:off x="5715000" y="3733920"/>
                <a:ext cx="1697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Freeform 54"/>
          <p:cNvSpPr/>
          <p:nvPr/>
        </p:nvSpPr>
        <p:spPr>
          <a:xfrm>
            <a:off x="7543800" y="838080"/>
            <a:ext cx="1270080" cy="33530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3353040"/>
              <a:gd name="textAreaBottom" fmla="*/ 3353400 h 3353040"/>
            </a:gdLst>
            <a:ahLst/>
            <a:rect l="textAreaLeft" t="textAreaTop" r="textAreaRight" b="textAreaBottom"/>
            <a:pathLst>
              <a:path w="800" h="2352">
                <a:moveTo>
                  <a:pt x="0" y="2352"/>
                </a:moveTo>
                <a:cubicBezTo>
                  <a:pt x="124" y="2191"/>
                  <a:pt x="688" y="1776"/>
                  <a:pt x="744" y="1384"/>
                </a:cubicBezTo>
                <a:cubicBezTo>
                  <a:pt x="800" y="992"/>
                  <a:pt x="421" y="288"/>
                  <a:pt x="33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55"/>
              <p:cNvSpPr txBox="1"/>
              <p:nvPr/>
            </p:nvSpPr>
            <p:spPr>
              <a:xfrm>
                <a:off x="5638680" y="4876920"/>
                <a:ext cx="2484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2" name="Group 64"/>
          <p:cNvGrpSpPr/>
          <p:nvPr/>
        </p:nvGrpSpPr>
        <p:grpSpPr>
          <a:xfrm>
            <a:off x="5587200" y="5972040"/>
            <a:ext cx="1769400" cy="707040"/>
            <a:chOff x="5587200" y="5972040"/>
            <a:chExt cx="1769400" cy="707040"/>
          </a:xfrm>
        </p:grpSpPr>
        <p:sp>
          <p:nvSpPr>
            <p:cNvPr id="113" name="Rectangle 60"/>
            <p:cNvSpPr/>
            <p:nvPr/>
          </p:nvSpPr>
          <p:spPr>
            <a:xfrm>
              <a:off x="7000920" y="5996160"/>
              <a:ext cx="355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200" spc="-1" strike="noStrike">
                  <a:solidFill>
                    <a:srgbClr val="ff0000"/>
                  </a:solidFill>
                  <a:latin typeface="Times New Roman"/>
                </a:rPr>
                <a:t>rl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1"/>
            <p:cNvSpPr/>
            <p:nvPr/>
          </p:nvSpPr>
          <p:spPr>
            <a:xfrm>
              <a:off x="5587200" y="6033960"/>
              <a:ext cx="64116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Б.П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2"/>
            <p:cNvSpPr/>
            <p:nvPr/>
          </p:nvSpPr>
          <p:spPr>
            <a:xfrm>
              <a:off x="6628680" y="5972040"/>
              <a:ext cx="293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3"/>
            <p:cNvSpPr/>
            <p:nvPr/>
          </p:nvSpPr>
          <p:spPr>
            <a:xfrm>
              <a:off x="6236280" y="597204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05 -0.69074 L -0.06459 -0.76505 E">
                                      <p:cBhvr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L 0.22847 0.04237 L 0.30208 0.03681 L 0.35069 0.03311 E">
                                      <p:cBhvr>
                                        <p:cTn id="3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118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129240" y="606240"/>
              <a:ext cx="19800" cy="56318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WordArt 11"/>
          <p:cNvSpPr txBox="1"/>
          <p:nvPr/>
        </p:nvSpPr>
        <p:spPr>
          <a:xfrm>
            <a:off x="1905120" y="2438280"/>
            <a:ext cx="5333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Узнаем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12"/>
          <p:cNvSpPr txBox="1"/>
          <p:nvPr/>
        </p:nvSpPr>
        <p:spPr>
          <a:xfrm>
            <a:off x="762120" y="548640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395280" y="457200"/>
            <a:ext cx="849780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</a:rPr>
              <a:t>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257dff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5"/>
          <p:cNvSpPr/>
          <p:nvPr/>
        </p:nvSpPr>
        <p:spPr>
          <a:xfrm>
            <a:off x="20710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6"/>
          <p:cNvSpPr/>
          <p:nvPr/>
        </p:nvSpPr>
        <p:spPr>
          <a:xfrm>
            <a:off x="2298600" y="2894040"/>
            <a:ext cx="1800" cy="2260440"/>
          </a:xfrm>
          <a:custGeom>
            <a:avLst/>
            <a:gdLst>
              <a:gd name="textAreaLeft" fmla="*/ 0 w 1800"/>
              <a:gd name="textAreaRight" fmla="*/ 2160 w 1800"/>
              <a:gd name="textAreaTop" fmla="*/ 0 h 2260440"/>
              <a:gd name="textAreaBottom" fmla="*/ 2260800 h 2260440"/>
            </a:gdLst>
            <a:ahLst/>
            <a:rect l="textAreaLeft" t="textAreaTop" r="textAreaRight" b="textAreaBottom"/>
            <a:pathLst>
              <a:path w="1" h="1424">
                <a:moveTo>
                  <a:pt x="0" y="0"/>
                </a:moveTo>
                <a:lnTo>
                  <a:pt x="0" y="142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9"/>
          <p:cNvGrpSpPr/>
          <p:nvPr/>
        </p:nvGrpSpPr>
        <p:grpSpPr>
          <a:xfrm>
            <a:off x="1777680" y="2627280"/>
            <a:ext cx="1066680" cy="457200"/>
            <a:chOff x="1777680" y="2627280"/>
            <a:chExt cx="1066680" cy="457200"/>
          </a:xfrm>
        </p:grpSpPr>
        <p:grpSp>
          <p:nvGrpSpPr>
            <p:cNvPr id="132" name="Group 5"/>
            <p:cNvGrpSpPr/>
            <p:nvPr/>
          </p:nvGrpSpPr>
          <p:grpSpPr>
            <a:xfrm>
              <a:off x="1777680" y="2730600"/>
              <a:ext cx="1066680" cy="353880"/>
              <a:chOff x="1777680" y="2730600"/>
              <a:chExt cx="1066680" cy="353880"/>
            </a:xfrm>
          </p:grpSpPr>
          <p:grpSp>
            <p:nvGrpSpPr>
              <p:cNvPr id="133" name="Group 6"/>
              <p:cNvGrpSpPr/>
              <p:nvPr/>
            </p:nvGrpSpPr>
            <p:grpSpPr>
              <a:xfrm>
                <a:off x="1777680" y="2742480"/>
                <a:ext cx="1066680" cy="341640"/>
                <a:chOff x="1777680" y="2742480"/>
                <a:chExt cx="1066680" cy="341640"/>
              </a:xfrm>
            </p:grpSpPr>
            <p:sp>
              <p:nvSpPr>
                <p:cNvPr id="134" name="Arc 7"/>
                <p:cNvSpPr/>
                <p:nvPr/>
              </p:nvSpPr>
              <p:spPr>
                <a:xfrm rot="5400000">
                  <a:off x="2197440" y="2437200"/>
                  <a:ext cx="227160" cy="106668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fill="none" w="28356" h="43200">
                      <a:moveTo>
                        <a:pt x="-1" y="1083"/>
                      </a:moveTo>
                      <a:cubicBezTo>
                        <a:pt x="2180" y="365"/>
                        <a:pt x="4460" y="-1"/>
                        <a:pt x="6756" y="0"/>
                      </a:cubicBezTo>
                      <a:cubicBezTo>
                        <a:pt x="18685" y="0"/>
                        <a:pt x="28356" y="9670"/>
                        <a:pt x="28356" y="21600"/>
                      </a:cubicBezTo>
                      <a:cubicBezTo>
                        <a:pt x="28356" y="33529"/>
                        <a:pt x="18685" y="43200"/>
                        <a:pt x="6756" y="43200"/>
                      </a:cubicBezTo>
                      <a:cubicBezTo>
                        <a:pt x="5068" y="43200"/>
                        <a:pt x="3385" y="43002"/>
                        <a:pt x="1744" y="42610"/>
                      </a:cubicBezTo>
                    </a:path>
                    <a:path stroke="0" w="28356" h="43200">
                      <a:moveTo>
                        <a:pt x="-1" y="1083"/>
                      </a:moveTo>
                      <a:cubicBezTo>
                        <a:pt x="2180" y="365"/>
                        <a:pt x="4460" y="-1"/>
                        <a:pt x="6756" y="0"/>
                      </a:cubicBezTo>
                      <a:cubicBezTo>
                        <a:pt x="18685" y="0"/>
                        <a:pt x="28356" y="9670"/>
                        <a:pt x="28356" y="21600"/>
                      </a:cubicBezTo>
                      <a:cubicBezTo>
                        <a:pt x="28356" y="33529"/>
                        <a:pt x="18685" y="43200"/>
                        <a:pt x="6756" y="43200"/>
                      </a:cubicBezTo>
                      <a:cubicBezTo>
                        <a:pt x="5068" y="43200"/>
                        <a:pt x="3385" y="43002"/>
                        <a:pt x="1744" y="42610"/>
                      </a:cubicBezTo>
                      <a:lnTo>
                        <a:pt x="6756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8"/>
                <p:cNvSpPr/>
                <p:nvPr/>
              </p:nvSpPr>
              <p:spPr>
                <a:xfrm flipV="1" rot="16200000">
                  <a:off x="2233800" y="2292120"/>
                  <a:ext cx="158760" cy="105840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1058400"/>
                    <a:gd name="textAreaBottom" fmla="*/ 1058400 h 1058400"/>
                  </a:gdLst>
                  <a:ahLst/>
                  <a:rect l="textAreaLeft" t="textAreaTop" r="textAreaRight" b="textAreaBottom"/>
                  <a:pathLst>
                    <a:path fill="none" w="21696" h="43200">
                      <a:moveTo>
                        <a:pt x="96" y="0"/>
                      </a:moveTo>
                      <a:cubicBezTo>
                        <a:pt x="12025" y="0"/>
                        <a:pt x="21696" y="9670"/>
                        <a:pt x="21696" y="21600"/>
                      </a:cubicBezTo>
                      <a:cubicBezTo>
                        <a:pt x="21696" y="-32007"/>
                        <a:pt x="12025" y="-22336"/>
                        <a:pt x="96" y="-22336"/>
                      </a:cubicBezTo>
                      <a:cubicBezTo>
                        <a:pt x="64" y="-22336"/>
                        <a:pt x="32" y="-22337"/>
                        <a:pt x="0" y="-22337"/>
                      </a:cubicBezTo>
                    </a:path>
                    <a:path stroke="0" w="21696" h="43200">
                      <a:moveTo>
                        <a:pt x="96" y="0"/>
                      </a:moveTo>
                      <a:cubicBezTo>
                        <a:pt x="12025" y="0"/>
                        <a:pt x="21696" y="9670"/>
                        <a:pt x="21696" y="21600"/>
                      </a:cubicBezTo>
                      <a:cubicBezTo>
                        <a:pt x="21696" y="-32007"/>
                        <a:pt x="12025" y="-22336"/>
                        <a:pt x="96" y="-22336"/>
                      </a:cubicBezTo>
                      <a:cubicBezTo>
                        <a:pt x="64" y="-22336"/>
                        <a:pt x="32" y="-22337"/>
                        <a:pt x="0" y="-22337"/>
                      </a:cubicBezTo>
                      <a:lnTo>
                        <a:pt x="96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Oval 9"/>
              <p:cNvSpPr/>
              <p:nvPr/>
            </p:nvSpPr>
            <p:spPr>
              <a:xfrm>
                <a:off x="1787760" y="2730600"/>
                <a:ext cx="1056600" cy="353880"/>
              </a:xfrm>
              <a:prstGeom prst="ellipse">
                <a:avLst/>
              </a:prstGeom>
              <a:solidFill>
                <a:srgbClr val="ff0000">
                  <a:alpha val="2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0"/>
              <p:cNvSpPr/>
              <p:nvPr/>
            </p:nvSpPr>
            <p:spPr>
              <a:xfrm>
                <a:off x="2271600" y="28767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47"/>
            <p:cNvSpPr/>
            <p:nvPr/>
          </p:nvSpPr>
          <p:spPr>
            <a:xfrm>
              <a:off x="2266200" y="2627280"/>
              <a:ext cx="46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40" name="Freeform 12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129240" y="540720"/>
              <a:ext cx="19800" cy="5763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Freeform 43"/>
          <p:cNvSpPr/>
          <p:nvPr/>
        </p:nvSpPr>
        <p:spPr>
          <a:xfrm>
            <a:off x="1003320" y="2879640"/>
            <a:ext cx="782640" cy="2170080"/>
          </a:xfrm>
          <a:custGeom>
            <a:avLst/>
            <a:gdLst>
              <a:gd name="textAreaLeft" fmla="*/ 0 w 782640"/>
              <a:gd name="textAreaRight" fmla="*/ 783000 w 782640"/>
              <a:gd name="textAreaTop" fmla="*/ 0 h 2170080"/>
              <a:gd name="textAreaBottom" fmla="*/ 2170440 h 2170080"/>
            </a:gdLst>
            <a:ahLst/>
            <a:rect l="textAreaLeft" t="textAreaTop" r="textAreaRight" b="textAreaBottom"/>
            <a:pathLst>
              <a:path w="493" h="1367">
                <a:moveTo>
                  <a:pt x="493" y="0"/>
                </a:moveTo>
                <a:lnTo>
                  <a:pt x="0" y="13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988920" y="2863800"/>
            <a:ext cx="2684520" cy="283680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2836800"/>
              <a:gd name="textAreaBottom" fmla="*/ 2836800 h 2836800"/>
            </a:gdLst>
            <a:ahLst/>
            <a:rect l="textAreaLeft" t="textAreaTop" r="textAreaRight" b="textAreaBottom"/>
            <a:pathLst>
              <a:path w="1691" h="1787">
                <a:moveTo>
                  <a:pt x="985" y="131"/>
                </a:moveTo>
                <a:cubicBezTo>
                  <a:pt x="1037" y="122"/>
                  <a:pt x="1107" y="98"/>
                  <a:pt x="1139" y="83"/>
                </a:cubicBezTo>
                <a:cubicBezTo>
                  <a:pt x="1171" y="68"/>
                  <a:pt x="1164" y="38"/>
                  <a:pt x="1175" y="43"/>
                </a:cubicBezTo>
                <a:cubicBezTo>
                  <a:pt x="1186" y="48"/>
                  <a:pt x="1161" y="0"/>
                  <a:pt x="1203" y="113"/>
                </a:cubicBezTo>
                <a:cubicBezTo>
                  <a:pt x="1245" y="226"/>
                  <a:pt x="1359" y="534"/>
                  <a:pt x="1429" y="719"/>
                </a:cubicBezTo>
                <a:cubicBezTo>
                  <a:pt x="1499" y="904"/>
                  <a:pt x="1582" y="1112"/>
                  <a:pt x="1623" y="1223"/>
                </a:cubicBezTo>
                <a:cubicBezTo>
                  <a:pt x="1664" y="1334"/>
                  <a:pt x="1667" y="1346"/>
                  <a:pt x="1677" y="1385"/>
                </a:cubicBezTo>
                <a:cubicBezTo>
                  <a:pt x="1687" y="1424"/>
                  <a:pt x="1691" y="1425"/>
                  <a:pt x="1681" y="1455"/>
                </a:cubicBezTo>
                <a:cubicBezTo>
                  <a:pt x="1671" y="1485"/>
                  <a:pt x="1652" y="1529"/>
                  <a:pt x="1617" y="1563"/>
                </a:cubicBezTo>
                <a:cubicBezTo>
                  <a:pt x="1582" y="1597"/>
                  <a:pt x="1530" y="1630"/>
                  <a:pt x="1473" y="1659"/>
                </a:cubicBezTo>
                <a:cubicBezTo>
                  <a:pt x="1416" y="1688"/>
                  <a:pt x="1347" y="1720"/>
                  <a:pt x="1273" y="1739"/>
                </a:cubicBezTo>
                <a:cubicBezTo>
                  <a:pt x="1199" y="1758"/>
                  <a:pt x="1125" y="1764"/>
                  <a:pt x="1031" y="1771"/>
                </a:cubicBezTo>
                <a:cubicBezTo>
                  <a:pt x="937" y="1778"/>
                  <a:pt x="814" y="1787"/>
                  <a:pt x="710" y="1780"/>
                </a:cubicBezTo>
                <a:cubicBezTo>
                  <a:pt x="606" y="1773"/>
                  <a:pt x="495" y="1754"/>
                  <a:pt x="405" y="1730"/>
                </a:cubicBezTo>
                <a:cubicBezTo>
                  <a:pt x="315" y="1706"/>
                  <a:pt x="234" y="1687"/>
                  <a:pt x="169" y="1635"/>
                </a:cubicBezTo>
                <a:cubicBezTo>
                  <a:pt x="104" y="1583"/>
                  <a:pt x="0" y="1582"/>
                  <a:pt x="17" y="1419"/>
                </a:cubicBezTo>
                <a:cubicBezTo>
                  <a:pt x="34" y="1256"/>
                  <a:pt x="198" y="876"/>
                  <a:pt x="273" y="659"/>
                </a:cubicBezTo>
                <a:cubicBezTo>
                  <a:pt x="348" y="442"/>
                  <a:pt x="428" y="220"/>
                  <a:pt x="465" y="119"/>
                </a:cubicBezTo>
                <a:cubicBezTo>
                  <a:pt x="502" y="18"/>
                  <a:pt x="483" y="56"/>
                  <a:pt x="495" y="51"/>
                </a:cubicBezTo>
                <a:cubicBezTo>
                  <a:pt x="507" y="46"/>
                  <a:pt x="513" y="79"/>
                  <a:pt x="539" y="91"/>
                </a:cubicBezTo>
                <a:cubicBezTo>
                  <a:pt x="565" y="103"/>
                  <a:pt x="605" y="117"/>
                  <a:pt x="653" y="125"/>
                </a:cubicBezTo>
                <a:cubicBezTo>
                  <a:pt x="701" y="133"/>
                  <a:pt x="770" y="138"/>
                  <a:pt x="825" y="139"/>
                </a:cubicBezTo>
                <a:cubicBezTo>
                  <a:pt x="880" y="140"/>
                  <a:pt x="936" y="142"/>
                  <a:pt x="985" y="131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68235"/>
                </a:srgbClr>
              </a:gs>
              <a:gs pos="50000">
                <a:srgbClr val="f1f8f9">
                  <a:alpha val="47058"/>
                </a:srgbClr>
              </a:gs>
              <a:gs pos="100000">
                <a:srgbClr val="bbe0e3">
                  <a:alpha val="6823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8"/>
          <p:cNvGrpSpPr/>
          <p:nvPr/>
        </p:nvGrpSpPr>
        <p:grpSpPr>
          <a:xfrm>
            <a:off x="1003320" y="1052640"/>
            <a:ext cx="2725560" cy="4647960"/>
            <a:chOff x="1003320" y="1052640"/>
            <a:chExt cx="2725560" cy="4647960"/>
          </a:xfrm>
        </p:grpSpPr>
        <p:sp>
          <p:nvSpPr>
            <p:cNvPr id="151" name="Freeform 45"/>
            <p:cNvSpPr/>
            <p:nvPr/>
          </p:nvSpPr>
          <p:spPr>
            <a:xfrm>
              <a:off x="1003320" y="1484280"/>
              <a:ext cx="2725560" cy="4216320"/>
            </a:xfrm>
            <a:custGeom>
              <a:avLst/>
              <a:gdLst>
                <a:gd name="textAreaLeft" fmla="*/ 0 w 2725560"/>
                <a:gd name="textAreaRight" fmla="*/ 2725920 w 2725560"/>
                <a:gd name="textAreaTop" fmla="*/ 0 h 4216320"/>
                <a:gd name="textAreaBottom" fmla="*/ 4216680 h 4216320"/>
              </a:gdLst>
              <a:ahLst/>
              <a:rect l="textAreaLeft" t="textAreaTop" r="textAreaRight" b="textAreaBottom"/>
              <a:pathLst>
                <a:path w="1717" h="2656">
                  <a:moveTo>
                    <a:pt x="1182" y="928"/>
                  </a:moveTo>
                  <a:cubicBezTo>
                    <a:pt x="1276" y="1161"/>
                    <a:pt x="1378" y="1410"/>
                    <a:pt x="1465" y="1639"/>
                  </a:cubicBezTo>
                  <a:cubicBezTo>
                    <a:pt x="1552" y="1868"/>
                    <a:pt x="1687" y="2162"/>
                    <a:pt x="1702" y="2302"/>
                  </a:cubicBezTo>
                  <a:cubicBezTo>
                    <a:pt x="1717" y="2442"/>
                    <a:pt x="1605" y="2438"/>
                    <a:pt x="1558" y="2481"/>
                  </a:cubicBezTo>
                  <a:cubicBezTo>
                    <a:pt x="1511" y="2524"/>
                    <a:pt x="1506" y="2537"/>
                    <a:pt x="1420" y="2563"/>
                  </a:cubicBezTo>
                  <a:cubicBezTo>
                    <a:pt x="1334" y="2589"/>
                    <a:pt x="1160" y="2626"/>
                    <a:pt x="1044" y="2640"/>
                  </a:cubicBezTo>
                  <a:cubicBezTo>
                    <a:pt x="928" y="2654"/>
                    <a:pt x="827" y="2656"/>
                    <a:pt x="723" y="2649"/>
                  </a:cubicBezTo>
                  <a:cubicBezTo>
                    <a:pt x="619" y="2642"/>
                    <a:pt x="511" y="2624"/>
                    <a:pt x="418" y="2599"/>
                  </a:cubicBezTo>
                  <a:cubicBezTo>
                    <a:pt x="325" y="2574"/>
                    <a:pt x="233" y="2549"/>
                    <a:pt x="166" y="2497"/>
                  </a:cubicBezTo>
                  <a:cubicBezTo>
                    <a:pt x="99" y="2445"/>
                    <a:pt x="0" y="2439"/>
                    <a:pt x="16" y="2287"/>
                  </a:cubicBezTo>
                  <a:cubicBezTo>
                    <a:pt x="32" y="2135"/>
                    <a:pt x="172" y="1834"/>
                    <a:pt x="259" y="1585"/>
                  </a:cubicBezTo>
                  <a:cubicBezTo>
                    <a:pt x="346" y="1336"/>
                    <a:pt x="458" y="1016"/>
                    <a:pt x="536" y="792"/>
                  </a:cubicBezTo>
                  <a:cubicBezTo>
                    <a:pt x="614" y="568"/>
                    <a:pt x="679" y="372"/>
                    <a:pt x="728" y="240"/>
                  </a:cubicBezTo>
                  <a:cubicBezTo>
                    <a:pt x="777" y="108"/>
                    <a:pt x="803" y="0"/>
                    <a:pt x="832" y="0"/>
                  </a:cubicBezTo>
                  <a:cubicBezTo>
                    <a:pt x="861" y="0"/>
                    <a:pt x="846" y="85"/>
                    <a:pt x="904" y="240"/>
                  </a:cubicBezTo>
                  <a:cubicBezTo>
                    <a:pt x="962" y="395"/>
                    <a:pt x="1088" y="695"/>
                    <a:pt x="1182" y="928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68235"/>
                  </a:srgbClr>
                </a:gs>
                <a:gs pos="50000">
                  <a:srgbClr val="f1f8f9">
                    <a:alpha val="47058"/>
                  </a:srgbClr>
                </a:gs>
                <a:gs pos="100000">
                  <a:srgbClr val="bbe0e3">
                    <a:alpha val="68235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2311200" y="1467000"/>
              <a:ext cx="1080" cy="3663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63720"/>
                <a:gd name="textAreaBottom" fmla="*/ 3664080 h 3663720"/>
              </a:gdLst>
              <a:ahLst/>
              <a:rect l="textAreaLeft" t="textAreaTop" r="textAreaRight" b="textAreaBottom"/>
              <a:pathLst>
                <a:path w="1" h="2308">
                  <a:moveTo>
                    <a:pt x="0" y="0"/>
                  </a:moveTo>
                  <a:lnTo>
                    <a:pt x="0" y="23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0"/>
            <p:cNvSpPr/>
            <p:nvPr/>
          </p:nvSpPr>
          <p:spPr>
            <a:xfrm>
              <a:off x="2313000" y="1052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4"/>
            <p:cNvSpPr/>
            <p:nvPr/>
          </p:nvSpPr>
          <p:spPr>
            <a:xfrm>
              <a:off x="1790640" y="1460520"/>
              <a:ext cx="1066320" cy="144612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672" h="911">
                  <a:moveTo>
                    <a:pt x="672" y="911"/>
                  </a:moveTo>
                  <a:lnTo>
                    <a:pt x="327" y="0"/>
                  </a:lnTo>
                  <a:lnTo>
                    <a:pt x="0" y="8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Freeform 44"/>
          <p:cNvSpPr/>
          <p:nvPr/>
        </p:nvSpPr>
        <p:spPr>
          <a:xfrm>
            <a:off x="2854440" y="2903400"/>
            <a:ext cx="809640" cy="2146320"/>
          </a:xfrm>
          <a:custGeom>
            <a:avLst/>
            <a:gdLst>
              <a:gd name="textAreaLeft" fmla="*/ 0 w 809640"/>
              <a:gd name="textAreaRight" fmla="*/ 810000 w 80964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510" h="1352">
                <a:moveTo>
                  <a:pt x="0" y="0"/>
                </a:moveTo>
                <a:lnTo>
                  <a:pt x="510" y="13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1"/>
          <p:cNvGrpSpPr/>
          <p:nvPr/>
        </p:nvGrpSpPr>
        <p:grpSpPr>
          <a:xfrm>
            <a:off x="990360" y="4572000"/>
            <a:ext cx="2679480" cy="1128240"/>
            <a:chOff x="990360" y="4572000"/>
            <a:chExt cx="2679480" cy="1128240"/>
          </a:xfrm>
        </p:grpSpPr>
        <p:sp>
          <p:nvSpPr>
            <p:cNvPr id="157" name="Arc 22"/>
            <p:cNvSpPr/>
            <p:nvPr/>
          </p:nvSpPr>
          <p:spPr>
            <a:xfrm rot="5400000">
              <a:off x="1955520" y="3985920"/>
              <a:ext cx="748800" cy="267948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0 h 2679480"/>
                <a:gd name="textAreaBottom" fmla="*/ 2679840 h 267948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rc 23"/>
            <p:cNvSpPr/>
            <p:nvPr/>
          </p:nvSpPr>
          <p:spPr>
            <a:xfrm flipV="1" rot="16200000">
              <a:off x="2072880" y="3503880"/>
              <a:ext cx="524160" cy="2660400"/>
            </a:xfrm>
            <a:custGeom>
              <a:avLst/>
              <a:gdLst>
                <a:gd name="textAreaLeft" fmla="*/ 0 w 524160"/>
                <a:gd name="textAreaRight" fmla="*/ 524160 w 524160"/>
                <a:gd name="textAreaTop" fmla="*/ 360 h 2660400"/>
                <a:gd name="textAreaBottom" fmla="*/ 2661120 h 266040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52"/>
          <p:cNvGrpSpPr/>
          <p:nvPr/>
        </p:nvGrpSpPr>
        <p:grpSpPr>
          <a:xfrm>
            <a:off x="1765080" y="2742840"/>
            <a:ext cx="1066680" cy="341640"/>
            <a:chOff x="1765080" y="2742840"/>
            <a:chExt cx="1066680" cy="341640"/>
          </a:xfrm>
        </p:grpSpPr>
        <p:sp>
          <p:nvSpPr>
            <p:cNvPr id="160" name="Arc 53"/>
            <p:cNvSpPr/>
            <p:nvPr/>
          </p:nvSpPr>
          <p:spPr>
            <a:xfrm rot="5400000">
              <a:off x="2184840" y="2437560"/>
              <a:ext cx="227160" cy="10666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rc 54"/>
            <p:cNvSpPr/>
            <p:nvPr/>
          </p:nvSpPr>
          <p:spPr>
            <a:xfrm flipV="1" rot="16200000">
              <a:off x="2221200" y="2292480"/>
              <a:ext cx="158760" cy="10584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8400"/>
                <a:gd name="textAreaBottom" fmla="*/ 1058400 h 105840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58"/>
          <p:cNvSpPr/>
          <p:nvPr/>
        </p:nvSpPr>
        <p:spPr>
          <a:xfrm>
            <a:off x="681120" y="22860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сеченный кону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0"/>
          <p:cNvGrpSpPr/>
          <p:nvPr/>
        </p:nvGrpSpPr>
        <p:grpSpPr>
          <a:xfrm>
            <a:off x="2793960" y="2133720"/>
            <a:ext cx="2184480" cy="2819160"/>
            <a:chOff x="2793960" y="2133720"/>
            <a:chExt cx="2184480" cy="2819160"/>
          </a:xfrm>
        </p:grpSpPr>
        <p:sp>
          <p:nvSpPr>
            <p:cNvPr id="164" name="Freeform 21"/>
            <p:cNvSpPr/>
            <p:nvPr/>
          </p:nvSpPr>
          <p:spPr>
            <a:xfrm>
              <a:off x="2819520" y="2133720"/>
              <a:ext cx="2133360" cy="281916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1344" h="1776">
                  <a:moveTo>
                    <a:pt x="0" y="0"/>
                  </a:moveTo>
                  <a:lnTo>
                    <a:pt x="528" y="48"/>
                  </a:lnTo>
                  <a:lnTo>
                    <a:pt x="1344" y="17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806560" y="4788000"/>
              <a:ext cx="2171880" cy="164880"/>
            </a:xfrm>
            <a:custGeom>
              <a:avLst/>
              <a:gdLst>
                <a:gd name="textAreaLeft" fmla="*/ 0 w 2171880"/>
                <a:gd name="textAreaRight" fmla="*/ 2172240 w 2171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368" h="104">
                  <a:moveTo>
                    <a:pt x="0" y="0"/>
                  </a:moveTo>
                  <a:lnTo>
                    <a:pt x="1368" y="1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2793960" y="2158920"/>
              <a:ext cx="2158920" cy="27939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793960"/>
                <a:gd name="textAreaBottom" fmla="*/ 2794320 h 2793960"/>
              </a:gdLst>
              <a:ahLst/>
              <a:rect l="textAreaLeft" t="textAreaTop" r="textAreaRight" b="textAreaBottom"/>
              <a:pathLst>
                <a:path w="1360" h="1760">
                  <a:moveTo>
                    <a:pt x="0" y="0"/>
                  </a:moveTo>
                  <a:lnTo>
                    <a:pt x="544" y="32"/>
                  </a:lnTo>
                  <a:lnTo>
                    <a:pt x="1360" y="1760"/>
                  </a:lnTo>
                  <a:lnTo>
                    <a:pt x="8" y="16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reeform 43"/>
          <p:cNvSpPr/>
          <p:nvPr/>
        </p:nvSpPr>
        <p:spPr>
          <a:xfrm flipH="1">
            <a:off x="2819520" y="2133720"/>
            <a:ext cx="1689120" cy="3035160"/>
          </a:xfrm>
          <a:custGeom>
            <a:avLst/>
            <a:gdLst>
              <a:gd name="textAreaLeft" fmla="*/ 360 w 1689120"/>
              <a:gd name="textAreaRight" fmla="*/ 1689840 w 168912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064" h="1912">
                <a:moveTo>
                  <a:pt x="1064" y="0"/>
                </a:moveTo>
                <a:lnTo>
                  <a:pt x="656" y="88"/>
                </a:lnTo>
                <a:lnTo>
                  <a:pt x="0" y="1912"/>
                </a:lnTo>
                <a:lnTo>
                  <a:pt x="1064" y="1648"/>
                </a:lnTo>
                <a:lnTo>
                  <a:pt x="1064" y="0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 flipH="1">
            <a:off x="2805840" y="2133720"/>
            <a:ext cx="1047960" cy="3163680"/>
          </a:xfrm>
          <a:custGeom>
            <a:avLst/>
            <a:gdLst>
              <a:gd name="textAreaLeft" fmla="*/ -360 w 1047960"/>
              <a:gd name="textAreaRight" fmla="*/ 1047960 w 1047960"/>
              <a:gd name="textAreaTop" fmla="*/ 0 h 3163680"/>
              <a:gd name="textAreaBottom" fmla="*/ 3164040 h 3163680"/>
            </a:gdLst>
            <a:ahLst/>
            <a:rect l="textAreaLeft" t="textAreaTop" r="textAreaRight" b="textAreaBottom"/>
            <a:pathLst>
              <a:path w="660" h="1993">
                <a:moveTo>
                  <a:pt x="660" y="0"/>
                </a:moveTo>
                <a:lnTo>
                  <a:pt x="464" y="121"/>
                </a:lnTo>
                <a:lnTo>
                  <a:pt x="0" y="1993"/>
                </a:lnTo>
                <a:lnTo>
                  <a:pt x="656" y="1649"/>
                </a:lnTo>
                <a:lnTo>
                  <a:pt x="660" y="0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2819520" y="2133720"/>
            <a:ext cx="355320" cy="3238560"/>
          </a:xfrm>
          <a:custGeom>
            <a:avLst/>
            <a:gdLst>
              <a:gd name="textAreaLeft" fmla="*/ 0 w 355320"/>
              <a:gd name="textAreaRight" fmla="*/ 355680 w 355320"/>
              <a:gd name="textAreaTop" fmla="*/ 0 h 3238560"/>
              <a:gd name="textAreaBottom" fmla="*/ 3238920 h 3238560"/>
            </a:gdLst>
            <a:ahLst/>
            <a:rect l="textAreaLeft" t="textAreaTop" r="textAreaRight" b="textAreaBottom"/>
            <a:pathLst>
              <a:path w="224" h="2040">
                <a:moveTo>
                  <a:pt x="0" y="0"/>
                </a:moveTo>
                <a:lnTo>
                  <a:pt x="80" y="144"/>
                </a:lnTo>
                <a:lnTo>
                  <a:pt x="224" y="2040"/>
                </a:lnTo>
                <a:lnTo>
                  <a:pt x="4" y="1649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686520" y="228600"/>
            <a:ext cx="76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еченный кон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получен вращением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72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>
              <a:off x="129240" y="540720"/>
              <a:ext cx="19800" cy="5763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2422080" y="2138400"/>
            <a:ext cx="418320" cy="3026520"/>
            <a:chOff x="2422080" y="2138400"/>
            <a:chExt cx="418320" cy="3026520"/>
          </a:xfrm>
        </p:grpSpPr>
        <p:sp>
          <p:nvSpPr>
            <p:cNvPr id="181" name="Text Box 13"/>
            <p:cNvSpPr/>
            <p:nvPr/>
          </p:nvSpPr>
          <p:spPr>
            <a:xfrm>
              <a:off x="242208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2803680" y="2138400"/>
              <a:ext cx="2880" cy="26240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1" h="1424">
                  <a:moveTo>
                    <a:pt x="0" y="0"/>
                  </a:moveTo>
                  <a:lnTo>
                    <a:pt x="0" y="14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Freeform 15"/>
          <p:cNvSpPr/>
          <p:nvPr/>
        </p:nvSpPr>
        <p:spPr>
          <a:xfrm>
            <a:off x="633240" y="2122560"/>
            <a:ext cx="1311480" cy="2517840"/>
          </a:xfrm>
          <a:custGeom>
            <a:avLst/>
            <a:gdLst>
              <a:gd name="textAreaLeft" fmla="*/ 0 w 1311480"/>
              <a:gd name="textAreaRight" fmla="*/ 1311840 w 1311480"/>
              <a:gd name="textAreaTop" fmla="*/ 0 h 2517840"/>
              <a:gd name="textAreaBottom" fmla="*/ 2518200 h 2517840"/>
            </a:gdLst>
            <a:ahLst/>
            <a:rect l="textAreaLeft" t="textAreaTop" r="textAreaRight" b="textAreaBottom"/>
            <a:pathLst>
              <a:path w="493" h="1367">
                <a:moveTo>
                  <a:pt x="493" y="0"/>
                </a:moveTo>
                <a:lnTo>
                  <a:pt x="0" y="13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612720" y="4086000"/>
            <a:ext cx="4489200" cy="1309680"/>
            <a:chOff x="612720" y="4086000"/>
            <a:chExt cx="4489200" cy="1309680"/>
          </a:xfrm>
        </p:grpSpPr>
        <p:sp>
          <p:nvSpPr>
            <p:cNvPr id="185" name="Arc 17"/>
            <p:cNvSpPr/>
            <p:nvPr/>
          </p:nvSpPr>
          <p:spPr>
            <a:xfrm rot="5400000">
              <a:off x="2422440" y="2715840"/>
              <a:ext cx="869760" cy="44892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4489200"/>
                <a:gd name="textAreaBottom" fmla="*/ 4489560 h 448920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rc 18"/>
            <p:cNvSpPr/>
            <p:nvPr/>
          </p:nvSpPr>
          <p:spPr>
            <a:xfrm flipV="1" rot="16200000">
              <a:off x="2561040" y="2161080"/>
              <a:ext cx="608040" cy="445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-360 h 4457160"/>
                <a:gd name="textAreaBottom" fmla="*/ 4457160 h 44571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Freeform 19"/>
          <p:cNvSpPr/>
          <p:nvPr/>
        </p:nvSpPr>
        <p:spPr>
          <a:xfrm>
            <a:off x="3735360" y="2149560"/>
            <a:ext cx="1355760" cy="249084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2490840"/>
              <a:gd name="textAreaBottom" fmla="*/ 2491200 h 2490840"/>
            </a:gdLst>
            <a:ahLst/>
            <a:rect l="textAreaLeft" t="textAreaTop" r="textAreaRight" b="textAreaBottom"/>
            <a:pathLst>
              <a:path w="510" h="1352">
                <a:moveTo>
                  <a:pt x="0" y="0"/>
                </a:moveTo>
                <a:lnTo>
                  <a:pt x="510" y="13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1943280" y="1955880"/>
            <a:ext cx="1769760" cy="411120"/>
          </a:xfrm>
          <a:prstGeom prst="ellipse">
            <a:avLst/>
          </a:prstGeom>
          <a:gradFill rotWithShape="0">
            <a:gsLst>
              <a:gs pos="0">
                <a:srgbClr val="00ffff">
                  <a:alpha val="55294"/>
                </a:srgbClr>
              </a:gs>
              <a:gs pos="100000">
                <a:srgbClr val="00ccff">
                  <a:alpha val="4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5"/>
          <p:cNvGrpSpPr/>
          <p:nvPr/>
        </p:nvGrpSpPr>
        <p:grpSpPr>
          <a:xfrm>
            <a:off x="1931760" y="1961640"/>
            <a:ext cx="1785960" cy="397440"/>
            <a:chOff x="1931760" y="1961640"/>
            <a:chExt cx="1785960" cy="397440"/>
          </a:xfrm>
        </p:grpSpPr>
        <p:sp>
          <p:nvSpPr>
            <p:cNvPr id="190" name="Arc 26"/>
            <p:cNvSpPr/>
            <p:nvPr/>
          </p:nvSpPr>
          <p:spPr>
            <a:xfrm rot="5400000">
              <a:off x="2692800" y="1333800"/>
              <a:ext cx="263880" cy="1785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1785960"/>
                <a:gd name="textAreaBottom" fmla="*/ 1786320 h 178596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rc 27"/>
            <p:cNvSpPr/>
            <p:nvPr/>
          </p:nvSpPr>
          <p:spPr>
            <a:xfrm flipV="1" rot="16200000">
              <a:off x="2736000" y="1166400"/>
              <a:ext cx="183960" cy="1773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360 h 1773360"/>
                <a:gd name="textAreaBottom" fmla="*/ 1774080 h 17733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Oval 28"/>
          <p:cNvSpPr/>
          <p:nvPr/>
        </p:nvSpPr>
        <p:spPr>
          <a:xfrm>
            <a:off x="2768760" y="21081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598840" y="175248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1"/>
          <p:cNvGrpSpPr/>
          <p:nvPr/>
        </p:nvGrpSpPr>
        <p:grpSpPr>
          <a:xfrm>
            <a:off x="3619440" y="2184480"/>
            <a:ext cx="1384200" cy="2819160"/>
            <a:chOff x="3619440" y="2184480"/>
            <a:chExt cx="1384200" cy="2819160"/>
          </a:xfrm>
        </p:grpSpPr>
        <p:sp>
          <p:nvSpPr>
            <p:cNvPr id="195" name="Oval 32"/>
            <p:cNvSpPr/>
            <p:nvPr/>
          </p:nvSpPr>
          <p:spPr>
            <a:xfrm>
              <a:off x="3619440" y="21844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3"/>
            <p:cNvSpPr/>
            <p:nvPr/>
          </p:nvSpPr>
          <p:spPr>
            <a:xfrm>
              <a:off x="4927680" y="492768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Freeform 37"/>
          <p:cNvSpPr/>
          <p:nvPr/>
        </p:nvSpPr>
        <p:spPr>
          <a:xfrm>
            <a:off x="673200" y="2158920"/>
            <a:ext cx="2133360" cy="27687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2768760"/>
              <a:gd name="textAreaBottom" fmla="*/ 2768760 h 2768760"/>
            </a:gdLst>
            <a:ahLst/>
            <a:rect l="textAreaLeft" t="textAreaTop" r="textAreaRight" b="textAreaBottom"/>
            <a:pathLst>
              <a:path w="1344" h="1744">
                <a:moveTo>
                  <a:pt x="1344" y="0"/>
                </a:moveTo>
                <a:lnTo>
                  <a:pt x="800" y="32"/>
                </a:lnTo>
                <a:lnTo>
                  <a:pt x="0" y="1744"/>
                </a:lnTo>
                <a:lnTo>
                  <a:pt x="1336" y="1656"/>
                </a:lnTo>
                <a:lnTo>
                  <a:pt x="1344" y="0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8"/>
          <p:cNvSpPr/>
          <p:nvPr/>
        </p:nvSpPr>
        <p:spPr>
          <a:xfrm>
            <a:off x="1117440" y="2146320"/>
            <a:ext cx="1689120" cy="303516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064" h="1912">
                <a:moveTo>
                  <a:pt x="1064" y="0"/>
                </a:moveTo>
                <a:lnTo>
                  <a:pt x="656" y="88"/>
                </a:lnTo>
                <a:lnTo>
                  <a:pt x="0" y="1912"/>
                </a:lnTo>
                <a:lnTo>
                  <a:pt x="1064" y="1648"/>
                </a:lnTo>
                <a:lnTo>
                  <a:pt x="1064" y="0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9"/>
          <p:cNvSpPr/>
          <p:nvPr/>
        </p:nvSpPr>
        <p:spPr>
          <a:xfrm>
            <a:off x="1752480" y="2157480"/>
            <a:ext cx="1047960" cy="3163680"/>
          </a:xfrm>
          <a:custGeom>
            <a:avLst/>
            <a:gdLst>
              <a:gd name="textAreaLeft" fmla="*/ 0 w 1047960"/>
              <a:gd name="textAreaRight" fmla="*/ 1048320 w 1047960"/>
              <a:gd name="textAreaTop" fmla="*/ 0 h 3163680"/>
              <a:gd name="textAreaBottom" fmla="*/ 3164040 h 3163680"/>
            </a:gdLst>
            <a:ahLst/>
            <a:rect l="textAreaLeft" t="textAreaTop" r="textAreaRight" b="textAreaBottom"/>
            <a:pathLst>
              <a:path w="660" h="1993">
                <a:moveTo>
                  <a:pt x="660" y="0"/>
                </a:moveTo>
                <a:lnTo>
                  <a:pt x="464" y="121"/>
                </a:lnTo>
                <a:lnTo>
                  <a:pt x="0" y="1993"/>
                </a:lnTo>
                <a:lnTo>
                  <a:pt x="656" y="1649"/>
                </a:lnTo>
                <a:lnTo>
                  <a:pt x="660" y="0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0"/>
          <p:cNvSpPr/>
          <p:nvPr/>
        </p:nvSpPr>
        <p:spPr>
          <a:xfrm>
            <a:off x="2413080" y="2171880"/>
            <a:ext cx="406440" cy="3225600"/>
          </a:xfrm>
          <a:custGeom>
            <a:avLst/>
            <a:gdLst>
              <a:gd name="textAreaLeft" fmla="*/ 0 w 406440"/>
              <a:gd name="textAreaRight" fmla="*/ 406800 w 406440"/>
              <a:gd name="textAreaTop" fmla="*/ 0 h 3225600"/>
              <a:gd name="textAreaBottom" fmla="*/ 3225960 h 3225600"/>
            </a:gdLst>
            <a:ahLst/>
            <a:rect l="textAreaLeft" t="textAreaTop" r="textAreaRight" b="textAreaBottom"/>
            <a:pathLst>
              <a:path w="256" h="2032">
                <a:moveTo>
                  <a:pt x="256" y="0"/>
                </a:moveTo>
                <a:lnTo>
                  <a:pt x="192" y="112"/>
                </a:lnTo>
                <a:lnTo>
                  <a:pt x="0" y="2032"/>
                </a:lnTo>
                <a:lnTo>
                  <a:pt x="248" y="1648"/>
                </a:lnTo>
                <a:lnTo>
                  <a:pt x="256" y="0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0"/>
          <p:cNvSpPr/>
          <p:nvPr/>
        </p:nvSpPr>
        <p:spPr>
          <a:xfrm>
            <a:off x="609480" y="2103480"/>
            <a:ext cx="4497480" cy="3292560"/>
          </a:xfrm>
          <a:custGeom>
            <a:avLst/>
            <a:gdLst>
              <a:gd name="textAreaLeft" fmla="*/ 0 w 4497480"/>
              <a:gd name="textAreaRight" fmla="*/ 4497840 w 449748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691" h="1787">
                <a:moveTo>
                  <a:pt x="985" y="131"/>
                </a:moveTo>
                <a:cubicBezTo>
                  <a:pt x="1037" y="122"/>
                  <a:pt x="1107" y="98"/>
                  <a:pt x="1139" y="83"/>
                </a:cubicBezTo>
                <a:cubicBezTo>
                  <a:pt x="1171" y="68"/>
                  <a:pt x="1164" y="38"/>
                  <a:pt x="1175" y="43"/>
                </a:cubicBezTo>
                <a:cubicBezTo>
                  <a:pt x="1186" y="48"/>
                  <a:pt x="1161" y="0"/>
                  <a:pt x="1203" y="113"/>
                </a:cubicBezTo>
                <a:cubicBezTo>
                  <a:pt x="1245" y="226"/>
                  <a:pt x="1359" y="534"/>
                  <a:pt x="1429" y="719"/>
                </a:cubicBezTo>
                <a:cubicBezTo>
                  <a:pt x="1499" y="904"/>
                  <a:pt x="1582" y="1112"/>
                  <a:pt x="1623" y="1223"/>
                </a:cubicBezTo>
                <a:cubicBezTo>
                  <a:pt x="1664" y="1334"/>
                  <a:pt x="1667" y="1346"/>
                  <a:pt x="1677" y="1385"/>
                </a:cubicBezTo>
                <a:cubicBezTo>
                  <a:pt x="1687" y="1424"/>
                  <a:pt x="1691" y="1425"/>
                  <a:pt x="1681" y="1455"/>
                </a:cubicBezTo>
                <a:cubicBezTo>
                  <a:pt x="1671" y="1485"/>
                  <a:pt x="1652" y="1529"/>
                  <a:pt x="1617" y="1563"/>
                </a:cubicBezTo>
                <a:cubicBezTo>
                  <a:pt x="1582" y="1597"/>
                  <a:pt x="1530" y="1630"/>
                  <a:pt x="1473" y="1659"/>
                </a:cubicBezTo>
                <a:cubicBezTo>
                  <a:pt x="1416" y="1688"/>
                  <a:pt x="1347" y="1720"/>
                  <a:pt x="1273" y="1739"/>
                </a:cubicBezTo>
                <a:cubicBezTo>
                  <a:pt x="1199" y="1758"/>
                  <a:pt x="1125" y="1764"/>
                  <a:pt x="1031" y="1771"/>
                </a:cubicBezTo>
                <a:cubicBezTo>
                  <a:pt x="937" y="1778"/>
                  <a:pt x="814" y="1787"/>
                  <a:pt x="710" y="1780"/>
                </a:cubicBezTo>
                <a:cubicBezTo>
                  <a:pt x="606" y="1773"/>
                  <a:pt x="495" y="1754"/>
                  <a:pt x="405" y="1730"/>
                </a:cubicBezTo>
                <a:cubicBezTo>
                  <a:pt x="315" y="1706"/>
                  <a:pt x="234" y="1687"/>
                  <a:pt x="169" y="1635"/>
                </a:cubicBezTo>
                <a:cubicBezTo>
                  <a:pt x="104" y="1583"/>
                  <a:pt x="0" y="1582"/>
                  <a:pt x="17" y="1419"/>
                </a:cubicBezTo>
                <a:cubicBezTo>
                  <a:pt x="34" y="1256"/>
                  <a:pt x="198" y="876"/>
                  <a:pt x="273" y="659"/>
                </a:cubicBezTo>
                <a:cubicBezTo>
                  <a:pt x="348" y="442"/>
                  <a:pt x="428" y="220"/>
                  <a:pt x="465" y="119"/>
                </a:cubicBezTo>
                <a:cubicBezTo>
                  <a:pt x="502" y="18"/>
                  <a:pt x="483" y="56"/>
                  <a:pt x="495" y="51"/>
                </a:cubicBezTo>
                <a:cubicBezTo>
                  <a:pt x="507" y="46"/>
                  <a:pt x="513" y="79"/>
                  <a:pt x="539" y="91"/>
                </a:cubicBezTo>
                <a:cubicBezTo>
                  <a:pt x="565" y="103"/>
                  <a:pt x="605" y="117"/>
                  <a:pt x="653" y="125"/>
                </a:cubicBezTo>
                <a:cubicBezTo>
                  <a:pt x="701" y="133"/>
                  <a:pt x="770" y="138"/>
                  <a:pt x="825" y="139"/>
                </a:cubicBezTo>
                <a:cubicBezTo>
                  <a:pt x="880" y="140"/>
                  <a:pt x="936" y="142"/>
                  <a:pt x="985" y="131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50000">
                <a:srgbClr val="f1f8f9">
                  <a:alpha val="27058"/>
                </a:srgbClr>
              </a:gs>
              <a:gs pos="100000">
                <a:srgbClr val="bbe0e3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6"/>
          <p:cNvGrpSpPr/>
          <p:nvPr/>
        </p:nvGrpSpPr>
        <p:grpSpPr>
          <a:xfrm>
            <a:off x="612720" y="4086000"/>
            <a:ext cx="4489200" cy="1309680"/>
            <a:chOff x="612720" y="4086000"/>
            <a:chExt cx="4489200" cy="1309680"/>
          </a:xfrm>
        </p:grpSpPr>
        <p:sp>
          <p:nvSpPr>
            <p:cNvPr id="203" name="Arc 17"/>
            <p:cNvSpPr/>
            <p:nvPr/>
          </p:nvSpPr>
          <p:spPr>
            <a:xfrm rot="5400000">
              <a:off x="2422440" y="2715840"/>
              <a:ext cx="869760" cy="44892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4489200"/>
                <a:gd name="textAreaBottom" fmla="*/ 4489560 h 448920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rc 18"/>
            <p:cNvSpPr/>
            <p:nvPr/>
          </p:nvSpPr>
          <p:spPr>
            <a:xfrm flipV="1" rot="16200000">
              <a:off x="2561040" y="2161080"/>
              <a:ext cx="608040" cy="445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-360 h 4457160"/>
                <a:gd name="textAreaBottom" fmla="*/ 4457160 h 44571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2"/>
          <p:cNvSpPr/>
          <p:nvPr/>
        </p:nvSpPr>
        <p:spPr>
          <a:xfrm>
            <a:off x="686520" y="228600"/>
            <a:ext cx="76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еченный кон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получен вращением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07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7"/>
            <p:cNvSpPr/>
            <p:nvPr/>
          </p:nvSpPr>
          <p:spPr>
            <a:xfrm>
              <a:off x="129240" y="540720"/>
              <a:ext cx="19800" cy="5763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Freeform 15"/>
          <p:cNvSpPr/>
          <p:nvPr/>
        </p:nvSpPr>
        <p:spPr>
          <a:xfrm>
            <a:off x="633240" y="2122560"/>
            <a:ext cx="1311480" cy="2517840"/>
          </a:xfrm>
          <a:custGeom>
            <a:avLst/>
            <a:gdLst>
              <a:gd name="textAreaLeft" fmla="*/ 0 w 1311480"/>
              <a:gd name="textAreaRight" fmla="*/ 1311840 w 1311480"/>
              <a:gd name="textAreaTop" fmla="*/ 0 h 2517840"/>
              <a:gd name="textAreaBottom" fmla="*/ 2518200 h 2517840"/>
            </a:gdLst>
            <a:ahLst/>
            <a:rect l="textAreaLeft" t="textAreaTop" r="textAreaRight" b="textAreaBottom"/>
            <a:pathLst>
              <a:path w="493" h="1367">
                <a:moveTo>
                  <a:pt x="493" y="0"/>
                </a:moveTo>
                <a:lnTo>
                  <a:pt x="0" y="13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3"/>
          <p:cNvGrpSpPr/>
          <p:nvPr/>
        </p:nvGrpSpPr>
        <p:grpSpPr>
          <a:xfrm>
            <a:off x="736560" y="2057400"/>
            <a:ext cx="4241880" cy="2895480"/>
            <a:chOff x="736560" y="2057400"/>
            <a:chExt cx="4241880" cy="2895480"/>
          </a:xfrm>
        </p:grpSpPr>
        <p:sp>
          <p:nvSpPr>
            <p:cNvPr id="217" name="Freeform 21"/>
            <p:cNvSpPr/>
            <p:nvPr/>
          </p:nvSpPr>
          <p:spPr>
            <a:xfrm>
              <a:off x="2819520" y="2133720"/>
              <a:ext cx="2133360" cy="281916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1344" h="1776">
                  <a:moveTo>
                    <a:pt x="0" y="0"/>
                  </a:moveTo>
                  <a:lnTo>
                    <a:pt x="528" y="48"/>
                  </a:lnTo>
                  <a:lnTo>
                    <a:pt x="1344" y="17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2793960" y="4737240"/>
              <a:ext cx="2184480" cy="215640"/>
            </a:xfrm>
            <a:custGeom>
              <a:avLst/>
              <a:gdLst>
                <a:gd name="textAreaLeft" fmla="*/ 0 w 2184480"/>
                <a:gd name="textAreaRight" fmla="*/ 2184840 w 21844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76" h="136">
                  <a:moveTo>
                    <a:pt x="0" y="0"/>
                  </a:moveTo>
                  <a:lnTo>
                    <a:pt x="1376" y="1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736560" y="2057400"/>
              <a:ext cx="4216320" cy="2895480"/>
            </a:xfrm>
            <a:custGeom>
              <a:avLst/>
              <a:gdLst>
                <a:gd name="textAreaLeft" fmla="*/ 0 w 4216320"/>
                <a:gd name="textAreaRight" fmla="*/ 4216680 w 4216320"/>
                <a:gd name="textAreaTop" fmla="*/ 0 h 2895480"/>
                <a:gd name="textAreaBottom" fmla="*/ 2895840 h 2895480"/>
              </a:gdLst>
              <a:ahLst/>
              <a:rect l="textAreaLeft" t="textAreaTop" r="textAreaRight" b="textAreaBottom"/>
              <a:pathLst>
                <a:path w="2656" h="1824">
                  <a:moveTo>
                    <a:pt x="824" y="0"/>
                  </a:moveTo>
                  <a:lnTo>
                    <a:pt x="1840" y="96"/>
                  </a:lnTo>
                  <a:lnTo>
                    <a:pt x="2656" y="1824"/>
                  </a:lnTo>
                  <a:lnTo>
                    <a:pt x="0" y="1560"/>
                  </a:lnTo>
                  <a:lnTo>
                    <a:pt x="824" y="0"/>
                  </a:lnTo>
                  <a:close/>
                </a:path>
              </a:pathLst>
            </a:custGeom>
            <a:solidFill>
              <a:srgbClr val="ff0000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Oval 24"/>
          <p:cNvSpPr/>
          <p:nvPr/>
        </p:nvSpPr>
        <p:spPr>
          <a:xfrm>
            <a:off x="1943280" y="1955880"/>
            <a:ext cx="1769760" cy="411120"/>
          </a:xfrm>
          <a:prstGeom prst="ellipse">
            <a:avLst/>
          </a:prstGeom>
          <a:gradFill rotWithShape="0">
            <a:gsLst>
              <a:gs pos="0">
                <a:srgbClr val="00ffff">
                  <a:alpha val="55294"/>
                </a:srgbClr>
              </a:gs>
              <a:gs pos="100000">
                <a:srgbClr val="00ccff">
                  <a:alpha val="4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2"/>
          <p:cNvGrpSpPr/>
          <p:nvPr/>
        </p:nvGrpSpPr>
        <p:grpSpPr>
          <a:xfrm>
            <a:off x="2422080" y="2138400"/>
            <a:ext cx="418320" cy="3024000"/>
            <a:chOff x="2422080" y="2138400"/>
            <a:chExt cx="418320" cy="3024000"/>
          </a:xfrm>
        </p:grpSpPr>
        <p:sp>
          <p:nvSpPr>
            <p:cNvPr id="222" name="Text Box 13"/>
            <p:cNvSpPr/>
            <p:nvPr/>
          </p:nvSpPr>
          <p:spPr>
            <a:xfrm>
              <a:off x="2422080" y="4702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"/>
            <p:cNvSpPr/>
            <p:nvPr/>
          </p:nvSpPr>
          <p:spPr>
            <a:xfrm>
              <a:off x="2803680" y="2138400"/>
              <a:ext cx="2880" cy="2621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621520"/>
                <a:gd name="textAreaBottom" fmla="*/ 2621880 h 2621520"/>
              </a:gdLst>
              <a:ahLst/>
              <a:rect l="textAreaLeft" t="textAreaTop" r="textAreaRight" b="textAreaBottom"/>
              <a:pathLst>
                <a:path w="1" h="1424">
                  <a:moveTo>
                    <a:pt x="0" y="0"/>
                  </a:moveTo>
                  <a:lnTo>
                    <a:pt x="0" y="14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Freeform 19"/>
          <p:cNvSpPr/>
          <p:nvPr/>
        </p:nvSpPr>
        <p:spPr>
          <a:xfrm>
            <a:off x="3735360" y="2149560"/>
            <a:ext cx="1355760" cy="249084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2490840"/>
              <a:gd name="textAreaBottom" fmla="*/ 2491200 h 2490840"/>
            </a:gdLst>
            <a:ahLst/>
            <a:rect l="textAreaLeft" t="textAreaTop" r="textAreaRight" b="textAreaBottom"/>
            <a:pathLst>
              <a:path w="510" h="1352">
                <a:moveTo>
                  <a:pt x="0" y="0"/>
                </a:moveTo>
                <a:lnTo>
                  <a:pt x="510" y="13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5"/>
          <p:cNvGrpSpPr/>
          <p:nvPr/>
        </p:nvGrpSpPr>
        <p:grpSpPr>
          <a:xfrm>
            <a:off x="1931760" y="1961640"/>
            <a:ext cx="1785960" cy="397440"/>
            <a:chOff x="1931760" y="1961640"/>
            <a:chExt cx="1785960" cy="397440"/>
          </a:xfrm>
        </p:grpSpPr>
        <p:sp>
          <p:nvSpPr>
            <p:cNvPr id="226" name="Arc 26"/>
            <p:cNvSpPr/>
            <p:nvPr/>
          </p:nvSpPr>
          <p:spPr>
            <a:xfrm rot="5400000">
              <a:off x="2692800" y="1333800"/>
              <a:ext cx="263880" cy="1785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1785960"/>
                <a:gd name="textAreaBottom" fmla="*/ 1786320 h 178596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rc 27"/>
            <p:cNvSpPr/>
            <p:nvPr/>
          </p:nvSpPr>
          <p:spPr>
            <a:xfrm flipV="1" rot="16200000">
              <a:off x="2736000" y="1166400"/>
              <a:ext cx="183960" cy="1773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360 h 1773360"/>
                <a:gd name="textAreaBottom" fmla="*/ 1774080 h 17733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Oval 28"/>
          <p:cNvSpPr/>
          <p:nvPr/>
        </p:nvSpPr>
        <p:spPr>
          <a:xfrm>
            <a:off x="2768760" y="21081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2598840" y="175248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4"/>
          <p:cNvGrpSpPr/>
          <p:nvPr/>
        </p:nvGrpSpPr>
        <p:grpSpPr>
          <a:xfrm>
            <a:off x="3619440" y="2184480"/>
            <a:ext cx="1371600" cy="2819160"/>
            <a:chOff x="3619440" y="2184480"/>
            <a:chExt cx="1371600" cy="2819160"/>
          </a:xfrm>
        </p:grpSpPr>
        <p:sp>
          <p:nvSpPr>
            <p:cNvPr id="231" name="Oval 33"/>
            <p:cNvSpPr/>
            <p:nvPr/>
          </p:nvSpPr>
          <p:spPr>
            <a:xfrm>
              <a:off x="4913280" y="492768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2"/>
            <p:cNvSpPr/>
            <p:nvPr/>
          </p:nvSpPr>
          <p:spPr>
            <a:xfrm>
              <a:off x="3619440" y="218448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Freeform 48"/>
          <p:cNvSpPr/>
          <p:nvPr/>
        </p:nvSpPr>
        <p:spPr>
          <a:xfrm>
            <a:off x="762120" y="2019240"/>
            <a:ext cx="4140000" cy="2971800"/>
          </a:xfrm>
          <a:custGeom>
            <a:avLst/>
            <a:gdLst>
              <a:gd name="textAreaLeft" fmla="*/ 0 w 4140000"/>
              <a:gd name="textAreaRight" fmla="*/ 4140360 w 41400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2608" h="1872">
                <a:moveTo>
                  <a:pt x="848" y="176"/>
                </a:moveTo>
                <a:lnTo>
                  <a:pt x="1704" y="0"/>
                </a:lnTo>
                <a:lnTo>
                  <a:pt x="2608" y="1552"/>
                </a:lnTo>
                <a:lnTo>
                  <a:pt x="0" y="1872"/>
                </a:lnTo>
                <a:lnTo>
                  <a:pt x="848" y="176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9"/>
          <p:cNvSpPr/>
          <p:nvPr/>
        </p:nvSpPr>
        <p:spPr>
          <a:xfrm>
            <a:off x="1523880" y="1943280"/>
            <a:ext cx="2654280" cy="331452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3314520"/>
              <a:gd name="textAreaBottom" fmla="*/ 3314880 h 3314520"/>
            </a:gdLst>
            <a:ahLst/>
            <a:rect l="textAreaLeft" t="textAreaTop" r="textAreaRight" b="textAreaBottom"/>
            <a:pathLst>
              <a:path w="1672" h="2088">
                <a:moveTo>
                  <a:pt x="560" y="256"/>
                </a:moveTo>
                <a:lnTo>
                  <a:pt x="1048" y="0"/>
                </a:lnTo>
                <a:lnTo>
                  <a:pt x="1672" y="1424"/>
                </a:lnTo>
                <a:lnTo>
                  <a:pt x="0" y="2088"/>
                </a:lnTo>
                <a:lnTo>
                  <a:pt x="560" y="256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50"/>
          <p:cNvSpPr/>
          <p:nvPr/>
        </p:nvSpPr>
        <p:spPr>
          <a:xfrm>
            <a:off x="2286000" y="1943280"/>
            <a:ext cx="1054080" cy="34290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664" h="2160">
                <a:moveTo>
                  <a:pt x="256" y="256"/>
                </a:moveTo>
                <a:lnTo>
                  <a:pt x="392" y="0"/>
                </a:lnTo>
                <a:lnTo>
                  <a:pt x="664" y="1344"/>
                </a:lnTo>
                <a:lnTo>
                  <a:pt x="0" y="2160"/>
                </a:lnTo>
                <a:lnTo>
                  <a:pt x="256" y="256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51"/>
          <p:cNvSpPr/>
          <p:nvPr/>
        </p:nvSpPr>
        <p:spPr>
          <a:xfrm>
            <a:off x="2425680" y="1955880"/>
            <a:ext cx="762120" cy="3467160"/>
          </a:xfrm>
          <a:custGeom>
            <a:avLst/>
            <a:gdLst>
              <a:gd name="textAreaLeft" fmla="*/ 0 w 762120"/>
              <a:gd name="textAreaRight" fmla="*/ 762480 w 762120"/>
              <a:gd name="textAreaTop" fmla="*/ 0 h 3467160"/>
              <a:gd name="textAreaBottom" fmla="*/ 3467520 h 3467160"/>
            </a:gdLst>
            <a:ahLst/>
            <a:rect l="textAreaLeft" t="textAreaTop" r="textAreaRight" b="textAreaBottom"/>
            <a:pathLst>
              <a:path w="480" h="2184">
                <a:moveTo>
                  <a:pt x="312" y="240"/>
                </a:moveTo>
                <a:lnTo>
                  <a:pt x="176" y="0"/>
                </a:lnTo>
                <a:lnTo>
                  <a:pt x="0" y="1336"/>
                </a:lnTo>
                <a:lnTo>
                  <a:pt x="480" y="2184"/>
                </a:lnTo>
                <a:lnTo>
                  <a:pt x="312" y="240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52"/>
          <p:cNvSpPr/>
          <p:nvPr/>
        </p:nvSpPr>
        <p:spPr>
          <a:xfrm>
            <a:off x="1879560" y="1981080"/>
            <a:ext cx="1841400" cy="336564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1160" h="2120">
                <a:moveTo>
                  <a:pt x="818" y="236"/>
                </a:moveTo>
                <a:lnTo>
                  <a:pt x="384" y="0"/>
                </a:lnTo>
                <a:lnTo>
                  <a:pt x="0" y="1344"/>
                </a:lnTo>
                <a:lnTo>
                  <a:pt x="1160" y="2120"/>
                </a:lnTo>
                <a:lnTo>
                  <a:pt x="818" y="236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53"/>
          <p:cNvSpPr/>
          <p:nvPr/>
        </p:nvSpPr>
        <p:spPr>
          <a:xfrm>
            <a:off x="1371600" y="1955880"/>
            <a:ext cx="2946240" cy="3263760"/>
          </a:xfrm>
          <a:custGeom>
            <a:avLst/>
            <a:gdLst>
              <a:gd name="textAreaLeft" fmla="*/ 0 w 2946240"/>
              <a:gd name="textAreaRight" fmla="*/ 2946600 w 2946240"/>
              <a:gd name="textAreaTop" fmla="*/ 0 h 3263760"/>
              <a:gd name="textAreaBottom" fmla="*/ 3264120 h 3263760"/>
            </a:gdLst>
            <a:ahLst/>
            <a:rect l="textAreaLeft" t="textAreaTop" r="textAreaRight" b="textAreaBottom"/>
            <a:pathLst>
              <a:path w="1856" h="2056">
                <a:moveTo>
                  <a:pt x="1272" y="240"/>
                </a:moveTo>
                <a:lnTo>
                  <a:pt x="552" y="0"/>
                </a:lnTo>
                <a:lnTo>
                  <a:pt x="0" y="1440"/>
                </a:lnTo>
                <a:lnTo>
                  <a:pt x="1856" y="2056"/>
                </a:lnTo>
                <a:lnTo>
                  <a:pt x="1272" y="240"/>
                </a:lnTo>
                <a:close/>
              </a:path>
            </a:pathLst>
          </a:cu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0"/>
          <p:cNvSpPr/>
          <p:nvPr/>
        </p:nvSpPr>
        <p:spPr>
          <a:xfrm>
            <a:off x="609480" y="2103480"/>
            <a:ext cx="4497480" cy="3292560"/>
          </a:xfrm>
          <a:custGeom>
            <a:avLst/>
            <a:gdLst>
              <a:gd name="textAreaLeft" fmla="*/ 0 w 4497480"/>
              <a:gd name="textAreaRight" fmla="*/ 4497840 w 449748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691" h="1787">
                <a:moveTo>
                  <a:pt x="985" y="131"/>
                </a:moveTo>
                <a:cubicBezTo>
                  <a:pt x="1037" y="122"/>
                  <a:pt x="1107" y="98"/>
                  <a:pt x="1139" y="83"/>
                </a:cubicBezTo>
                <a:cubicBezTo>
                  <a:pt x="1171" y="68"/>
                  <a:pt x="1164" y="38"/>
                  <a:pt x="1175" y="43"/>
                </a:cubicBezTo>
                <a:cubicBezTo>
                  <a:pt x="1186" y="48"/>
                  <a:pt x="1161" y="0"/>
                  <a:pt x="1203" y="113"/>
                </a:cubicBezTo>
                <a:cubicBezTo>
                  <a:pt x="1245" y="226"/>
                  <a:pt x="1359" y="534"/>
                  <a:pt x="1429" y="719"/>
                </a:cubicBezTo>
                <a:cubicBezTo>
                  <a:pt x="1499" y="904"/>
                  <a:pt x="1582" y="1112"/>
                  <a:pt x="1623" y="1223"/>
                </a:cubicBezTo>
                <a:cubicBezTo>
                  <a:pt x="1664" y="1334"/>
                  <a:pt x="1667" y="1346"/>
                  <a:pt x="1677" y="1385"/>
                </a:cubicBezTo>
                <a:cubicBezTo>
                  <a:pt x="1687" y="1424"/>
                  <a:pt x="1691" y="1425"/>
                  <a:pt x="1681" y="1455"/>
                </a:cubicBezTo>
                <a:cubicBezTo>
                  <a:pt x="1671" y="1485"/>
                  <a:pt x="1652" y="1529"/>
                  <a:pt x="1617" y="1563"/>
                </a:cubicBezTo>
                <a:cubicBezTo>
                  <a:pt x="1582" y="1597"/>
                  <a:pt x="1530" y="1630"/>
                  <a:pt x="1473" y="1659"/>
                </a:cubicBezTo>
                <a:cubicBezTo>
                  <a:pt x="1416" y="1688"/>
                  <a:pt x="1347" y="1720"/>
                  <a:pt x="1273" y="1739"/>
                </a:cubicBezTo>
                <a:cubicBezTo>
                  <a:pt x="1199" y="1758"/>
                  <a:pt x="1125" y="1764"/>
                  <a:pt x="1031" y="1771"/>
                </a:cubicBezTo>
                <a:cubicBezTo>
                  <a:pt x="937" y="1778"/>
                  <a:pt x="814" y="1787"/>
                  <a:pt x="710" y="1780"/>
                </a:cubicBezTo>
                <a:cubicBezTo>
                  <a:pt x="606" y="1773"/>
                  <a:pt x="495" y="1754"/>
                  <a:pt x="405" y="1730"/>
                </a:cubicBezTo>
                <a:cubicBezTo>
                  <a:pt x="315" y="1706"/>
                  <a:pt x="234" y="1687"/>
                  <a:pt x="169" y="1635"/>
                </a:cubicBezTo>
                <a:cubicBezTo>
                  <a:pt x="104" y="1583"/>
                  <a:pt x="0" y="1582"/>
                  <a:pt x="17" y="1419"/>
                </a:cubicBezTo>
                <a:cubicBezTo>
                  <a:pt x="34" y="1256"/>
                  <a:pt x="198" y="876"/>
                  <a:pt x="273" y="659"/>
                </a:cubicBezTo>
                <a:cubicBezTo>
                  <a:pt x="348" y="442"/>
                  <a:pt x="428" y="220"/>
                  <a:pt x="465" y="119"/>
                </a:cubicBezTo>
                <a:cubicBezTo>
                  <a:pt x="502" y="18"/>
                  <a:pt x="483" y="56"/>
                  <a:pt x="495" y="51"/>
                </a:cubicBezTo>
                <a:cubicBezTo>
                  <a:pt x="507" y="46"/>
                  <a:pt x="513" y="79"/>
                  <a:pt x="539" y="91"/>
                </a:cubicBezTo>
                <a:cubicBezTo>
                  <a:pt x="565" y="103"/>
                  <a:pt x="605" y="117"/>
                  <a:pt x="653" y="125"/>
                </a:cubicBezTo>
                <a:cubicBezTo>
                  <a:pt x="701" y="133"/>
                  <a:pt x="770" y="138"/>
                  <a:pt x="825" y="139"/>
                </a:cubicBezTo>
                <a:cubicBezTo>
                  <a:pt x="880" y="140"/>
                  <a:pt x="936" y="142"/>
                  <a:pt x="985" y="131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50000">
                <a:srgbClr val="f1f8f9">
                  <a:alpha val="27058"/>
                </a:srgbClr>
              </a:gs>
              <a:gs pos="100000">
                <a:srgbClr val="bbe0e3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241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129240" y="606240"/>
              <a:ext cx="19800" cy="56318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WordArt 11"/>
          <p:cNvSpPr txBox="1"/>
          <p:nvPr/>
        </p:nvSpPr>
        <p:spPr>
          <a:xfrm>
            <a:off x="685800" y="2286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Конспект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WordArt 12"/>
          <p:cNvSpPr txBox="1"/>
          <p:nvPr/>
        </p:nvSpPr>
        <p:spPr>
          <a:xfrm>
            <a:off x="762120" y="548640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WordArt 14"/>
          <p:cNvSpPr txBox="1"/>
          <p:nvPr/>
        </p:nvSpPr>
        <p:spPr>
          <a:xfrm>
            <a:off x="395280" y="457200"/>
            <a:ext cx="849780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</a:rPr>
              <a:t>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257dff"/>
              </a:solidFill>
              <a:latin typeface="Arial"/>
              <a:ea typeface="Arial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609480" y="1143000"/>
            <a:ext cx="77724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Опр усеченного кону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Опр оснований ус кону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Опр высоты ус кону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Опр боковой поверхности ус кону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Опр образующих ус кону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Теорема – свойства образующих ус конус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 самостоятельн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Замечание о получении ус кону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Теорема о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</a:rPr>
              <a:t>Б.П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Д п.6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Елена Жалыбина</cp:lastModifiedBy>
  <dcterms:modified xsi:type="dcterms:W3CDTF">2018-01-13T20:12:23Z</dcterms:modified>
  <cp:revision>6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