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F4051-D47A-46F9-A24C-C4F10A190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C31C1-9DAA-4851-9ECC-88FFBC39B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9596A-39F0-4FD1-8009-CBD9CA1D4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3C584-4E85-424A-AD97-7C7FB0511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38ED6-2CA2-4DD1-8DFB-9F572B67D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CEEC7-6B74-47A7-B624-3251677FA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332DB-AA33-4879-91A0-9C9114995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98F1D-79F5-493D-9617-7CB4E792A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FFE0E-7456-433F-AB04-1492AC742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0288F-7629-44C9-B001-5AD79DE0A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97F52-98D0-4789-9608-C72CD62AF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D892E-809D-4811-BE11-FCEB13518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191F3-14CB-4833-9C7E-9BE893880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92A12-BDDE-477C-923C-6B0A5FF28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3488A-DE6C-4E76-B494-3E1774856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A1AFF-3C37-4F0D-8768-FC6846DDD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0DD71-44CD-4469-AABA-2510471F9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A5229-2A84-4F02-8CEB-6F4D9FF3E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4A480-0BAC-4EEC-8C89-8318F5082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3FEF9-406B-41B9-96FA-C1EBE06C0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F1F3E-CFA1-4FB2-A83C-94C295613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67D46-9C02-413B-BC17-ED3399F34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58724-274F-4BEC-A12F-D8AD982A1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EF3BA-AB02-4A51-BEE7-80A948B78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D61E0-B928-4E07-8B7F-268F611235B0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2679C-A23B-4282-A705-DFFC861BE4D3}" type="slidenum">
              <a:rPr b="0" lang="ru-RU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4" descr="irelan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5"/>
          <p:cNvSpPr/>
          <p:nvPr/>
        </p:nvSpPr>
        <p:spPr>
          <a:xfrm>
            <a:off x="0" y="492120"/>
            <a:ext cx="32767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Century Gothic"/>
              </a:rPr>
              <a:t>Nothern Ireland 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Century Gothic"/>
              </a:rPr>
              <a:t>and 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Century Gothic"/>
              </a:rPr>
              <a:t>the 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Century Gothic"/>
              </a:rPr>
              <a:t>Republic 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Century Gothic"/>
              </a:rPr>
              <a:t>of Ireland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" descr="emerald1"/>
          <p:cNvPicPr/>
          <p:nvPr/>
        </p:nvPicPr>
        <p:blipFill>
          <a:blip r:embed="rId1"/>
          <a:stretch/>
        </p:blipFill>
        <p:spPr>
          <a:xfrm>
            <a:off x="0" y="2957400"/>
            <a:ext cx="3780000" cy="39006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6" descr="WST0049"/>
          <p:cNvPicPr/>
          <p:nvPr/>
        </p:nvPicPr>
        <p:blipFill>
          <a:blip r:embed="rId2"/>
          <a:stretch/>
        </p:blipFill>
        <p:spPr>
          <a:xfrm>
            <a:off x="3132000" y="2205000"/>
            <a:ext cx="3816360" cy="28083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7" descr="emerald3"/>
          <p:cNvPicPr/>
          <p:nvPr/>
        </p:nvPicPr>
        <p:blipFill>
          <a:blip r:embed="rId3"/>
          <a:stretch/>
        </p:blipFill>
        <p:spPr>
          <a:xfrm>
            <a:off x="0" y="0"/>
            <a:ext cx="3203640" cy="37623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8" descr="emeral"/>
          <p:cNvPicPr/>
          <p:nvPr/>
        </p:nvPicPr>
        <p:blipFill>
          <a:blip r:embed="rId4"/>
          <a:stretch/>
        </p:blipFill>
        <p:spPr>
          <a:xfrm>
            <a:off x="7020000" y="260280"/>
            <a:ext cx="1763640" cy="32400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9" descr="emerald2"/>
          <p:cNvPicPr/>
          <p:nvPr/>
        </p:nvPicPr>
        <p:blipFill>
          <a:blip r:embed="rId5"/>
          <a:stretch/>
        </p:blipFill>
        <p:spPr>
          <a:xfrm>
            <a:off x="3924360" y="0"/>
            <a:ext cx="2232000" cy="206064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10"/>
          <p:cNvSpPr/>
          <p:nvPr/>
        </p:nvSpPr>
        <p:spPr>
          <a:xfrm>
            <a:off x="4284720" y="5734080"/>
            <a:ext cx="5132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00"/>
                </a:solidFill>
                <a:latin typeface="Century Gothic"/>
              </a:rPr>
              <a:t>The Emerald Isle</a:t>
            </a:r>
            <a:endParaRPr b="0" lang="en-US" sz="4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2" name="Picture 11" descr="emerald"/>
          <p:cNvPicPr/>
          <p:nvPr/>
        </p:nvPicPr>
        <p:blipFill>
          <a:blip r:embed="rId6"/>
          <a:stretch/>
        </p:blipFill>
        <p:spPr>
          <a:xfrm>
            <a:off x="6659640" y="4149720"/>
            <a:ext cx="248436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4" descr="колумб"/>
          <p:cNvPicPr/>
          <p:nvPr/>
        </p:nvPicPr>
        <p:blipFill>
          <a:blip r:embed="rId1"/>
          <a:stretch/>
        </p:blipFill>
        <p:spPr>
          <a:xfrm>
            <a:off x="808200" y="1628640"/>
            <a:ext cx="5624280" cy="446436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6"/>
          <p:cNvSpPr/>
          <p:nvPr/>
        </p:nvSpPr>
        <p:spPr>
          <a:xfrm>
            <a:off x="611280" y="-1440"/>
            <a:ext cx="705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Работу выполнила ученица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6 класса Хисматуллина А.И</a:t>
            </a:r>
            <a:r>
              <a:rPr b="1" lang="ru-RU" sz="2800" spc="-1" strike="noStrike">
                <a:solidFill>
                  <a:srgbClr val="eaeaea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5" name="Text Box 7"/>
          <p:cNvSpPr/>
          <p:nvPr/>
        </p:nvSpPr>
        <p:spPr>
          <a:xfrm>
            <a:off x="7885080" y="1414440"/>
            <a:ext cx="8398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eaeaea"/>
                </a:solidFill>
                <a:latin typeface="Verdana"/>
              </a:rPr>
              <a:t>H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eaeaea"/>
                </a:solidFill>
                <a:latin typeface="Verdana"/>
              </a:rPr>
              <a:t>I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eaeaea"/>
                </a:solidFill>
                <a:latin typeface="Verdana"/>
              </a:rPr>
              <a:t>S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eaeaea"/>
                </a:solidFill>
                <a:latin typeface="Verdana"/>
              </a:rPr>
              <a:t>T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eaeaea"/>
                </a:solidFill>
                <a:latin typeface="Verdana"/>
              </a:rPr>
              <a:t>O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eaeaea"/>
                </a:solidFill>
                <a:latin typeface="Verdana"/>
              </a:rPr>
              <a:t>R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eaeaea"/>
                </a:solidFill>
                <a:latin typeface="Verdana"/>
              </a:rPr>
              <a:t>Y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6T15:29:12Z</dcterms:created>
  <dc:creator>1</dc:creator>
  <dc:description/>
  <dc:language>en-US</dc:language>
  <cp:lastModifiedBy>Альфира</cp:lastModifiedBy>
  <dcterms:modified xsi:type="dcterms:W3CDTF">2018-01-14T13:03:14Z</dcterms:modified>
  <cp:revision>13</cp:revision>
  <dc:subject/>
  <dc:title>Слайд 1</dc:title>
</cp:coreProperties>
</file>